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4.jpeg" ContentType="image/jpeg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10288588" cy="6858000"/>
  <p:notesSz cx="7045325" cy="9436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51A-EFC0-4E50-AD15-F99F36D3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82400" y="2247480"/>
            <a:ext cx="828684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82400" y="4406760"/>
            <a:ext cx="828684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17E-0AA4-43B5-BDBA-EF27476E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82400" y="2247480"/>
            <a:ext cx="40438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28960" y="2247480"/>
            <a:ext cx="40438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82400" y="4406760"/>
            <a:ext cx="40438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28960" y="4406760"/>
            <a:ext cx="40438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3E9-E4D4-42DF-912C-90959367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82400" y="2247480"/>
            <a:ext cx="26679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84280" y="2247480"/>
            <a:ext cx="26679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85800" y="2247480"/>
            <a:ext cx="26679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82400" y="4406760"/>
            <a:ext cx="26679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84280" y="4406760"/>
            <a:ext cx="26679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85800" y="4406760"/>
            <a:ext cx="26679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9C3-CC7E-40B4-AFCB-0A09D92F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82400" y="2247480"/>
            <a:ext cx="82868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0E4-513B-42C8-9942-537FF569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82400" y="2247480"/>
            <a:ext cx="828684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834-71BD-4BA3-B2F7-956389DE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82400" y="2247480"/>
            <a:ext cx="404388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28960" y="2247480"/>
            <a:ext cx="404388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37F-686E-49E7-8248-EF8CFE92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9A1-18EA-4A8A-8516-7209516F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6720" y="590040"/>
            <a:ext cx="8267760" cy="52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123-A432-4047-A127-38CB9678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82400" y="2247480"/>
            <a:ext cx="40438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28960" y="2247480"/>
            <a:ext cx="404388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82400" y="4406760"/>
            <a:ext cx="40438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D953-9709-43F6-B30F-DF3CAA10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82400" y="2247480"/>
            <a:ext cx="404388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28960" y="2247480"/>
            <a:ext cx="40438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28960" y="4406760"/>
            <a:ext cx="40438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208-BB72-4B6F-B6D6-2D4164DD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82400" y="2247480"/>
            <a:ext cx="40438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28960" y="2247480"/>
            <a:ext cx="40438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82400" y="4406760"/>
            <a:ext cx="828684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5DB-19A6-4DE3-BAC6-2A456FE0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F5E9-F944-41A3-93BE-58DB07A42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382400" y="2247480"/>
            <a:ext cx="828684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91680" indent="-39168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6040" indent="-39168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Font typeface="B Helvetic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32280" indent="-22392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76440" y="2082960"/>
            <a:ext cx="0" cy="3803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11520" y="2362320"/>
            <a:ext cx="59896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f1f"/>
                </a:solidFill>
                <a:latin typeface="Arial"/>
              </a:rPr>
              <a:t>Water Quality Monitoring  and Water Manageme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68760" y="4457880"/>
            <a:ext cx="5784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4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57200"/>
            <a:ext cx="9219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ater Resources Management in the Santa Margarita R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743040"/>
            <a:ext cx="8267760" cy="112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gency floats plan to protect trout habitat </a:t>
            </a:r>
            <a:br>
              <a:rPr sz="3200"/>
            </a:b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March 12, 2001The Orange County Register </a:t>
            </a:r>
            <a:br>
              <a:rPr sz="1400"/>
            </a:br>
            <a:endParaRPr b="1" lang="en-US" sz="1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9880" y="2014200"/>
            <a:ext cx="9328320" cy="43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 urge the National Marine Fisheries Service to declare a creek near San Clemente a protected habitat for steelhead…. The creek … meanders 8 miles from the Cleveland National Forest </a:t>
            </a:r>
            <a:r>
              <a:rPr b="1" lang="en-US" sz="1600" spc="-1" strike="noStrike">
                <a:solidFill>
                  <a:srgbClr val="eccf1f"/>
                </a:solidFill>
                <a:latin typeface="Arial"/>
              </a:rPr>
              <a:t>through Camp Pendlet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to the beach at Trestle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 Until 1999, federal regulators thought Southern California steelhead no longer existed south of Malibu Creek…. Now environmental groups are pushing to </a:t>
            </a:r>
            <a:r>
              <a:rPr b="1" lang="en-US" sz="1600" spc="-1" strike="noStrike">
                <a:solidFill>
                  <a:srgbClr val="eccf1f"/>
                </a:solidFill>
                <a:latin typeface="Arial"/>
              </a:rPr>
              <a:t>extend federal protections south from Malibu Creek to San Mateo Creek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 "Our goal," he said, "is to restore the habitat within the stream back to what it was in the 1940s."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51040" y="2160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ccf1f"/>
                </a:solidFill>
                <a:latin typeface="Arial"/>
              </a:rPr>
              <a:t>Just north of the Santa Margarita Ri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Existing and Future Land Use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638360"/>
            <a:ext cx="9041040" cy="47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mendous growth in Temecula, Murrieta, and along the Interstate 15-215 corridor in the last ten years. Continued growth is anticipated for the foreseeable fu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ortion of San Diego County in the Watershed along the Interstate 15 corridor also continues to gr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liminary review compares “Current” to “Futur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9996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in 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9996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in percent urbanization of subwatersh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cus sampling to anticipate &amp; measure ch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97040" y="0"/>
            <a:ext cx="8267760" cy="112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liminary review illustrates anticipated urbanization in the watershed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69" name="fig26" descr=""/>
          <p:cNvPicPr/>
          <p:nvPr/>
        </p:nvPicPr>
        <p:blipFill>
          <a:blip r:embed="rId1"/>
          <a:stretch/>
        </p:blipFill>
        <p:spPr>
          <a:xfrm>
            <a:off x="0" y="1009800"/>
            <a:ext cx="4948200" cy="57909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5397480" y="995400"/>
            <a:ext cx="4818240" cy="5791320"/>
            <a:chOff x="5397480" y="995400"/>
            <a:chExt cx="4818240" cy="5791320"/>
          </a:xfrm>
        </p:grpSpPr>
        <p:pic>
          <p:nvPicPr>
            <p:cNvPr id="71" name="fig33" descr=""/>
            <p:cNvPicPr/>
            <p:nvPr/>
          </p:nvPicPr>
          <p:blipFill>
            <a:blip r:embed="rId2"/>
            <a:stretch/>
          </p:blipFill>
          <p:spPr>
            <a:xfrm>
              <a:off x="5397480" y="995400"/>
              <a:ext cx="481824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5397480" y="995400"/>
              <a:ext cx="4818240" cy="579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99960" indent="-399960">
                <a:lnSpc>
                  <a:spcPts val="2999"/>
                </a:lnSpc>
                <a:spcBef>
                  <a:spcPts val="700"/>
                </a:spcBef>
                <a:spcAft>
                  <a:spcPts val="1199"/>
                </a:spcAft>
                <a:buClr>
                  <a:srgbClr val="eccf1f"/>
                </a:buClr>
                <a:buSzPct val="90000"/>
                <a:buFont typeface="Monotype Sorts" charset="2"/>
                <a:buChar char=""/>
                <a:tabLst>
                  <a:tab algn="l" pos="9144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oint Source Discharges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82400" y="2247480"/>
            <a:ext cx="828684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mp Pendlet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9996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NPDES permits associated with Wastewater Treatment Plant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9996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discharge of 6.6 mg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CW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9996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PDES permit for discharge of 2.0 mgd of tertiary treated wastewater into Murrieta Creek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Non-Point Source Discharges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82400" y="2247480"/>
            <a:ext cx="828684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83760" indent="-3837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point source discharges are reported to be the largest contributor to surface water pollution in the watersh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760" indent="-3837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point source discharges are typically associated with urban or agricultural runof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760" indent="-3837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tors that affect non-point source discharg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38376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isting and future land 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38376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rmwater Best Management Pract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38376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se II stormwater regulations in 2003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liminary List of Species to be Addressed in the Watershed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82760" y="2247480"/>
            <a:ext cx="406728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0" algn="ctr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nimal Spec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 red-legged fr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royo to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royo chu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dewater g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thwestern Pond Turt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st Bells Vir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02320" y="2247480"/>
            <a:ext cx="406728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0" algn="ctr">
              <a:lnSpc>
                <a:spcPts val="1998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nt Spec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998"/>
              </a:lnSpc>
              <a:spcBef>
                <a:spcPts val="700"/>
              </a:spcBef>
              <a:spcAft>
                <a:spcPts val="700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 Diego ambros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998"/>
              </a:lnSpc>
              <a:spcBef>
                <a:spcPts val="700"/>
              </a:spcBef>
              <a:spcAft>
                <a:spcPts val="700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vin’s Barber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998"/>
              </a:lnSpc>
              <a:spcBef>
                <a:spcPts val="700"/>
              </a:spcBef>
              <a:spcAft>
                <a:spcPts val="700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ad-leaved Brodia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lt marsh bird’s-b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ender-horned spineflower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lter’s goldfiel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ish’s meadow-foa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ig27" descr=""/>
          <p:cNvPicPr/>
          <p:nvPr/>
        </p:nvPicPr>
        <p:blipFill>
          <a:blip r:embed="rId1"/>
          <a:stretch/>
        </p:blipFill>
        <p:spPr>
          <a:xfrm>
            <a:off x="979560" y="590400"/>
            <a:ext cx="8377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ig28" descr=""/>
          <p:cNvPicPr/>
          <p:nvPr/>
        </p:nvPicPr>
        <p:blipFill>
          <a:blip r:embed="rId1"/>
          <a:stretch/>
        </p:blipFill>
        <p:spPr>
          <a:xfrm>
            <a:off x="979560" y="590400"/>
            <a:ext cx="8377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ddressing the Santa Margarita River Challenges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ddressing the Challenges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82400" y="1657080"/>
            <a:ext cx="8286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od data is needed to make good deci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9996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 adequate data available for Basin Plan &amp; 303(d) listin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9996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dequate data available to set TMDL allocations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number of organizations are independently collecting data – a coordinated effort is needed to address the significant 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BR has funded a Framework Plan for integrated monitoring in the Watersh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Today’s Presentation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82400" y="2247480"/>
            <a:ext cx="828684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nta Margarita River Challenges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ing the 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work Monitoring Plan 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ture Needs in the Watersh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The Framework Monitoring Plan Guidance  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82400" y="1886040"/>
            <a:ext cx="82868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95640" indent="-39564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nta Margarita River Watershed Water Quality Monitoring Group working with the USB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9564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resentatives from 29 organiz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9564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of members expanded over the course of the planning eff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R Group developed list of goals for monitor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0">
              <a:lnSpc>
                <a:spcPts val="2999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acilitate development of water resources to meet demands in a manner consistent with sustainable use, human safety, and habitat and ecological needs, including protection of listed spec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0">
              <a:lnSpc>
                <a:spcPts val="2999"/>
              </a:lnSpc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Membership List of Santa Margarita River Watershed Water Quality Monitoring Group (SMR Group)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69880" y="0"/>
            <a:ext cx="4880160" cy="65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LTRA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huilla Band of Mission India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 Department of Water Resourc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ervation Biology Institut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astern Municipal Water Distri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A Resource Conservation Distri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llbrook Public Utilities Distri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llbrook Naval Weapons St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ines Nurs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rine Corps Base, Camp Pendlet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tropolitan Water District of Southern Californi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ssion Resource Conservation Distri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rrieta County Water Distri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uma-Yuima Band of Mission India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changa Band of Mission India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77960" y="0"/>
            <a:ext cx="4797720" cy="66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95640" indent="-39564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amona Band of Mission India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15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ancho California Water Distri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verside County FC&amp;WC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n Diego Coun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n Diego County Water Author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n Diego RWQCB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n Diego State Univers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nta Margarita Watermaster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.S. Bureau of Indian Affairs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ature Conservanc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.C. Cooperative Extension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.S. Bureau of Reclam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.S. Environmental Protection Agenc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.S. Geological Surve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fig12" descr=""/>
          <p:cNvPicPr/>
          <p:nvPr/>
        </p:nvPicPr>
        <p:blipFill>
          <a:blip r:embed="rId1"/>
          <a:stretch/>
        </p:blipFill>
        <p:spPr>
          <a:xfrm>
            <a:off x="299880" y="44280"/>
            <a:ext cx="9622080" cy="68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Goals of the FMP - as identified by the SMR Group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8320" y="165240"/>
            <a:ext cx="9759960" cy="62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4160" indent="-434160">
              <a:lnSpc>
                <a:spcPts val="2500"/>
              </a:lnSpc>
              <a:spcBef>
                <a:spcPts val="700"/>
              </a:spcBef>
              <a:spcAft>
                <a:spcPts val="700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ment of regarding achievement of existing water quality 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ts val="2500"/>
              </a:lnSpc>
              <a:spcBef>
                <a:spcPts val="700"/>
              </a:spcBef>
              <a:spcAft>
                <a:spcPts val="700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scientific development of TMDL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ts val="2500"/>
              </a:lnSpc>
              <a:spcBef>
                <a:spcPts val="700"/>
              </a:spcBef>
              <a:spcAft>
                <a:spcPts val="700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 assimilative capacity for nutrients and total dissolved solids (TDS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ts val="2500"/>
              </a:lnSpc>
              <a:spcBef>
                <a:spcPts val="700"/>
              </a:spcBef>
              <a:spcAft>
                <a:spcPts val="700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relationships between habitat health and water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ts val="2500"/>
              </a:lnSpc>
              <a:spcBef>
                <a:spcPts val="700"/>
              </a:spcBef>
              <a:spcAft>
                <a:spcPts val="700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water quality issues related to water supply alternativ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ts val="2500"/>
              </a:lnSpc>
              <a:spcBef>
                <a:spcPts val="700"/>
              </a:spcBef>
              <a:spcAft>
                <a:spcPts val="700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a scientific basis for decisions regarding CWA §303(d) listing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ts val="2500"/>
              </a:lnSpc>
              <a:spcBef>
                <a:spcPts val="700"/>
              </a:spcBef>
              <a:spcAft>
                <a:spcPts val="700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the causes of beneficial use impairments by contaminant and source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ts val="2500"/>
              </a:lnSpc>
              <a:spcBef>
                <a:spcPts val="700"/>
              </a:spcBef>
              <a:spcAft>
                <a:spcPts val="700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ify pollutant loading from point and non-point source discharges, including stormwater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ts val="2500"/>
              </a:lnSpc>
              <a:spcBef>
                <a:spcPts val="700"/>
              </a:spcBef>
              <a:spcAft>
                <a:spcPts val="700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sediment transpor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ts val="2500"/>
              </a:lnSpc>
              <a:spcBef>
                <a:spcPts val="700"/>
              </a:spcBef>
              <a:spcAft>
                <a:spcPts val="700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effectiveness of stormwater best management practices (BMPs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ts val="2500"/>
              </a:lnSpc>
              <a:spcBef>
                <a:spcPts val="700"/>
              </a:spcBef>
              <a:spcAft>
                <a:spcPts val="700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ify regulatory compliance (as a replacement of all existing permit requirements for monitoring) and support for future permitting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ts val="2500"/>
              </a:lnSpc>
              <a:spcBef>
                <a:spcPts val="700"/>
              </a:spcBef>
              <a:spcAft>
                <a:spcPts val="700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ate water recycling in the watersh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" y="8078760"/>
            <a:ext cx="1028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Framework Monitoring Plan Overview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Framework Monitoring Plan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82400" y="2247480"/>
            <a:ext cx="828684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ment of objectiv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ts val="2999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nitoring plan to meet local goals and impending regulatory manda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descrip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ts val="2999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ramework-monitoring plan with recommendations for fully developing the pla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ration of Planning Eff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ts val="2999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vember 2000 to April 4,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Framework Plan Products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82400" y="2247480"/>
            <a:ext cx="859140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map highligh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9996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&amp; proposed sampling lo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9996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ivers for change (e.g., 303d, hydrology,land us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ble of locations &amp;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rr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Point Presen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71760" y="-118584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2600280"/>
            <a:ext cx="4461840" cy="3557160"/>
            <a:chOff x="324000" y="2600280"/>
            <a:chExt cx="4461840" cy="3557160"/>
          </a:xfrm>
        </p:grpSpPr>
        <p:grpSp>
          <p:nvGrpSpPr>
            <p:cNvPr id="101" name=""/>
            <p:cNvGrpSpPr/>
            <p:nvPr/>
          </p:nvGrpSpPr>
          <p:grpSpPr>
            <a:xfrm>
              <a:off x="338400" y="5131080"/>
              <a:ext cx="4417920" cy="1026360"/>
              <a:chOff x="338400" y="5131080"/>
              <a:chExt cx="4417920" cy="1026360"/>
            </a:xfrm>
          </p:grpSpPr>
          <p:sp>
            <p:nvSpPr>
              <p:cNvPr id="102" name=""/>
              <p:cNvSpPr/>
              <p:nvPr/>
            </p:nvSpPr>
            <p:spPr>
              <a:xfrm>
                <a:off x="338400" y="6122880"/>
                <a:ext cx="4094280" cy="3456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942840" y="5131080"/>
                <a:ext cx="3813480" cy="857160"/>
                <a:chOff x="942840" y="5131080"/>
                <a:chExt cx="3813480" cy="8571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942840" y="5666400"/>
                  <a:ext cx="916200" cy="316800"/>
                </a:xfrm>
                <a:custGeom>
                  <a:avLst/>
                  <a:gdLst/>
                  <a:ahLst/>
                  <a:rect l="l" t="t" r="r" b="b"/>
                  <a:pathLst>
                    <a:path w="723" h="789">
                      <a:moveTo>
                        <a:pt x="0" y="648"/>
                      </a:moveTo>
                      <a:lnTo>
                        <a:pt x="48" y="603"/>
                      </a:lnTo>
                      <a:lnTo>
                        <a:pt x="60" y="558"/>
                      </a:lnTo>
                      <a:lnTo>
                        <a:pt x="117" y="510"/>
                      </a:lnTo>
                      <a:lnTo>
                        <a:pt x="129" y="429"/>
                      </a:lnTo>
                      <a:lnTo>
                        <a:pt x="111" y="396"/>
                      </a:lnTo>
                      <a:lnTo>
                        <a:pt x="132" y="336"/>
                      </a:lnTo>
                      <a:lnTo>
                        <a:pt x="147" y="300"/>
                      </a:lnTo>
                      <a:lnTo>
                        <a:pt x="186" y="222"/>
                      </a:lnTo>
                      <a:lnTo>
                        <a:pt x="231" y="132"/>
                      </a:lnTo>
                      <a:lnTo>
                        <a:pt x="261" y="57"/>
                      </a:lnTo>
                      <a:lnTo>
                        <a:pt x="270" y="33"/>
                      </a:lnTo>
                      <a:lnTo>
                        <a:pt x="288" y="96"/>
                      </a:lnTo>
                      <a:lnTo>
                        <a:pt x="330" y="138"/>
                      </a:lnTo>
                      <a:lnTo>
                        <a:pt x="390" y="144"/>
                      </a:lnTo>
                      <a:lnTo>
                        <a:pt x="447" y="99"/>
                      </a:lnTo>
                      <a:lnTo>
                        <a:pt x="498" y="54"/>
                      </a:lnTo>
                      <a:lnTo>
                        <a:pt x="525" y="45"/>
                      </a:lnTo>
                      <a:lnTo>
                        <a:pt x="588" y="48"/>
                      </a:lnTo>
                      <a:lnTo>
                        <a:pt x="630" y="24"/>
                      </a:lnTo>
                      <a:lnTo>
                        <a:pt x="669" y="0"/>
                      </a:lnTo>
                      <a:lnTo>
                        <a:pt x="723" y="15"/>
                      </a:lnTo>
                      <a:lnTo>
                        <a:pt x="582" y="138"/>
                      </a:lnTo>
                      <a:lnTo>
                        <a:pt x="576" y="201"/>
                      </a:lnTo>
                      <a:lnTo>
                        <a:pt x="492" y="231"/>
                      </a:lnTo>
                      <a:lnTo>
                        <a:pt x="453" y="288"/>
                      </a:lnTo>
                      <a:lnTo>
                        <a:pt x="447" y="324"/>
                      </a:lnTo>
                      <a:lnTo>
                        <a:pt x="414" y="345"/>
                      </a:lnTo>
                      <a:lnTo>
                        <a:pt x="351" y="366"/>
                      </a:lnTo>
                      <a:lnTo>
                        <a:pt x="324" y="456"/>
                      </a:lnTo>
                      <a:lnTo>
                        <a:pt x="312" y="513"/>
                      </a:lnTo>
                      <a:lnTo>
                        <a:pt x="270" y="573"/>
                      </a:lnTo>
                      <a:lnTo>
                        <a:pt x="168" y="696"/>
                      </a:lnTo>
                      <a:lnTo>
                        <a:pt x="153" y="750"/>
                      </a:lnTo>
                      <a:lnTo>
                        <a:pt x="129" y="780"/>
                      </a:lnTo>
                      <a:lnTo>
                        <a:pt x="111" y="789"/>
                      </a:lnTo>
                      <a:lnTo>
                        <a:pt x="0" y="648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098720" y="5431320"/>
                  <a:ext cx="1323000" cy="291600"/>
                </a:xfrm>
                <a:custGeom>
                  <a:avLst/>
                  <a:gdLst/>
                  <a:ahLst/>
                  <a:rect l="l" t="t" r="r" b="b"/>
                  <a:pathLst>
                    <a:path w="1044" h="726">
                      <a:moveTo>
                        <a:pt x="156" y="648"/>
                      </a:moveTo>
                      <a:lnTo>
                        <a:pt x="165" y="675"/>
                      </a:lnTo>
                      <a:lnTo>
                        <a:pt x="204" y="726"/>
                      </a:lnTo>
                      <a:lnTo>
                        <a:pt x="267" y="726"/>
                      </a:lnTo>
                      <a:lnTo>
                        <a:pt x="300" y="708"/>
                      </a:lnTo>
                      <a:lnTo>
                        <a:pt x="330" y="675"/>
                      </a:lnTo>
                      <a:lnTo>
                        <a:pt x="375" y="639"/>
                      </a:lnTo>
                      <a:lnTo>
                        <a:pt x="396" y="633"/>
                      </a:lnTo>
                      <a:lnTo>
                        <a:pt x="462" y="633"/>
                      </a:lnTo>
                      <a:lnTo>
                        <a:pt x="543" y="588"/>
                      </a:lnTo>
                      <a:lnTo>
                        <a:pt x="564" y="594"/>
                      </a:lnTo>
                      <a:lnTo>
                        <a:pt x="594" y="609"/>
                      </a:lnTo>
                      <a:lnTo>
                        <a:pt x="705" y="570"/>
                      </a:lnTo>
                      <a:lnTo>
                        <a:pt x="714" y="543"/>
                      </a:lnTo>
                      <a:lnTo>
                        <a:pt x="807" y="543"/>
                      </a:lnTo>
                      <a:lnTo>
                        <a:pt x="855" y="519"/>
                      </a:lnTo>
                      <a:lnTo>
                        <a:pt x="936" y="519"/>
                      </a:lnTo>
                      <a:lnTo>
                        <a:pt x="951" y="480"/>
                      </a:lnTo>
                      <a:lnTo>
                        <a:pt x="984" y="456"/>
                      </a:lnTo>
                      <a:lnTo>
                        <a:pt x="990" y="420"/>
                      </a:lnTo>
                      <a:lnTo>
                        <a:pt x="1041" y="432"/>
                      </a:lnTo>
                      <a:lnTo>
                        <a:pt x="1044" y="405"/>
                      </a:lnTo>
                      <a:lnTo>
                        <a:pt x="1011" y="387"/>
                      </a:lnTo>
                      <a:lnTo>
                        <a:pt x="987" y="366"/>
                      </a:lnTo>
                      <a:lnTo>
                        <a:pt x="891" y="354"/>
                      </a:lnTo>
                      <a:lnTo>
                        <a:pt x="876" y="258"/>
                      </a:lnTo>
                      <a:lnTo>
                        <a:pt x="834" y="189"/>
                      </a:lnTo>
                      <a:lnTo>
                        <a:pt x="765" y="159"/>
                      </a:lnTo>
                      <a:lnTo>
                        <a:pt x="735" y="159"/>
                      </a:lnTo>
                      <a:lnTo>
                        <a:pt x="696" y="117"/>
                      </a:lnTo>
                      <a:lnTo>
                        <a:pt x="657" y="105"/>
                      </a:lnTo>
                      <a:lnTo>
                        <a:pt x="618" y="108"/>
                      </a:lnTo>
                      <a:lnTo>
                        <a:pt x="591" y="69"/>
                      </a:lnTo>
                      <a:lnTo>
                        <a:pt x="567" y="33"/>
                      </a:lnTo>
                      <a:lnTo>
                        <a:pt x="537" y="3"/>
                      </a:lnTo>
                      <a:lnTo>
                        <a:pt x="513" y="0"/>
                      </a:lnTo>
                      <a:lnTo>
                        <a:pt x="480" y="42"/>
                      </a:lnTo>
                      <a:lnTo>
                        <a:pt x="435" y="63"/>
                      </a:lnTo>
                      <a:lnTo>
                        <a:pt x="390" y="111"/>
                      </a:lnTo>
                      <a:lnTo>
                        <a:pt x="363" y="90"/>
                      </a:lnTo>
                      <a:lnTo>
                        <a:pt x="324" y="87"/>
                      </a:lnTo>
                      <a:lnTo>
                        <a:pt x="294" y="30"/>
                      </a:lnTo>
                      <a:lnTo>
                        <a:pt x="282" y="57"/>
                      </a:lnTo>
                      <a:lnTo>
                        <a:pt x="264" y="72"/>
                      </a:lnTo>
                      <a:lnTo>
                        <a:pt x="255" y="93"/>
                      </a:lnTo>
                      <a:lnTo>
                        <a:pt x="228" y="117"/>
                      </a:lnTo>
                      <a:lnTo>
                        <a:pt x="234" y="165"/>
                      </a:lnTo>
                      <a:lnTo>
                        <a:pt x="174" y="165"/>
                      </a:lnTo>
                      <a:lnTo>
                        <a:pt x="138" y="192"/>
                      </a:lnTo>
                      <a:lnTo>
                        <a:pt x="90" y="204"/>
                      </a:lnTo>
                      <a:lnTo>
                        <a:pt x="42" y="282"/>
                      </a:lnTo>
                      <a:lnTo>
                        <a:pt x="60" y="333"/>
                      </a:lnTo>
                      <a:lnTo>
                        <a:pt x="3" y="360"/>
                      </a:lnTo>
                      <a:lnTo>
                        <a:pt x="0" y="384"/>
                      </a:lnTo>
                      <a:lnTo>
                        <a:pt x="63" y="513"/>
                      </a:lnTo>
                      <a:lnTo>
                        <a:pt x="138" y="573"/>
                      </a:lnTo>
                      <a:lnTo>
                        <a:pt x="147" y="618"/>
                      </a:lnTo>
                      <a:lnTo>
                        <a:pt x="156" y="648"/>
                      </a:lnTo>
                      <a:close/>
                    </a:path>
                  </a:pathLst>
                </a:custGeom>
                <a:solidFill>
                  <a:srgbClr val="ff9469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455840" y="5131080"/>
                  <a:ext cx="1672920" cy="396360"/>
                </a:xfrm>
                <a:custGeom>
                  <a:avLst/>
                  <a:gdLst/>
                  <a:ahLst/>
                  <a:rect l="l" t="t" r="r" b="b"/>
                  <a:pathLst>
                    <a:path w="1320" h="987">
                      <a:moveTo>
                        <a:pt x="21" y="786"/>
                      </a:moveTo>
                      <a:lnTo>
                        <a:pt x="42" y="834"/>
                      </a:lnTo>
                      <a:lnTo>
                        <a:pt x="81" y="840"/>
                      </a:lnTo>
                      <a:lnTo>
                        <a:pt x="111" y="858"/>
                      </a:lnTo>
                      <a:lnTo>
                        <a:pt x="153" y="813"/>
                      </a:lnTo>
                      <a:lnTo>
                        <a:pt x="204" y="783"/>
                      </a:lnTo>
                      <a:lnTo>
                        <a:pt x="231" y="747"/>
                      </a:lnTo>
                      <a:lnTo>
                        <a:pt x="264" y="750"/>
                      </a:lnTo>
                      <a:lnTo>
                        <a:pt x="312" y="816"/>
                      </a:lnTo>
                      <a:lnTo>
                        <a:pt x="339" y="855"/>
                      </a:lnTo>
                      <a:lnTo>
                        <a:pt x="390" y="855"/>
                      </a:lnTo>
                      <a:lnTo>
                        <a:pt x="432" y="876"/>
                      </a:lnTo>
                      <a:lnTo>
                        <a:pt x="456" y="909"/>
                      </a:lnTo>
                      <a:lnTo>
                        <a:pt x="489" y="906"/>
                      </a:lnTo>
                      <a:lnTo>
                        <a:pt x="558" y="939"/>
                      </a:lnTo>
                      <a:lnTo>
                        <a:pt x="585" y="987"/>
                      </a:lnTo>
                      <a:lnTo>
                        <a:pt x="663" y="945"/>
                      </a:lnTo>
                      <a:lnTo>
                        <a:pt x="756" y="888"/>
                      </a:lnTo>
                      <a:lnTo>
                        <a:pt x="822" y="873"/>
                      </a:lnTo>
                      <a:lnTo>
                        <a:pt x="837" y="840"/>
                      </a:lnTo>
                      <a:lnTo>
                        <a:pt x="882" y="828"/>
                      </a:lnTo>
                      <a:lnTo>
                        <a:pt x="918" y="792"/>
                      </a:lnTo>
                      <a:lnTo>
                        <a:pt x="855" y="783"/>
                      </a:lnTo>
                      <a:lnTo>
                        <a:pt x="654" y="822"/>
                      </a:lnTo>
                      <a:lnTo>
                        <a:pt x="588" y="798"/>
                      </a:lnTo>
                      <a:lnTo>
                        <a:pt x="555" y="816"/>
                      </a:lnTo>
                      <a:lnTo>
                        <a:pt x="519" y="771"/>
                      </a:lnTo>
                      <a:lnTo>
                        <a:pt x="582" y="714"/>
                      </a:lnTo>
                      <a:lnTo>
                        <a:pt x="609" y="624"/>
                      </a:lnTo>
                      <a:lnTo>
                        <a:pt x="720" y="525"/>
                      </a:lnTo>
                      <a:lnTo>
                        <a:pt x="777" y="501"/>
                      </a:lnTo>
                      <a:lnTo>
                        <a:pt x="837" y="498"/>
                      </a:lnTo>
                      <a:lnTo>
                        <a:pt x="885" y="477"/>
                      </a:lnTo>
                      <a:lnTo>
                        <a:pt x="924" y="390"/>
                      </a:lnTo>
                      <a:lnTo>
                        <a:pt x="993" y="357"/>
                      </a:lnTo>
                      <a:lnTo>
                        <a:pt x="993" y="312"/>
                      </a:lnTo>
                      <a:lnTo>
                        <a:pt x="1038" y="237"/>
                      </a:lnTo>
                      <a:lnTo>
                        <a:pt x="1104" y="231"/>
                      </a:lnTo>
                      <a:lnTo>
                        <a:pt x="1149" y="201"/>
                      </a:lnTo>
                      <a:lnTo>
                        <a:pt x="1188" y="264"/>
                      </a:lnTo>
                      <a:lnTo>
                        <a:pt x="1200" y="285"/>
                      </a:lnTo>
                      <a:lnTo>
                        <a:pt x="1251" y="312"/>
                      </a:lnTo>
                      <a:lnTo>
                        <a:pt x="1272" y="354"/>
                      </a:lnTo>
                      <a:lnTo>
                        <a:pt x="1287" y="369"/>
                      </a:lnTo>
                      <a:lnTo>
                        <a:pt x="1320" y="360"/>
                      </a:lnTo>
                      <a:lnTo>
                        <a:pt x="1314" y="309"/>
                      </a:lnTo>
                      <a:lnTo>
                        <a:pt x="1095" y="9"/>
                      </a:lnTo>
                      <a:lnTo>
                        <a:pt x="1056" y="0"/>
                      </a:lnTo>
                      <a:lnTo>
                        <a:pt x="963" y="75"/>
                      </a:lnTo>
                      <a:lnTo>
                        <a:pt x="870" y="93"/>
                      </a:lnTo>
                      <a:lnTo>
                        <a:pt x="759" y="87"/>
                      </a:lnTo>
                      <a:lnTo>
                        <a:pt x="744" y="156"/>
                      </a:lnTo>
                      <a:lnTo>
                        <a:pt x="741" y="177"/>
                      </a:lnTo>
                      <a:lnTo>
                        <a:pt x="585" y="303"/>
                      </a:lnTo>
                      <a:lnTo>
                        <a:pt x="552" y="342"/>
                      </a:lnTo>
                      <a:lnTo>
                        <a:pt x="492" y="363"/>
                      </a:lnTo>
                      <a:lnTo>
                        <a:pt x="426" y="417"/>
                      </a:lnTo>
                      <a:lnTo>
                        <a:pt x="378" y="342"/>
                      </a:lnTo>
                      <a:lnTo>
                        <a:pt x="300" y="327"/>
                      </a:lnTo>
                      <a:lnTo>
                        <a:pt x="270" y="276"/>
                      </a:lnTo>
                      <a:lnTo>
                        <a:pt x="228" y="303"/>
                      </a:lnTo>
                      <a:lnTo>
                        <a:pt x="165" y="345"/>
                      </a:lnTo>
                      <a:lnTo>
                        <a:pt x="120" y="381"/>
                      </a:lnTo>
                      <a:lnTo>
                        <a:pt x="0" y="444"/>
                      </a:lnTo>
                      <a:lnTo>
                        <a:pt x="6" y="486"/>
                      </a:lnTo>
                      <a:lnTo>
                        <a:pt x="36" y="537"/>
                      </a:lnTo>
                      <a:lnTo>
                        <a:pt x="6" y="588"/>
                      </a:lnTo>
                      <a:lnTo>
                        <a:pt x="54" y="705"/>
                      </a:lnTo>
                      <a:lnTo>
                        <a:pt x="21" y="786"/>
                      </a:lnTo>
                      <a:close/>
                    </a:path>
                  </a:pathLst>
                </a:custGeom>
                <a:solidFill>
                  <a:srgbClr val="00dfca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09960" y="5212800"/>
                  <a:ext cx="1467360" cy="246960"/>
                </a:xfrm>
                <a:custGeom>
                  <a:avLst/>
                  <a:gdLst/>
                  <a:ahLst/>
                  <a:rect l="l" t="t" r="r" b="b"/>
                  <a:pathLst>
                    <a:path w="1158" h="615">
                      <a:moveTo>
                        <a:pt x="1146" y="132"/>
                      </a:moveTo>
                      <a:lnTo>
                        <a:pt x="1152" y="177"/>
                      </a:lnTo>
                      <a:lnTo>
                        <a:pt x="1158" y="216"/>
                      </a:lnTo>
                      <a:lnTo>
                        <a:pt x="1146" y="261"/>
                      </a:lnTo>
                      <a:lnTo>
                        <a:pt x="1062" y="288"/>
                      </a:lnTo>
                      <a:lnTo>
                        <a:pt x="1002" y="309"/>
                      </a:lnTo>
                      <a:lnTo>
                        <a:pt x="963" y="339"/>
                      </a:lnTo>
                      <a:lnTo>
                        <a:pt x="864" y="390"/>
                      </a:lnTo>
                      <a:lnTo>
                        <a:pt x="801" y="447"/>
                      </a:lnTo>
                      <a:lnTo>
                        <a:pt x="705" y="573"/>
                      </a:lnTo>
                      <a:lnTo>
                        <a:pt x="636" y="564"/>
                      </a:lnTo>
                      <a:lnTo>
                        <a:pt x="561" y="543"/>
                      </a:lnTo>
                      <a:lnTo>
                        <a:pt x="507" y="594"/>
                      </a:lnTo>
                      <a:lnTo>
                        <a:pt x="447" y="579"/>
                      </a:lnTo>
                      <a:lnTo>
                        <a:pt x="396" y="588"/>
                      </a:lnTo>
                      <a:lnTo>
                        <a:pt x="339" y="576"/>
                      </a:lnTo>
                      <a:lnTo>
                        <a:pt x="138" y="615"/>
                      </a:lnTo>
                      <a:lnTo>
                        <a:pt x="69" y="594"/>
                      </a:lnTo>
                      <a:lnTo>
                        <a:pt x="39" y="609"/>
                      </a:lnTo>
                      <a:lnTo>
                        <a:pt x="0" y="564"/>
                      </a:lnTo>
                      <a:lnTo>
                        <a:pt x="75" y="504"/>
                      </a:lnTo>
                      <a:lnTo>
                        <a:pt x="99" y="414"/>
                      </a:lnTo>
                      <a:lnTo>
                        <a:pt x="207" y="318"/>
                      </a:lnTo>
                      <a:lnTo>
                        <a:pt x="267" y="294"/>
                      </a:lnTo>
                      <a:lnTo>
                        <a:pt x="321" y="297"/>
                      </a:lnTo>
                      <a:lnTo>
                        <a:pt x="378" y="267"/>
                      </a:lnTo>
                      <a:lnTo>
                        <a:pt x="411" y="183"/>
                      </a:lnTo>
                      <a:lnTo>
                        <a:pt x="480" y="153"/>
                      </a:lnTo>
                      <a:lnTo>
                        <a:pt x="480" y="105"/>
                      </a:lnTo>
                      <a:lnTo>
                        <a:pt x="531" y="30"/>
                      </a:lnTo>
                      <a:lnTo>
                        <a:pt x="597" y="30"/>
                      </a:lnTo>
                      <a:lnTo>
                        <a:pt x="636" y="0"/>
                      </a:lnTo>
                      <a:lnTo>
                        <a:pt x="678" y="78"/>
                      </a:lnTo>
                      <a:lnTo>
                        <a:pt x="741" y="114"/>
                      </a:lnTo>
                      <a:lnTo>
                        <a:pt x="759" y="165"/>
                      </a:lnTo>
                      <a:lnTo>
                        <a:pt x="807" y="162"/>
                      </a:lnTo>
                      <a:lnTo>
                        <a:pt x="807" y="201"/>
                      </a:lnTo>
                      <a:lnTo>
                        <a:pt x="837" y="213"/>
                      </a:lnTo>
                      <a:lnTo>
                        <a:pt x="945" y="168"/>
                      </a:lnTo>
                      <a:lnTo>
                        <a:pt x="972" y="111"/>
                      </a:lnTo>
                      <a:lnTo>
                        <a:pt x="1074" y="93"/>
                      </a:lnTo>
                      <a:lnTo>
                        <a:pt x="1074" y="66"/>
                      </a:lnTo>
                      <a:lnTo>
                        <a:pt x="1131" y="78"/>
                      </a:lnTo>
                      <a:lnTo>
                        <a:pt x="1140" y="111"/>
                      </a:lnTo>
                      <a:lnTo>
                        <a:pt x="1146" y="132"/>
                      </a:lnTo>
                      <a:close/>
                    </a:path>
                  </a:pathLst>
                </a:custGeom>
                <a:solidFill>
                  <a:srgbClr val="00cc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189880" y="5431320"/>
                  <a:ext cx="798120" cy="194040"/>
                </a:xfrm>
                <a:custGeom>
                  <a:avLst/>
                  <a:gdLst/>
                  <a:ahLst/>
                  <a:rect l="l" t="t" r="r" b="b"/>
                  <a:pathLst>
                    <a:path w="630" h="483">
                      <a:moveTo>
                        <a:pt x="0" y="240"/>
                      </a:moveTo>
                      <a:lnTo>
                        <a:pt x="186" y="135"/>
                      </a:lnTo>
                      <a:lnTo>
                        <a:pt x="255" y="120"/>
                      </a:lnTo>
                      <a:lnTo>
                        <a:pt x="264" y="90"/>
                      </a:lnTo>
                      <a:lnTo>
                        <a:pt x="312" y="78"/>
                      </a:lnTo>
                      <a:lnTo>
                        <a:pt x="339" y="39"/>
                      </a:lnTo>
                      <a:lnTo>
                        <a:pt x="396" y="33"/>
                      </a:lnTo>
                      <a:lnTo>
                        <a:pt x="444" y="51"/>
                      </a:lnTo>
                      <a:lnTo>
                        <a:pt x="501" y="0"/>
                      </a:lnTo>
                      <a:lnTo>
                        <a:pt x="630" y="30"/>
                      </a:lnTo>
                      <a:lnTo>
                        <a:pt x="627" y="60"/>
                      </a:lnTo>
                      <a:lnTo>
                        <a:pt x="600" y="81"/>
                      </a:lnTo>
                      <a:lnTo>
                        <a:pt x="594" y="144"/>
                      </a:lnTo>
                      <a:lnTo>
                        <a:pt x="573" y="174"/>
                      </a:lnTo>
                      <a:lnTo>
                        <a:pt x="522" y="186"/>
                      </a:lnTo>
                      <a:lnTo>
                        <a:pt x="501" y="189"/>
                      </a:lnTo>
                      <a:lnTo>
                        <a:pt x="507" y="246"/>
                      </a:lnTo>
                      <a:lnTo>
                        <a:pt x="480" y="282"/>
                      </a:lnTo>
                      <a:lnTo>
                        <a:pt x="486" y="378"/>
                      </a:lnTo>
                      <a:lnTo>
                        <a:pt x="576" y="474"/>
                      </a:lnTo>
                      <a:lnTo>
                        <a:pt x="492" y="483"/>
                      </a:lnTo>
                      <a:lnTo>
                        <a:pt x="288" y="387"/>
                      </a:lnTo>
                      <a:lnTo>
                        <a:pt x="231" y="432"/>
                      </a:lnTo>
                      <a:lnTo>
                        <a:pt x="132" y="405"/>
                      </a:lnTo>
                      <a:lnTo>
                        <a:pt x="129" y="366"/>
                      </a:lnTo>
                      <a:lnTo>
                        <a:pt x="24" y="351"/>
                      </a:lnTo>
                      <a:lnTo>
                        <a:pt x="18" y="267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798280" y="5369760"/>
                  <a:ext cx="1437120" cy="360360"/>
                </a:xfrm>
                <a:custGeom>
                  <a:avLst/>
                  <a:gdLst/>
                  <a:ahLst/>
                  <a:rect l="l" t="t" r="r" b="b"/>
                  <a:pathLst>
                    <a:path w="1134" h="897">
                      <a:moveTo>
                        <a:pt x="315" y="0"/>
                      </a:moveTo>
                      <a:lnTo>
                        <a:pt x="345" y="45"/>
                      </a:lnTo>
                      <a:lnTo>
                        <a:pt x="336" y="150"/>
                      </a:lnTo>
                      <a:lnTo>
                        <a:pt x="321" y="240"/>
                      </a:lnTo>
                      <a:lnTo>
                        <a:pt x="354" y="270"/>
                      </a:lnTo>
                      <a:lnTo>
                        <a:pt x="342" y="348"/>
                      </a:lnTo>
                      <a:lnTo>
                        <a:pt x="348" y="393"/>
                      </a:lnTo>
                      <a:lnTo>
                        <a:pt x="390" y="411"/>
                      </a:lnTo>
                      <a:lnTo>
                        <a:pt x="537" y="432"/>
                      </a:lnTo>
                      <a:lnTo>
                        <a:pt x="570" y="420"/>
                      </a:lnTo>
                      <a:lnTo>
                        <a:pt x="597" y="354"/>
                      </a:lnTo>
                      <a:lnTo>
                        <a:pt x="651" y="312"/>
                      </a:lnTo>
                      <a:lnTo>
                        <a:pt x="681" y="312"/>
                      </a:lnTo>
                      <a:lnTo>
                        <a:pt x="708" y="288"/>
                      </a:lnTo>
                      <a:lnTo>
                        <a:pt x="777" y="273"/>
                      </a:lnTo>
                      <a:lnTo>
                        <a:pt x="819" y="315"/>
                      </a:lnTo>
                      <a:lnTo>
                        <a:pt x="861" y="312"/>
                      </a:lnTo>
                      <a:lnTo>
                        <a:pt x="978" y="357"/>
                      </a:lnTo>
                      <a:lnTo>
                        <a:pt x="1104" y="378"/>
                      </a:lnTo>
                      <a:lnTo>
                        <a:pt x="1134" y="420"/>
                      </a:lnTo>
                      <a:lnTo>
                        <a:pt x="1122" y="471"/>
                      </a:lnTo>
                      <a:lnTo>
                        <a:pt x="1065" y="462"/>
                      </a:lnTo>
                      <a:lnTo>
                        <a:pt x="1029" y="528"/>
                      </a:lnTo>
                      <a:lnTo>
                        <a:pt x="966" y="477"/>
                      </a:lnTo>
                      <a:lnTo>
                        <a:pt x="930" y="471"/>
                      </a:lnTo>
                      <a:lnTo>
                        <a:pt x="867" y="507"/>
                      </a:lnTo>
                      <a:lnTo>
                        <a:pt x="753" y="471"/>
                      </a:lnTo>
                      <a:lnTo>
                        <a:pt x="681" y="486"/>
                      </a:lnTo>
                      <a:lnTo>
                        <a:pt x="669" y="510"/>
                      </a:lnTo>
                      <a:lnTo>
                        <a:pt x="687" y="546"/>
                      </a:lnTo>
                      <a:lnTo>
                        <a:pt x="678" y="579"/>
                      </a:lnTo>
                      <a:lnTo>
                        <a:pt x="588" y="633"/>
                      </a:lnTo>
                      <a:lnTo>
                        <a:pt x="567" y="678"/>
                      </a:lnTo>
                      <a:lnTo>
                        <a:pt x="567" y="708"/>
                      </a:lnTo>
                      <a:lnTo>
                        <a:pt x="648" y="732"/>
                      </a:lnTo>
                      <a:lnTo>
                        <a:pt x="657" y="801"/>
                      </a:lnTo>
                      <a:lnTo>
                        <a:pt x="702" y="897"/>
                      </a:lnTo>
                      <a:lnTo>
                        <a:pt x="612" y="858"/>
                      </a:lnTo>
                      <a:lnTo>
                        <a:pt x="396" y="852"/>
                      </a:lnTo>
                      <a:lnTo>
                        <a:pt x="267" y="825"/>
                      </a:lnTo>
                      <a:lnTo>
                        <a:pt x="231" y="816"/>
                      </a:lnTo>
                      <a:lnTo>
                        <a:pt x="231" y="750"/>
                      </a:lnTo>
                      <a:lnTo>
                        <a:pt x="204" y="717"/>
                      </a:lnTo>
                      <a:lnTo>
                        <a:pt x="129" y="681"/>
                      </a:lnTo>
                      <a:lnTo>
                        <a:pt x="84" y="609"/>
                      </a:lnTo>
                      <a:lnTo>
                        <a:pt x="6" y="528"/>
                      </a:lnTo>
                      <a:lnTo>
                        <a:pt x="0" y="471"/>
                      </a:lnTo>
                      <a:lnTo>
                        <a:pt x="3" y="429"/>
                      </a:lnTo>
                      <a:lnTo>
                        <a:pt x="30" y="399"/>
                      </a:lnTo>
                      <a:lnTo>
                        <a:pt x="24" y="339"/>
                      </a:lnTo>
                      <a:lnTo>
                        <a:pt x="99" y="327"/>
                      </a:lnTo>
                      <a:lnTo>
                        <a:pt x="120" y="297"/>
                      </a:lnTo>
                      <a:lnTo>
                        <a:pt x="120" y="234"/>
                      </a:lnTo>
                      <a:lnTo>
                        <a:pt x="150" y="210"/>
                      </a:lnTo>
                      <a:lnTo>
                        <a:pt x="159" y="180"/>
                      </a:lnTo>
                      <a:lnTo>
                        <a:pt x="264" y="48"/>
                      </a:lnTo>
                      <a:lnTo>
                        <a:pt x="315" y="0"/>
                      </a:lnTo>
                      <a:close/>
                    </a:path>
                  </a:pathLst>
                </a:custGeom>
                <a:solidFill>
                  <a:srgbClr val="019470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205080" y="5262480"/>
                  <a:ext cx="642240" cy="279720"/>
                </a:xfrm>
                <a:custGeom>
                  <a:avLst/>
                  <a:gdLst/>
                  <a:ahLst/>
                  <a:rect l="l" t="t" r="r" b="b"/>
                  <a:pathLst>
                    <a:path w="507" h="696">
                      <a:moveTo>
                        <a:pt x="0" y="270"/>
                      </a:moveTo>
                      <a:lnTo>
                        <a:pt x="27" y="315"/>
                      </a:lnTo>
                      <a:lnTo>
                        <a:pt x="0" y="513"/>
                      </a:lnTo>
                      <a:lnTo>
                        <a:pt x="33" y="537"/>
                      </a:lnTo>
                      <a:lnTo>
                        <a:pt x="27" y="603"/>
                      </a:lnTo>
                      <a:lnTo>
                        <a:pt x="24" y="624"/>
                      </a:lnTo>
                      <a:lnTo>
                        <a:pt x="33" y="660"/>
                      </a:lnTo>
                      <a:lnTo>
                        <a:pt x="75" y="678"/>
                      </a:lnTo>
                      <a:lnTo>
                        <a:pt x="174" y="690"/>
                      </a:lnTo>
                      <a:lnTo>
                        <a:pt x="222" y="696"/>
                      </a:lnTo>
                      <a:lnTo>
                        <a:pt x="255" y="687"/>
                      </a:lnTo>
                      <a:lnTo>
                        <a:pt x="279" y="612"/>
                      </a:lnTo>
                      <a:lnTo>
                        <a:pt x="330" y="576"/>
                      </a:lnTo>
                      <a:lnTo>
                        <a:pt x="363" y="576"/>
                      </a:lnTo>
                      <a:lnTo>
                        <a:pt x="390" y="555"/>
                      </a:lnTo>
                      <a:lnTo>
                        <a:pt x="450" y="543"/>
                      </a:lnTo>
                      <a:lnTo>
                        <a:pt x="432" y="495"/>
                      </a:lnTo>
                      <a:lnTo>
                        <a:pt x="393" y="414"/>
                      </a:lnTo>
                      <a:lnTo>
                        <a:pt x="438" y="333"/>
                      </a:lnTo>
                      <a:lnTo>
                        <a:pt x="465" y="264"/>
                      </a:lnTo>
                      <a:lnTo>
                        <a:pt x="507" y="210"/>
                      </a:lnTo>
                      <a:lnTo>
                        <a:pt x="492" y="90"/>
                      </a:lnTo>
                      <a:lnTo>
                        <a:pt x="393" y="51"/>
                      </a:lnTo>
                      <a:lnTo>
                        <a:pt x="318" y="0"/>
                      </a:lnTo>
                      <a:lnTo>
                        <a:pt x="279" y="0"/>
                      </a:lnTo>
                      <a:lnTo>
                        <a:pt x="291" y="66"/>
                      </a:lnTo>
                      <a:lnTo>
                        <a:pt x="294" y="99"/>
                      </a:lnTo>
                      <a:lnTo>
                        <a:pt x="279" y="144"/>
                      </a:lnTo>
                      <a:lnTo>
                        <a:pt x="141" y="183"/>
                      </a:lnTo>
                      <a:lnTo>
                        <a:pt x="84" y="228"/>
                      </a:lnTo>
                      <a:lnTo>
                        <a:pt x="0" y="27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03320" y="5270760"/>
                  <a:ext cx="1053000" cy="279720"/>
                </a:xfrm>
                <a:custGeom>
                  <a:avLst/>
                  <a:gdLst/>
                  <a:ahLst/>
                  <a:rect l="l" t="t" r="r" b="b"/>
                  <a:pathLst>
                    <a:path w="831" h="696">
                      <a:moveTo>
                        <a:pt x="132" y="180"/>
                      </a:moveTo>
                      <a:lnTo>
                        <a:pt x="75" y="237"/>
                      </a:lnTo>
                      <a:lnTo>
                        <a:pt x="42" y="327"/>
                      </a:lnTo>
                      <a:lnTo>
                        <a:pt x="0" y="390"/>
                      </a:lnTo>
                      <a:lnTo>
                        <a:pt x="48" y="489"/>
                      </a:lnTo>
                      <a:lnTo>
                        <a:pt x="75" y="537"/>
                      </a:lnTo>
                      <a:lnTo>
                        <a:pt x="111" y="561"/>
                      </a:lnTo>
                      <a:lnTo>
                        <a:pt x="156" y="558"/>
                      </a:lnTo>
                      <a:lnTo>
                        <a:pt x="285" y="606"/>
                      </a:lnTo>
                      <a:lnTo>
                        <a:pt x="396" y="630"/>
                      </a:lnTo>
                      <a:lnTo>
                        <a:pt x="432" y="660"/>
                      </a:lnTo>
                      <a:lnTo>
                        <a:pt x="480" y="663"/>
                      </a:lnTo>
                      <a:lnTo>
                        <a:pt x="510" y="696"/>
                      </a:lnTo>
                      <a:lnTo>
                        <a:pt x="555" y="687"/>
                      </a:lnTo>
                      <a:lnTo>
                        <a:pt x="507" y="636"/>
                      </a:lnTo>
                      <a:lnTo>
                        <a:pt x="486" y="528"/>
                      </a:lnTo>
                      <a:lnTo>
                        <a:pt x="543" y="435"/>
                      </a:lnTo>
                      <a:lnTo>
                        <a:pt x="738" y="351"/>
                      </a:lnTo>
                      <a:lnTo>
                        <a:pt x="831" y="294"/>
                      </a:lnTo>
                      <a:lnTo>
                        <a:pt x="816" y="255"/>
                      </a:lnTo>
                      <a:lnTo>
                        <a:pt x="699" y="156"/>
                      </a:lnTo>
                      <a:lnTo>
                        <a:pt x="633" y="135"/>
                      </a:lnTo>
                      <a:lnTo>
                        <a:pt x="522" y="36"/>
                      </a:lnTo>
                      <a:lnTo>
                        <a:pt x="471" y="0"/>
                      </a:lnTo>
                      <a:lnTo>
                        <a:pt x="399" y="84"/>
                      </a:lnTo>
                      <a:lnTo>
                        <a:pt x="384" y="129"/>
                      </a:lnTo>
                      <a:lnTo>
                        <a:pt x="321" y="162"/>
                      </a:lnTo>
                      <a:lnTo>
                        <a:pt x="276" y="132"/>
                      </a:lnTo>
                      <a:lnTo>
                        <a:pt x="195" y="153"/>
                      </a:lnTo>
                      <a:lnTo>
                        <a:pt x="132" y="18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" name=""/>
                <p:cNvGrpSpPr/>
                <p:nvPr/>
              </p:nvGrpSpPr>
              <p:grpSpPr>
                <a:xfrm>
                  <a:off x="957960" y="5131080"/>
                  <a:ext cx="3790440" cy="857160"/>
                  <a:chOff x="957960" y="5131080"/>
                  <a:chExt cx="3790440" cy="85716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973080" y="5519160"/>
                    <a:ext cx="33840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002">
                        <a:moveTo>
                          <a:pt x="0" y="1002"/>
                        </a:moveTo>
                        <a:lnTo>
                          <a:pt x="39" y="966"/>
                        </a:lnTo>
                        <a:lnTo>
                          <a:pt x="54" y="921"/>
                        </a:lnTo>
                        <a:lnTo>
                          <a:pt x="111" y="876"/>
                        </a:lnTo>
                        <a:lnTo>
                          <a:pt x="126" y="807"/>
                        </a:lnTo>
                        <a:lnTo>
                          <a:pt x="105" y="756"/>
                        </a:lnTo>
                        <a:lnTo>
                          <a:pt x="135" y="699"/>
                        </a:lnTo>
                        <a:lnTo>
                          <a:pt x="144" y="645"/>
                        </a:lnTo>
                        <a:lnTo>
                          <a:pt x="174" y="606"/>
                        </a:lnTo>
                        <a:lnTo>
                          <a:pt x="216" y="510"/>
                        </a:lnTo>
                        <a:lnTo>
                          <a:pt x="252" y="423"/>
                        </a:lnTo>
                        <a:lnTo>
                          <a:pt x="267" y="381"/>
                        </a:lnTo>
                        <a:lnTo>
                          <a:pt x="255" y="339"/>
                        </a:lnTo>
                        <a:lnTo>
                          <a:pt x="216" y="303"/>
                        </a:lnTo>
                        <a:lnTo>
                          <a:pt x="180" y="276"/>
                        </a:lnTo>
                        <a:lnTo>
                          <a:pt x="159" y="231"/>
                        </a:lnTo>
                        <a:lnTo>
                          <a:pt x="138" y="189"/>
                        </a:lnTo>
                        <a:lnTo>
                          <a:pt x="120" y="156"/>
                        </a:lnTo>
                        <a:lnTo>
                          <a:pt x="123" y="129"/>
                        </a:lnTo>
                        <a:lnTo>
                          <a:pt x="141" y="120"/>
                        </a:lnTo>
                        <a:lnTo>
                          <a:pt x="165" y="120"/>
                        </a:lnTo>
                        <a:lnTo>
                          <a:pt x="183" y="105"/>
                        </a:lnTo>
                        <a:cubicBezTo>
                          <a:pt x="177" y="89"/>
                          <a:pt x="165" y="64"/>
                          <a:pt x="165" y="45"/>
                        </a:cubicBezTo>
                        <a:lnTo>
                          <a:pt x="198" y="0"/>
                        </a:lnTo>
                      </a:path>
                    </a:pathLst>
                  </a:custGeom>
                  <a:noFill/>
                  <a:ln w="57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220040" y="5321520"/>
                    <a:ext cx="30384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501">
                        <a:moveTo>
                          <a:pt x="0" y="501"/>
                        </a:moveTo>
                        <a:lnTo>
                          <a:pt x="21" y="468"/>
                        </a:lnTo>
                        <a:lnTo>
                          <a:pt x="78" y="453"/>
                        </a:lnTo>
                        <a:lnTo>
                          <a:pt x="96" y="423"/>
                        </a:lnTo>
                        <a:lnTo>
                          <a:pt x="150" y="435"/>
                        </a:lnTo>
                        <a:lnTo>
                          <a:pt x="165" y="411"/>
                        </a:lnTo>
                        <a:lnTo>
                          <a:pt x="153" y="390"/>
                        </a:lnTo>
                        <a:lnTo>
                          <a:pt x="150" y="372"/>
                        </a:lnTo>
                        <a:lnTo>
                          <a:pt x="183" y="354"/>
                        </a:lnTo>
                        <a:lnTo>
                          <a:pt x="189" y="330"/>
                        </a:lnTo>
                        <a:lnTo>
                          <a:pt x="216" y="318"/>
                        </a:lnTo>
                        <a:lnTo>
                          <a:pt x="240" y="237"/>
                        </a:lnTo>
                        <a:lnTo>
                          <a:pt x="231" y="204"/>
                        </a:lnTo>
                        <a:lnTo>
                          <a:pt x="213" y="156"/>
                        </a:lnTo>
                        <a:lnTo>
                          <a:pt x="204" y="135"/>
                        </a:lnTo>
                        <a:lnTo>
                          <a:pt x="192" y="114"/>
                        </a:lnTo>
                        <a:lnTo>
                          <a:pt x="195" y="96"/>
                        </a:lnTo>
                        <a:lnTo>
                          <a:pt x="213" y="72"/>
                        </a:lnTo>
                        <a:lnTo>
                          <a:pt x="228" y="60"/>
                        </a:lnTo>
                        <a:lnTo>
                          <a:pt x="210" y="30"/>
                        </a:lnTo>
                        <a:lnTo>
                          <a:pt x="198" y="0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094760" y="5590440"/>
                    <a:ext cx="2630880" cy="39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76" h="978">
                        <a:moveTo>
                          <a:pt x="0" y="978"/>
                        </a:moveTo>
                        <a:lnTo>
                          <a:pt x="39" y="951"/>
                        </a:lnTo>
                        <a:lnTo>
                          <a:pt x="57" y="909"/>
                        </a:lnTo>
                        <a:lnTo>
                          <a:pt x="66" y="873"/>
                        </a:lnTo>
                        <a:lnTo>
                          <a:pt x="90" y="849"/>
                        </a:lnTo>
                        <a:lnTo>
                          <a:pt x="120" y="810"/>
                        </a:lnTo>
                        <a:lnTo>
                          <a:pt x="153" y="780"/>
                        </a:lnTo>
                        <a:lnTo>
                          <a:pt x="183" y="738"/>
                        </a:lnTo>
                        <a:lnTo>
                          <a:pt x="219" y="696"/>
                        </a:lnTo>
                        <a:lnTo>
                          <a:pt x="222" y="648"/>
                        </a:lnTo>
                        <a:lnTo>
                          <a:pt x="237" y="585"/>
                        </a:lnTo>
                        <a:lnTo>
                          <a:pt x="246" y="546"/>
                        </a:lnTo>
                        <a:lnTo>
                          <a:pt x="273" y="534"/>
                        </a:lnTo>
                        <a:lnTo>
                          <a:pt x="327" y="519"/>
                        </a:lnTo>
                        <a:lnTo>
                          <a:pt x="351" y="501"/>
                        </a:lnTo>
                        <a:lnTo>
                          <a:pt x="357" y="477"/>
                        </a:lnTo>
                        <a:lnTo>
                          <a:pt x="360" y="447"/>
                        </a:lnTo>
                        <a:lnTo>
                          <a:pt x="372" y="429"/>
                        </a:lnTo>
                        <a:lnTo>
                          <a:pt x="396" y="408"/>
                        </a:lnTo>
                        <a:lnTo>
                          <a:pt x="435" y="390"/>
                        </a:lnTo>
                        <a:lnTo>
                          <a:pt x="474" y="384"/>
                        </a:lnTo>
                        <a:lnTo>
                          <a:pt x="486" y="345"/>
                        </a:lnTo>
                        <a:lnTo>
                          <a:pt x="483" y="315"/>
                        </a:lnTo>
                        <a:lnTo>
                          <a:pt x="555" y="258"/>
                        </a:lnTo>
                        <a:lnTo>
                          <a:pt x="597" y="210"/>
                        </a:lnTo>
                        <a:lnTo>
                          <a:pt x="657" y="180"/>
                        </a:lnTo>
                        <a:lnTo>
                          <a:pt x="690" y="171"/>
                        </a:lnTo>
                        <a:lnTo>
                          <a:pt x="723" y="165"/>
                        </a:lnTo>
                        <a:lnTo>
                          <a:pt x="741" y="144"/>
                        </a:lnTo>
                        <a:lnTo>
                          <a:pt x="819" y="141"/>
                        </a:lnTo>
                        <a:lnTo>
                          <a:pt x="870" y="114"/>
                        </a:lnTo>
                        <a:lnTo>
                          <a:pt x="963" y="111"/>
                        </a:lnTo>
                        <a:lnTo>
                          <a:pt x="966" y="87"/>
                        </a:lnTo>
                        <a:lnTo>
                          <a:pt x="1005" y="51"/>
                        </a:lnTo>
                        <a:lnTo>
                          <a:pt x="1014" y="9"/>
                        </a:lnTo>
                        <a:lnTo>
                          <a:pt x="1074" y="27"/>
                        </a:lnTo>
                        <a:lnTo>
                          <a:pt x="1101" y="39"/>
                        </a:lnTo>
                        <a:lnTo>
                          <a:pt x="1143" y="0"/>
                        </a:lnTo>
                        <a:lnTo>
                          <a:pt x="1173" y="0"/>
                        </a:lnTo>
                        <a:lnTo>
                          <a:pt x="1239" y="42"/>
                        </a:lnTo>
                        <a:lnTo>
                          <a:pt x="1302" y="66"/>
                        </a:lnTo>
                        <a:lnTo>
                          <a:pt x="1359" y="87"/>
                        </a:lnTo>
                        <a:lnTo>
                          <a:pt x="1413" y="84"/>
                        </a:lnTo>
                        <a:lnTo>
                          <a:pt x="1428" y="72"/>
                        </a:lnTo>
                        <a:lnTo>
                          <a:pt x="1440" y="102"/>
                        </a:lnTo>
                        <a:lnTo>
                          <a:pt x="1500" y="156"/>
                        </a:lnTo>
                        <a:lnTo>
                          <a:pt x="1557" y="180"/>
                        </a:lnTo>
                        <a:lnTo>
                          <a:pt x="1566" y="210"/>
                        </a:lnTo>
                        <a:lnTo>
                          <a:pt x="1584" y="222"/>
                        </a:lnTo>
                        <a:lnTo>
                          <a:pt x="1584" y="264"/>
                        </a:lnTo>
                        <a:lnTo>
                          <a:pt x="1659" y="294"/>
                        </a:lnTo>
                        <a:lnTo>
                          <a:pt x="1749" y="306"/>
                        </a:lnTo>
                        <a:lnTo>
                          <a:pt x="1896" y="312"/>
                        </a:lnTo>
                        <a:lnTo>
                          <a:pt x="1965" y="312"/>
                        </a:lnTo>
                        <a:lnTo>
                          <a:pt x="2040" y="333"/>
                        </a:lnTo>
                        <a:lnTo>
                          <a:pt x="2076" y="357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725640" y="5638680"/>
                    <a:ext cx="8665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4" h="330">
                        <a:moveTo>
                          <a:pt x="0" y="234"/>
                        </a:moveTo>
                        <a:lnTo>
                          <a:pt x="69" y="282"/>
                        </a:lnTo>
                        <a:lnTo>
                          <a:pt x="138" y="309"/>
                        </a:lnTo>
                        <a:lnTo>
                          <a:pt x="186" y="330"/>
                        </a:lnTo>
                        <a:lnTo>
                          <a:pt x="201" y="312"/>
                        </a:lnTo>
                        <a:lnTo>
                          <a:pt x="213" y="273"/>
                        </a:lnTo>
                        <a:lnTo>
                          <a:pt x="225" y="240"/>
                        </a:lnTo>
                        <a:lnTo>
                          <a:pt x="255" y="204"/>
                        </a:lnTo>
                        <a:lnTo>
                          <a:pt x="306" y="171"/>
                        </a:lnTo>
                        <a:lnTo>
                          <a:pt x="363" y="162"/>
                        </a:lnTo>
                        <a:lnTo>
                          <a:pt x="408" y="162"/>
                        </a:lnTo>
                        <a:lnTo>
                          <a:pt x="423" y="138"/>
                        </a:lnTo>
                        <a:lnTo>
                          <a:pt x="471" y="126"/>
                        </a:lnTo>
                        <a:lnTo>
                          <a:pt x="522" y="102"/>
                        </a:lnTo>
                        <a:lnTo>
                          <a:pt x="564" y="66"/>
                        </a:lnTo>
                        <a:lnTo>
                          <a:pt x="594" y="39"/>
                        </a:lnTo>
                        <a:lnTo>
                          <a:pt x="648" y="15"/>
                        </a:lnTo>
                        <a:lnTo>
                          <a:pt x="684" y="0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455840" y="5131080"/>
                    <a:ext cx="261576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4" h="534">
                        <a:moveTo>
                          <a:pt x="6" y="477"/>
                        </a:moveTo>
                        <a:lnTo>
                          <a:pt x="0" y="447"/>
                        </a:lnTo>
                        <a:lnTo>
                          <a:pt x="63" y="405"/>
                        </a:lnTo>
                        <a:lnTo>
                          <a:pt x="105" y="381"/>
                        </a:lnTo>
                        <a:lnTo>
                          <a:pt x="147" y="369"/>
                        </a:lnTo>
                        <a:lnTo>
                          <a:pt x="168" y="330"/>
                        </a:lnTo>
                        <a:lnTo>
                          <a:pt x="204" y="315"/>
                        </a:lnTo>
                        <a:lnTo>
                          <a:pt x="234" y="297"/>
                        </a:lnTo>
                        <a:lnTo>
                          <a:pt x="258" y="264"/>
                        </a:lnTo>
                        <a:lnTo>
                          <a:pt x="279" y="279"/>
                        </a:lnTo>
                        <a:lnTo>
                          <a:pt x="288" y="306"/>
                        </a:lnTo>
                        <a:lnTo>
                          <a:pt x="306" y="327"/>
                        </a:lnTo>
                        <a:lnTo>
                          <a:pt x="357" y="336"/>
                        </a:lnTo>
                        <a:lnTo>
                          <a:pt x="384" y="348"/>
                        </a:lnTo>
                        <a:lnTo>
                          <a:pt x="405" y="375"/>
                        </a:lnTo>
                        <a:lnTo>
                          <a:pt x="420" y="414"/>
                        </a:lnTo>
                        <a:lnTo>
                          <a:pt x="474" y="387"/>
                        </a:lnTo>
                        <a:lnTo>
                          <a:pt x="501" y="357"/>
                        </a:lnTo>
                        <a:lnTo>
                          <a:pt x="549" y="345"/>
                        </a:lnTo>
                        <a:lnTo>
                          <a:pt x="588" y="297"/>
                        </a:lnTo>
                        <a:lnTo>
                          <a:pt x="657" y="246"/>
                        </a:lnTo>
                        <a:lnTo>
                          <a:pt x="702" y="213"/>
                        </a:lnTo>
                        <a:lnTo>
                          <a:pt x="741" y="177"/>
                        </a:lnTo>
                        <a:lnTo>
                          <a:pt x="753" y="135"/>
                        </a:lnTo>
                        <a:lnTo>
                          <a:pt x="756" y="102"/>
                        </a:lnTo>
                        <a:lnTo>
                          <a:pt x="774" y="87"/>
                        </a:lnTo>
                        <a:lnTo>
                          <a:pt x="858" y="93"/>
                        </a:lnTo>
                        <a:lnTo>
                          <a:pt x="912" y="90"/>
                        </a:lnTo>
                        <a:lnTo>
                          <a:pt x="969" y="72"/>
                        </a:lnTo>
                        <a:lnTo>
                          <a:pt x="1029" y="27"/>
                        </a:lnTo>
                        <a:lnTo>
                          <a:pt x="1062" y="0"/>
                        </a:lnTo>
                        <a:lnTo>
                          <a:pt x="1098" y="12"/>
                        </a:lnTo>
                        <a:lnTo>
                          <a:pt x="1131" y="69"/>
                        </a:lnTo>
                        <a:lnTo>
                          <a:pt x="1167" y="117"/>
                        </a:lnTo>
                        <a:lnTo>
                          <a:pt x="1212" y="174"/>
                        </a:lnTo>
                        <a:lnTo>
                          <a:pt x="1260" y="246"/>
                        </a:lnTo>
                        <a:lnTo>
                          <a:pt x="1320" y="321"/>
                        </a:lnTo>
                        <a:lnTo>
                          <a:pt x="1314" y="366"/>
                        </a:lnTo>
                        <a:lnTo>
                          <a:pt x="1323" y="399"/>
                        </a:lnTo>
                        <a:lnTo>
                          <a:pt x="1347" y="414"/>
                        </a:lnTo>
                        <a:lnTo>
                          <a:pt x="1410" y="396"/>
                        </a:lnTo>
                        <a:lnTo>
                          <a:pt x="1449" y="381"/>
                        </a:lnTo>
                        <a:lnTo>
                          <a:pt x="1470" y="351"/>
                        </a:lnTo>
                        <a:lnTo>
                          <a:pt x="1485" y="318"/>
                        </a:lnTo>
                        <a:lnTo>
                          <a:pt x="1551" y="306"/>
                        </a:lnTo>
                        <a:lnTo>
                          <a:pt x="1581" y="297"/>
                        </a:lnTo>
                        <a:lnTo>
                          <a:pt x="1584" y="276"/>
                        </a:lnTo>
                        <a:lnTo>
                          <a:pt x="1644" y="285"/>
                        </a:lnTo>
                        <a:lnTo>
                          <a:pt x="1662" y="315"/>
                        </a:lnTo>
                        <a:lnTo>
                          <a:pt x="1695" y="318"/>
                        </a:lnTo>
                        <a:lnTo>
                          <a:pt x="1743" y="354"/>
                        </a:lnTo>
                        <a:lnTo>
                          <a:pt x="1812" y="408"/>
                        </a:lnTo>
                        <a:lnTo>
                          <a:pt x="1866" y="420"/>
                        </a:lnTo>
                        <a:lnTo>
                          <a:pt x="1881" y="441"/>
                        </a:lnTo>
                        <a:lnTo>
                          <a:pt x="1884" y="483"/>
                        </a:lnTo>
                        <a:lnTo>
                          <a:pt x="1875" y="516"/>
                        </a:lnTo>
                        <a:lnTo>
                          <a:pt x="1881" y="534"/>
                        </a:lnTo>
                        <a:lnTo>
                          <a:pt x="1923" y="525"/>
                        </a:lnTo>
                        <a:lnTo>
                          <a:pt x="1959" y="501"/>
                        </a:lnTo>
                        <a:lnTo>
                          <a:pt x="1998" y="495"/>
                        </a:lnTo>
                        <a:lnTo>
                          <a:pt x="2028" y="483"/>
                        </a:lnTo>
                        <a:lnTo>
                          <a:pt x="2064" y="489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064400" y="5270760"/>
                    <a:ext cx="6840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40" h="921">
                        <a:moveTo>
                          <a:pt x="0" y="141"/>
                        </a:moveTo>
                        <a:cubicBezTo>
                          <a:pt x="24" y="156"/>
                          <a:pt x="36" y="177"/>
                          <a:pt x="57" y="156"/>
                        </a:cubicBezTo>
                        <a:lnTo>
                          <a:pt x="90" y="141"/>
                        </a:lnTo>
                        <a:lnTo>
                          <a:pt x="117" y="72"/>
                        </a:lnTo>
                        <a:lnTo>
                          <a:pt x="168" y="18"/>
                        </a:lnTo>
                        <a:lnTo>
                          <a:pt x="183" y="0"/>
                        </a:lnTo>
                        <a:lnTo>
                          <a:pt x="219" y="21"/>
                        </a:lnTo>
                        <a:lnTo>
                          <a:pt x="363" y="150"/>
                        </a:lnTo>
                        <a:lnTo>
                          <a:pt x="414" y="165"/>
                        </a:lnTo>
                        <a:lnTo>
                          <a:pt x="537" y="273"/>
                        </a:lnTo>
                        <a:lnTo>
                          <a:pt x="540" y="300"/>
                        </a:lnTo>
                        <a:lnTo>
                          <a:pt x="522" y="321"/>
                        </a:lnTo>
                        <a:lnTo>
                          <a:pt x="294" y="420"/>
                        </a:lnTo>
                        <a:lnTo>
                          <a:pt x="234" y="471"/>
                        </a:lnTo>
                        <a:lnTo>
                          <a:pt x="207" y="519"/>
                        </a:lnTo>
                        <a:lnTo>
                          <a:pt x="210" y="579"/>
                        </a:lnTo>
                        <a:lnTo>
                          <a:pt x="222" y="636"/>
                        </a:lnTo>
                        <a:lnTo>
                          <a:pt x="246" y="666"/>
                        </a:lnTo>
                        <a:lnTo>
                          <a:pt x="267" y="699"/>
                        </a:lnTo>
                        <a:lnTo>
                          <a:pt x="282" y="747"/>
                        </a:lnTo>
                        <a:lnTo>
                          <a:pt x="318" y="774"/>
                        </a:lnTo>
                        <a:lnTo>
                          <a:pt x="339" y="801"/>
                        </a:lnTo>
                        <a:lnTo>
                          <a:pt x="345" y="846"/>
                        </a:lnTo>
                        <a:lnTo>
                          <a:pt x="417" y="921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957960" y="5918400"/>
                    <a:ext cx="155880" cy="6984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" name=""/>
                <p:cNvSpPr/>
                <p:nvPr/>
              </p:nvSpPr>
              <p:spPr>
                <a:xfrm>
                  <a:off x="3516840" y="5536080"/>
                  <a:ext cx="1068120" cy="232560"/>
                </a:xfrm>
                <a:custGeom>
                  <a:avLst/>
                  <a:gdLst/>
                  <a:ahLst/>
                  <a:rect l="l" t="t" r="r" b="b"/>
                  <a:pathLst>
                    <a:path w="843" h="579">
                      <a:moveTo>
                        <a:pt x="138" y="483"/>
                      </a:moveTo>
                      <a:lnTo>
                        <a:pt x="87" y="381"/>
                      </a:lnTo>
                      <a:lnTo>
                        <a:pt x="84" y="318"/>
                      </a:lnTo>
                      <a:lnTo>
                        <a:pt x="3" y="294"/>
                      </a:lnTo>
                      <a:lnTo>
                        <a:pt x="0" y="255"/>
                      </a:lnTo>
                      <a:lnTo>
                        <a:pt x="33" y="210"/>
                      </a:lnTo>
                      <a:lnTo>
                        <a:pt x="111" y="171"/>
                      </a:lnTo>
                      <a:lnTo>
                        <a:pt x="123" y="132"/>
                      </a:lnTo>
                      <a:lnTo>
                        <a:pt x="102" y="99"/>
                      </a:lnTo>
                      <a:lnTo>
                        <a:pt x="117" y="72"/>
                      </a:lnTo>
                      <a:lnTo>
                        <a:pt x="186" y="54"/>
                      </a:lnTo>
                      <a:lnTo>
                        <a:pt x="300" y="93"/>
                      </a:lnTo>
                      <a:lnTo>
                        <a:pt x="354" y="63"/>
                      </a:lnTo>
                      <a:lnTo>
                        <a:pt x="393" y="57"/>
                      </a:lnTo>
                      <a:lnTo>
                        <a:pt x="456" y="111"/>
                      </a:lnTo>
                      <a:lnTo>
                        <a:pt x="474" y="111"/>
                      </a:lnTo>
                      <a:lnTo>
                        <a:pt x="501" y="48"/>
                      </a:lnTo>
                      <a:lnTo>
                        <a:pt x="561" y="54"/>
                      </a:lnTo>
                      <a:lnTo>
                        <a:pt x="570" y="0"/>
                      </a:lnTo>
                      <a:lnTo>
                        <a:pt x="630" y="3"/>
                      </a:lnTo>
                      <a:lnTo>
                        <a:pt x="657" y="39"/>
                      </a:lnTo>
                      <a:lnTo>
                        <a:pt x="705" y="33"/>
                      </a:lnTo>
                      <a:lnTo>
                        <a:pt x="717" y="99"/>
                      </a:lnTo>
                      <a:lnTo>
                        <a:pt x="768" y="135"/>
                      </a:lnTo>
                      <a:lnTo>
                        <a:pt x="783" y="198"/>
                      </a:lnTo>
                      <a:lnTo>
                        <a:pt x="843" y="261"/>
                      </a:lnTo>
                      <a:lnTo>
                        <a:pt x="768" y="282"/>
                      </a:lnTo>
                      <a:lnTo>
                        <a:pt x="669" y="369"/>
                      </a:lnTo>
                      <a:lnTo>
                        <a:pt x="588" y="393"/>
                      </a:lnTo>
                      <a:lnTo>
                        <a:pt x="573" y="417"/>
                      </a:lnTo>
                      <a:lnTo>
                        <a:pt x="489" y="420"/>
                      </a:lnTo>
                      <a:lnTo>
                        <a:pt x="417" y="456"/>
                      </a:lnTo>
                      <a:lnTo>
                        <a:pt x="384" y="519"/>
                      </a:lnTo>
                      <a:lnTo>
                        <a:pt x="369" y="561"/>
                      </a:lnTo>
                      <a:lnTo>
                        <a:pt x="348" y="579"/>
                      </a:lnTo>
                      <a:lnTo>
                        <a:pt x="276" y="555"/>
                      </a:lnTo>
                      <a:lnTo>
                        <a:pt x="183" y="507"/>
                      </a:lnTo>
                      <a:lnTo>
                        <a:pt x="138" y="483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" name=""/>
            <p:cNvGrpSpPr/>
            <p:nvPr/>
          </p:nvGrpSpPr>
          <p:grpSpPr>
            <a:xfrm>
              <a:off x="324000" y="4674960"/>
              <a:ext cx="4417920" cy="1026360"/>
              <a:chOff x="324000" y="4674960"/>
              <a:chExt cx="4417920" cy="1026360"/>
            </a:xfrm>
          </p:grpSpPr>
          <p:sp>
            <p:nvSpPr>
              <p:cNvPr id="122" name=""/>
              <p:cNvSpPr/>
              <p:nvPr/>
            </p:nvSpPr>
            <p:spPr>
              <a:xfrm>
                <a:off x="324000" y="5666760"/>
                <a:ext cx="4094280" cy="3456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928440" y="4674960"/>
                <a:ext cx="3813480" cy="857160"/>
                <a:chOff x="928440" y="4674960"/>
                <a:chExt cx="3813480" cy="8571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928440" y="5210280"/>
                  <a:ext cx="916200" cy="316800"/>
                </a:xfrm>
                <a:custGeom>
                  <a:avLst/>
                  <a:gdLst/>
                  <a:ahLst/>
                  <a:rect l="l" t="t" r="r" b="b"/>
                  <a:pathLst>
                    <a:path w="723" h="789">
                      <a:moveTo>
                        <a:pt x="0" y="648"/>
                      </a:moveTo>
                      <a:lnTo>
                        <a:pt x="48" y="603"/>
                      </a:lnTo>
                      <a:lnTo>
                        <a:pt x="60" y="558"/>
                      </a:lnTo>
                      <a:lnTo>
                        <a:pt x="117" y="510"/>
                      </a:lnTo>
                      <a:lnTo>
                        <a:pt x="129" y="429"/>
                      </a:lnTo>
                      <a:lnTo>
                        <a:pt x="111" y="396"/>
                      </a:lnTo>
                      <a:lnTo>
                        <a:pt x="132" y="336"/>
                      </a:lnTo>
                      <a:lnTo>
                        <a:pt x="147" y="300"/>
                      </a:lnTo>
                      <a:lnTo>
                        <a:pt x="186" y="222"/>
                      </a:lnTo>
                      <a:lnTo>
                        <a:pt x="231" y="132"/>
                      </a:lnTo>
                      <a:lnTo>
                        <a:pt x="261" y="57"/>
                      </a:lnTo>
                      <a:lnTo>
                        <a:pt x="270" y="33"/>
                      </a:lnTo>
                      <a:lnTo>
                        <a:pt x="288" y="96"/>
                      </a:lnTo>
                      <a:lnTo>
                        <a:pt x="330" y="138"/>
                      </a:lnTo>
                      <a:lnTo>
                        <a:pt x="390" y="144"/>
                      </a:lnTo>
                      <a:lnTo>
                        <a:pt x="447" y="99"/>
                      </a:lnTo>
                      <a:lnTo>
                        <a:pt x="498" y="54"/>
                      </a:lnTo>
                      <a:lnTo>
                        <a:pt x="525" y="45"/>
                      </a:lnTo>
                      <a:lnTo>
                        <a:pt x="588" y="48"/>
                      </a:lnTo>
                      <a:lnTo>
                        <a:pt x="630" y="24"/>
                      </a:lnTo>
                      <a:lnTo>
                        <a:pt x="669" y="0"/>
                      </a:lnTo>
                      <a:lnTo>
                        <a:pt x="723" y="15"/>
                      </a:lnTo>
                      <a:lnTo>
                        <a:pt x="582" y="138"/>
                      </a:lnTo>
                      <a:lnTo>
                        <a:pt x="576" y="201"/>
                      </a:lnTo>
                      <a:lnTo>
                        <a:pt x="492" y="231"/>
                      </a:lnTo>
                      <a:lnTo>
                        <a:pt x="453" y="288"/>
                      </a:lnTo>
                      <a:lnTo>
                        <a:pt x="447" y="324"/>
                      </a:lnTo>
                      <a:lnTo>
                        <a:pt x="414" y="345"/>
                      </a:lnTo>
                      <a:lnTo>
                        <a:pt x="351" y="366"/>
                      </a:lnTo>
                      <a:lnTo>
                        <a:pt x="324" y="456"/>
                      </a:lnTo>
                      <a:lnTo>
                        <a:pt x="312" y="513"/>
                      </a:lnTo>
                      <a:lnTo>
                        <a:pt x="270" y="573"/>
                      </a:lnTo>
                      <a:lnTo>
                        <a:pt x="168" y="696"/>
                      </a:lnTo>
                      <a:lnTo>
                        <a:pt x="153" y="750"/>
                      </a:lnTo>
                      <a:lnTo>
                        <a:pt x="129" y="780"/>
                      </a:lnTo>
                      <a:lnTo>
                        <a:pt x="111" y="789"/>
                      </a:lnTo>
                      <a:lnTo>
                        <a:pt x="0" y="648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084320" y="4975200"/>
                  <a:ext cx="1323000" cy="291600"/>
                </a:xfrm>
                <a:custGeom>
                  <a:avLst/>
                  <a:gdLst/>
                  <a:ahLst/>
                  <a:rect l="l" t="t" r="r" b="b"/>
                  <a:pathLst>
                    <a:path w="1044" h="726">
                      <a:moveTo>
                        <a:pt x="156" y="648"/>
                      </a:moveTo>
                      <a:lnTo>
                        <a:pt x="165" y="675"/>
                      </a:lnTo>
                      <a:lnTo>
                        <a:pt x="204" y="726"/>
                      </a:lnTo>
                      <a:lnTo>
                        <a:pt x="267" y="726"/>
                      </a:lnTo>
                      <a:lnTo>
                        <a:pt x="300" y="708"/>
                      </a:lnTo>
                      <a:lnTo>
                        <a:pt x="330" y="675"/>
                      </a:lnTo>
                      <a:lnTo>
                        <a:pt x="375" y="639"/>
                      </a:lnTo>
                      <a:lnTo>
                        <a:pt x="396" y="633"/>
                      </a:lnTo>
                      <a:lnTo>
                        <a:pt x="462" y="633"/>
                      </a:lnTo>
                      <a:lnTo>
                        <a:pt x="543" y="588"/>
                      </a:lnTo>
                      <a:lnTo>
                        <a:pt x="564" y="594"/>
                      </a:lnTo>
                      <a:lnTo>
                        <a:pt x="594" y="609"/>
                      </a:lnTo>
                      <a:lnTo>
                        <a:pt x="705" y="570"/>
                      </a:lnTo>
                      <a:lnTo>
                        <a:pt x="714" y="543"/>
                      </a:lnTo>
                      <a:lnTo>
                        <a:pt x="807" y="543"/>
                      </a:lnTo>
                      <a:lnTo>
                        <a:pt x="855" y="519"/>
                      </a:lnTo>
                      <a:lnTo>
                        <a:pt x="936" y="519"/>
                      </a:lnTo>
                      <a:lnTo>
                        <a:pt x="951" y="480"/>
                      </a:lnTo>
                      <a:lnTo>
                        <a:pt x="984" y="456"/>
                      </a:lnTo>
                      <a:lnTo>
                        <a:pt x="990" y="420"/>
                      </a:lnTo>
                      <a:lnTo>
                        <a:pt x="1041" y="432"/>
                      </a:lnTo>
                      <a:lnTo>
                        <a:pt x="1044" y="405"/>
                      </a:lnTo>
                      <a:lnTo>
                        <a:pt x="1011" y="387"/>
                      </a:lnTo>
                      <a:lnTo>
                        <a:pt x="987" y="366"/>
                      </a:lnTo>
                      <a:lnTo>
                        <a:pt x="891" y="354"/>
                      </a:lnTo>
                      <a:lnTo>
                        <a:pt x="876" y="258"/>
                      </a:lnTo>
                      <a:lnTo>
                        <a:pt x="834" y="189"/>
                      </a:lnTo>
                      <a:lnTo>
                        <a:pt x="765" y="159"/>
                      </a:lnTo>
                      <a:lnTo>
                        <a:pt x="735" y="159"/>
                      </a:lnTo>
                      <a:lnTo>
                        <a:pt x="696" y="117"/>
                      </a:lnTo>
                      <a:lnTo>
                        <a:pt x="657" y="105"/>
                      </a:lnTo>
                      <a:lnTo>
                        <a:pt x="618" y="108"/>
                      </a:lnTo>
                      <a:lnTo>
                        <a:pt x="591" y="69"/>
                      </a:lnTo>
                      <a:lnTo>
                        <a:pt x="567" y="33"/>
                      </a:lnTo>
                      <a:lnTo>
                        <a:pt x="537" y="3"/>
                      </a:lnTo>
                      <a:lnTo>
                        <a:pt x="513" y="0"/>
                      </a:lnTo>
                      <a:lnTo>
                        <a:pt x="480" y="42"/>
                      </a:lnTo>
                      <a:lnTo>
                        <a:pt x="435" y="63"/>
                      </a:lnTo>
                      <a:lnTo>
                        <a:pt x="390" y="111"/>
                      </a:lnTo>
                      <a:lnTo>
                        <a:pt x="363" y="90"/>
                      </a:lnTo>
                      <a:lnTo>
                        <a:pt x="324" y="87"/>
                      </a:lnTo>
                      <a:lnTo>
                        <a:pt x="294" y="30"/>
                      </a:lnTo>
                      <a:lnTo>
                        <a:pt x="282" y="57"/>
                      </a:lnTo>
                      <a:lnTo>
                        <a:pt x="264" y="72"/>
                      </a:lnTo>
                      <a:lnTo>
                        <a:pt x="255" y="93"/>
                      </a:lnTo>
                      <a:lnTo>
                        <a:pt x="228" y="117"/>
                      </a:lnTo>
                      <a:lnTo>
                        <a:pt x="234" y="165"/>
                      </a:lnTo>
                      <a:lnTo>
                        <a:pt x="174" y="165"/>
                      </a:lnTo>
                      <a:lnTo>
                        <a:pt x="138" y="192"/>
                      </a:lnTo>
                      <a:lnTo>
                        <a:pt x="90" y="204"/>
                      </a:lnTo>
                      <a:lnTo>
                        <a:pt x="42" y="282"/>
                      </a:lnTo>
                      <a:lnTo>
                        <a:pt x="60" y="333"/>
                      </a:lnTo>
                      <a:lnTo>
                        <a:pt x="3" y="360"/>
                      </a:lnTo>
                      <a:lnTo>
                        <a:pt x="0" y="384"/>
                      </a:lnTo>
                      <a:lnTo>
                        <a:pt x="63" y="513"/>
                      </a:lnTo>
                      <a:lnTo>
                        <a:pt x="138" y="573"/>
                      </a:lnTo>
                      <a:lnTo>
                        <a:pt x="147" y="618"/>
                      </a:lnTo>
                      <a:lnTo>
                        <a:pt x="156" y="648"/>
                      </a:lnTo>
                      <a:close/>
                    </a:path>
                  </a:pathLst>
                </a:custGeom>
                <a:solidFill>
                  <a:srgbClr val="ff9469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441440" y="4674960"/>
                  <a:ext cx="1672920" cy="396360"/>
                </a:xfrm>
                <a:custGeom>
                  <a:avLst/>
                  <a:gdLst/>
                  <a:ahLst/>
                  <a:rect l="l" t="t" r="r" b="b"/>
                  <a:pathLst>
                    <a:path w="1320" h="987">
                      <a:moveTo>
                        <a:pt x="21" y="786"/>
                      </a:moveTo>
                      <a:lnTo>
                        <a:pt x="42" y="834"/>
                      </a:lnTo>
                      <a:lnTo>
                        <a:pt x="81" y="840"/>
                      </a:lnTo>
                      <a:lnTo>
                        <a:pt x="111" y="858"/>
                      </a:lnTo>
                      <a:lnTo>
                        <a:pt x="153" y="813"/>
                      </a:lnTo>
                      <a:lnTo>
                        <a:pt x="204" y="783"/>
                      </a:lnTo>
                      <a:lnTo>
                        <a:pt x="231" y="747"/>
                      </a:lnTo>
                      <a:lnTo>
                        <a:pt x="264" y="750"/>
                      </a:lnTo>
                      <a:lnTo>
                        <a:pt x="312" y="816"/>
                      </a:lnTo>
                      <a:lnTo>
                        <a:pt x="339" y="855"/>
                      </a:lnTo>
                      <a:lnTo>
                        <a:pt x="390" y="855"/>
                      </a:lnTo>
                      <a:lnTo>
                        <a:pt x="432" y="876"/>
                      </a:lnTo>
                      <a:lnTo>
                        <a:pt x="456" y="909"/>
                      </a:lnTo>
                      <a:lnTo>
                        <a:pt x="489" y="906"/>
                      </a:lnTo>
                      <a:lnTo>
                        <a:pt x="558" y="939"/>
                      </a:lnTo>
                      <a:lnTo>
                        <a:pt x="585" y="987"/>
                      </a:lnTo>
                      <a:lnTo>
                        <a:pt x="663" y="945"/>
                      </a:lnTo>
                      <a:lnTo>
                        <a:pt x="756" y="888"/>
                      </a:lnTo>
                      <a:lnTo>
                        <a:pt x="822" y="873"/>
                      </a:lnTo>
                      <a:lnTo>
                        <a:pt x="837" y="840"/>
                      </a:lnTo>
                      <a:lnTo>
                        <a:pt x="882" y="828"/>
                      </a:lnTo>
                      <a:lnTo>
                        <a:pt x="918" y="792"/>
                      </a:lnTo>
                      <a:lnTo>
                        <a:pt x="855" y="783"/>
                      </a:lnTo>
                      <a:lnTo>
                        <a:pt x="654" y="822"/>
                      </a:lnTo>
                      <a:lnTo>
                        <a:pt x="588" y="798"/>
                      </a:lnTo>
                      <a:lnTo>
                        <a:pt x="555" y="816"/>
                      </a:lnTo>
                      <a:lnTo>
                        <a:pt x="519" y="771"/>
                      </a:lnTo>
                      <a:lnTo>
                        <a:pt x="582" y="714"/>
                      </a:lnTo>
                      <a:lnTo>
                        <a:pt x="609" y="624"/>
                      </a:lnTo>
                      <a:lnTo>
                        <a:pt x="720" y="525"/>
                      </a:lnTo>
                      <a:lnTo>
                        <a:pt x="777" y="501"/>
                      </a:lnTo>
                      <a:lnTo>
                        <a:pt x="837" y="498"/>
                      </a:lnTo>
                      <a:lnTo>
                        <a:pt x="885" y="477"/>
                      </a:lnTo>
                      <a:lnTo>
                        <a:pt x="924" y="390"/>
                      </a:lnTo>
                      <a:lnTo>
                        <a:pt x="993" y="357"/>
                      </a:lnTo>
                      <a:lnTo>
                        <a:pt x="993" y="312"/>
                      </a:lnTo>
                      <a:lnTo>
                        <a:pt x="1038" y="237"/>
                      </a:lnTo>
                      <a:lnTo>
                        <a:pt x="1104" y="231"/>
                      </a:lnTo>
                      <a:lnTo>
                        <a:pt x="1149" y="201"/>
                      </a:lnTo>
                      <a:lnTo>
                        <a:pt x="1188" y="264"/>
                      </a:lnTo>
                      <a:lnTo>
                        <a:pt x="1200" y="285"/>
                      </a:lnTo>
                      <a:lnTo>
                        <a:pt x="1251" y="312"/>
                      </a:lnTo>
                      <a:lnTo>
                        <a:pt x="1272" y="354"/>
                      </a:lnTo>
                      <a:lnTo>
                        <a:pt x="1287" y="369"/>
                      </a:lnTo>
                      <a:lnTo>
                        <a:pt x="1320" y="360"/>
                      </a:lnTo>
                      <a:lnTo>
                        <a:pt x="1314" y="309"/>
                      </a:lnTo>
                      <a:lnTo>
                        <a:pt x="1095" y="9"/>
                      </a:lnTo>
                      <a:lnTo>
                        <a:pt x="1056" y="0"/>
                      </a:lnTo>
                      <a:lnTo>
                        <a:pt x="963" y="75"/>
                      </a:lnTo>
                      <a:lnTo>
                        <a:pt x="870" y="93"/>
                      </a:lnTo>
                      <a:lnTo>
                        <a:pt x="759" y="87"/>
                      </a:lnTo>
                      <a:lnTo>
                        <a:pt x="744" y="156"/>
                      </a:lnTo>
                      <a:lnTo>
                        <a:pt x="741" y="177"/>
                      </a:lnTo>
                      <a:lnTo>
                        <a:pt x="585" y="303"/>
                      </a:lnTo>
                      <a:lnTo>
                        <a:pt x="552" y="342"/>
                      </a:lnTo>
                      <a:lnTo>
                        <a:pt x="492" y="363"/>
                      </a:lnTo>
                      <a:lnTo>
                        <a:pt x="426" y="417"/>
                      </a:lnTo>
                      <a:lnTo>
                        <a:pt x="378" y="342"/>
                      </a:lnTo>
                      <a:lnTo>
                        <a:pt x="300" y="327"/>
                      </a:lnTo>
                      <a:lnTo>
                        <a:pt x="270" y="276"/>
                      </a:lnTo>
                      <a:lnTo>
                        <a:pt x="228" y="303"/>
                      </a:lnTo>
                      <a:lnTo>
                        <a:pt x="165" y="345"/>
                      </a:lnTo>
                      <a:lnTo>
                        <a:pt x="120" y="381"/>
                      </a:lnTo>
                      <a:lnTo>
                        <a:pt x="0" y="444"/>
                      </a:lnTo>
                      <a:lnTo>
                        <a:pt x="6" y="486"/>
                      </a:lnTo>
                      <a:lnTo>
                        <a:pt x="36" y="537"/>
                      </a:lnTo>
                      <a:lnTo>
                        <a:pt x="6" y="588"/>
                      </a:lnTo>
                      <a:lnTo>
                        <a:pt x="54" y="705"/>
                      </a:lnTo>
                      <a:lnTo>
                        <a:pt x="21" y="786"/>
                      </a:lnTo>
                      <a:close/>
                    </a:path>
                  </a:pathLst>
                </a:custGeom>
                <a:solidFill>
                  <a:srgbClr val="00dfca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095560" y="4756680"/>
                  <a:ext cx="1467360" cy="246960"/>
                </a:xfrm>
                <a:custGeom>
                  <a:avLst/>
                  <a:gdLst/>
                  <a:ahLst/>
                  <a:rect l="l" t="t" r="r" b="b"/>
                  <a:pathLst>
                    <a:path w="1158" h="615">
                      <a:moveTo>
                        <a:pt x="1146" y="132"/>
                      </a:moveTo>
                      <a:lnTo>
                        <a:pt x="1152" y="177"/>
                      </a:lnTo>
                      <a:lnTo>
                        <a:pt x="1158" y="216"/>
                      </a:lnTo>
                      <a:lnTo>
                        <a:pt x="1146" y="261"/>
                      </a:lnTo>
                      <a:lnTo>
                        <a:pt x="1062" y="288"/>
                      </a:lnTo>
                      <a:lnTo>
                        <a:pt x="1002" y="309"/>
                      </a:lnTo>
                      <a:lnTo>
                        <a:pt x="963" y="339"/>
                      </a:lnTo>
                      <a:lnTo>
                        <a:pt x="864" y="390"/>
                      </a:lnTo>
                      <a:lnTo>
                        <a:pt x="801" y="447"/>
                      </a:lnTo>
                      <a:lnTo>
                        <a:pt x="705" y="573"/>
                      </a:lnTo>
                      <a:lnTo>
                        <a:pt x="636" y="564"/>
                      </a:lnTo>
                      <a:lnTo>
                        <a:pt x="561" y="543"/>
                      </a:lnTo>
                      <a:lnTo>
                        <a:pt x="507" y="594"/>
                      </a:lnTo>
                      <a:lnTo>
                        <a:pt x="447" y="579"/>
                      </a:lnTo>
                      <a:lnTo>
                        <a:pt x="396" y="588"/>
                      </a:lnTo>
                      <a:lnTo>
                        <a:pt x="339" y="576"/>
                      </a:lnTo>
                      <a:lnTo>
                        <a:pt x="138" y="615"/>
                      </a:lnTo>
                      <a:lnTo>
                        <a:pt x="69" y="594"/>
                      </a:lnTo>
                      <a:lnTo>
                        <a:pt x="39" y="609"/>
                      </a:lnTo>
                      <a:lnTo>
                        <a:pt x="0" y="564"/>
                      </a:lnTo>
                      <a:lnTo>
                        <a:pt x="75" y="504"/>
                      </a:lnTo>
                      <a:lnTo>
                        <a:pt x="99" y="414"/>
                      </a:lnTo>
                      <a:lnTo>
                        <a:pt x="207" y="318"/>
                      </a:lnTo>
                      <a:lnTo>
                        <a:pt x="267" y="294"/>
                      </a:lnTo>
                      <a:lnTo>
                        <a:pt x="321" y="297"/>
                      </a:lnTo>
                      <a:lnTo>
                        <a:pt x="378" y="267"/>
                      </a:lnTo>
                      <a:lnTo>
                        <a:pt x="411" y="183"/>
                      </a:lnTo>
                      <a:lnTo>
                        <a:pt x="480" y="153"/>
                      </a:lnTo>
                      <a:lnTo>
                        <a:pt x="480" y="105"/>
                      </a:lnTo>
                      <a:lnTo>
                        <a:pt x="531" y="30"/>
                      </a:lnTo>
                      <a:lnTo>
                        <a:pt x="597" y="30"/>
                      </a:lnTo>
                      <a:lnTo>
                        <a:pt x="636" y="0"/>
                      </a:lnTo>
                      <a:lnTo>
                        <a:pt x="678" y="78"/>
                      </a:lnTo>
                      <a:lnTo>
                        <a:pt x="741" y="114"/>
                      </a:lnTo>
                      <a:lnTo>
                        <a:pt x="759" y="165"/>
                      </a:lnTo>
                      <a:lnTo>
                        <a:pt x="807" y="162"/>
                      </a:lnTo>
                      <a:lnTo>
                        <a:pt x="807" y="201"/>
                      </a:lnTo>
                      <a:lnTo>
                        <a:pt x="837" y="213"/>
                      </a:lnTo>
                      <a:lnTo>
                        <a:pt x="945" y="168"/>
                      </a:lnTo>
                      <a:lnTo>
                        <a:pt x="972" y="111"/>
                      </a:lnTo>
                      <a:lnTo>
                        <a:pt x="1074" y="93"/>
                      </a:lnTo>
                      <a:lnTo>
                        <a:pt x="1074" y="66"/>
                      </a:lnTo>
                      <a:lnTo>
                        <a:pt x="1131" y="78"/>
                      </a:lnTo>
                      <a:lnTo>
                        <a:pt x="1140" y="111"/>
                      </a:lnTo>
                      <a:lnTo>
                        <a:pt x="1146" y="132"/>
                      </a:lnTo>
                      <a:close/>
                    </a:path>
                  </a:pathLst>
                </a:custGeom>
                <a:solidFill>
                  <a:srgbClr val="00cc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75480" y="4975200"/>
                  <a:ext cx="798120" cy="194040"/>
                </a:xfrm>
                <a:custGeom>
                  <a:avLst/>
                  <a:gdLst/>
                  <a:ahLst/>
                  <a:rect l="l" t="t" r="r" b="b"/>
                  <a:pathLst>
                    <a:path w="630" h="483">
                      <a:moveTo>
                        <a:pt x="0" y="240"/>
                      </a:moveTo>
                      <a:lnTo>
                        <a:pt x="186" y="135"/>
                      </a:lnTo>
                      <a:lnTo>
                        <a:pt x="255" y="120"/>
                      </a:lnTo>
                      <a:lnTo>
                        <a:pt x="264" y="90"/>
                      </a:lnTo>
                      <a:lnTo>
                        <a:pt x="312" y="78"/>
                      </a:lnTo>
                      <a:lnTo>
                        <a:pt x="339" y="39"/>
                      </a:lnTo>
                      <a:lnTo>
                        <a:pt x="396" y="33"/>
                      </a:lnTo>
                      <a:lnTo>
                        <a:pt x="444" y="51"/>
                      </a:lnTo>
                      <a:lnTo>
                        <a:pt x="501" y="0"/>
                      </a:lnTo>
                      <a:lnTo>
                        <a:pt x="630" y="30"/>
                      </a:lnTo>
                      <a:lnTo>
                        <a:pt x="627" y="60"/>
                      </a:lnTo>
                      <a:lnTo>
                        <a:pt x="600" y="81"/>
                      </a:lnTo>
                      <a:lnTo>
                        <a:pt x="594" y="144"/>
                      </a:lnTo>
                      <a:lnTo>
                        <a:pt x="573" y="174"/>
                      </a:lnTo>
                      <a:lnTo>
                        <a:pt x="522" y="186"/>
                      </a:lnTo>
                      <a:lnTo>
                        <a:pt x="501" y="189"/>
                      </a:lnTo>
                      <a:lnTo>
                        <a:pt x="507" y="246"/>
                      </a:lnTo>
                      <a:lnTo>
                        <a:pt x="480" y="282"/>
                      </a:lnTo>
                      <a:lnTo>
                        <a:pt x="486" y="378"/>
                      </a:lnTo>
                      <a:lnTo>
                        <a:pt x="576" y="474"/>
                      </a:lnTo>
                      <a:lnTo>
                        <a:pt x="492" y="483"/>
                      </a:lnTo>
                      <a:lnTo>
                        <a:pt x="288" y="387"/>
                      </a:lnTo>
                      <a:lnTo>
                        <a:pt x="231" y="432"/>
                      </a:lnTo>
                      <a:lnTo>
                        <a:pt x="132" y="405"/>
                      </a:lnTo>
                      <a:lnTo>
                        <a:pt x="129" y="366"/>
                      </a:lnTo>
                      <a:lnTo>
                        <a:pt x="24" y="351"/>
                      </a:lnTo>
                      <a:lnTo>
                        <a:pt x="18" y="267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783880" y="4913640"/>
                  <a:ext cx="1437120" cy="360360"/>
                </a:xfrm>
                <a:custGeom>
                  <a:avLst/>
                  <a:gdLst/>
                  <a:ahLst/>
                  <a:rect l="l" t="t" r="r" b="b"/>
                  <a:pathLst>
                    <a:path w="1134" h="897">
                      <a:moveTo>
                        <a:pt x="315" y="0"/>
                      </a:moveTo>
                      <a:lnTo>
                        <a:pt x="345" y="45"/>
                      </a:lnTo>
                      <a:lnTo>
                        <a:pt x="336" y="150"/>
                      </a:lnTo>
                      <a:lnTo>
                        <a:pt x="321" y="240"/>
                      </a:lnTo>
                      <a:lnTo>
                        <a:pt x="354" y="270"/>
                      </a:lnTo>
                      <a:lnTo>
                        <a:pt x="342" y="348"/>
                      </a:lnTo>
                      <a:lnTo>
                        <a:pt x="348" y="393"/>
                      </a:lnTo>
                      <a:lnTo>
                        <a:pt x="390" y="411"/>
                      </a:lnTo>
                      <a:lnTo>
                        <a:pt x="537" y="432"/>
                      </a:lnTo>
                      <a:lnTo>
                        <a:pt x="570" y="420"/>
                      </a:lnTo>
                      <a:lnTo>
                        <a:pt x="597" y="354"/>
                      </a:lnTo>
                      <a:lnTo>
                        <a:pt x="651" y="312"/>
                      </a:lnTo>
                      <a:lnTo>
                        <a:pt x="681" y="312"/>
                      </a:lnTo>
                      <a:lnTo>
                        <a:pt x="708" y="288"/>
                      </a:lnTo>
                      <a:lnTo>
                        <a:pt x="777" y="273"/>
                      </a:lnTo>
                      <a:lnTo>
                        <a:pt x="819" y="315"/>
                      </a:lnTo>
                      <a:lnTo>
                        <a:pt x="861" y="312"/>
                      </a:lnTo>
                      <a:lnTo>
                        <a:pt x="978" y="357"/>
                      </a:lnTo>
                      <a:lnTo>
                        <a:pt x="1104" y="378"/>
                      </a:lnTo>
                      <a:lnTo>
                        <a:pt x="1134" y="420"/>
                      </a:lnTo>
                      <a:lnTo>
                        <a:pt x="1122" y="471"/>
                      </a:lnTo>
                      <a:lnTo>
                        <a:pt x="1065" y="462"/>
                      </a:lnTo>
                      <a:lnTo>
                        <a:pt x="1029" y="528"/>
                      </a:lnTo>
                      <a:lnTo>
                        <a:pt x="966" y="477"/>
                      </a:lnTo>
                      <a:lnTo>
                        <a:pt x="930" y="471"/>
                      </a:lnTo>
                      <a:lnTo>
                        <a:pt x="867" y="507"/>
                      </a:lnTo>
                      <a:lnTo>
                        <a:pt x="753" y="471"/>
                      </a:lnTo>
                      <a:lnTo>
                        <a:pt x="681" y="486"/>
                      </a:lnTo>
                      <a:lnTo>
                        <a:pt x="669" y="510"/>
                      </a:lnTo>
                      <a:lnTo>
                        <a:pt x="687" y="546"/>
                      </a:lnTo>
                      <a:lnTo>
                        <a:pt x="678" y="579"/>
                      </a:lnTo>
                      <a:lnTo>
                        <a:pt x="588" y="633"/>
                      </a:lnTo>
                      <a:lnTo>
                        <a:pt x="567" y="678"/>
                      </a:lnTo>
                      <a:lnTo>
                        <a:pt x="567" y="708"/>
                      </a:lnTo>
                      <a:lnTo>
                        <a:pt x="648" y="732"/>
                      </a:lnTo>
                      <a:lnTo>
                        <a:pt x="657" y="801"/>
                      </a:lnTo>
                      <a:lnTo>
                        <a:pt x="702" y="897"/>
                      </a:lnTo>
                      <a:lnTo>
                        <a:pt x="612" y="858"/>
                      </a:lnTo>
                      <a:lnTo>
                        <a:pt x="396" y="852"/>
                      </a:lnTo>
                      <a:lnTo>
                        <a:pt x="267" y="825"/>
                      </a:lnTo>
                      <a:lnTo>
                        <a:pt x="231" y="816"/>
                      </a:lnTo>
                      <a:lnTo>
                        <a:pt x="231" y="750"/>
                      </a:lnTo>
                      <a:lnTo>
                        <a:pt x="204" y="717"/>
                      </a:lnTo>
                      <a:lnTo>
                        <a:pt x="129" y="681"/>
                      </a:lnTo>
                      <a:lnTo>
                        <a:pt x="84" y="609"/>
                      </a:lnTo>
                      <a:lnTo>
                        <a:pt x="6" y="528"/>
                      </a:lnTo>
                      <a:lnTo>
                        <a:pt x="0" y="471"/>
                      </a:lnTo>
                      <a:lnTo>
                        <a:pt x="3" y="429"/>
                      </a:lnTo>
                      <a:lnTo>
                        <a:pt x="30" y="399"/>
                      </a:lnTo>
                      <a:lnTo>
                        <a:pt x="24" y="339"/>
                      </a:lnTo>
                      <a:lnTo>
                        <a:pt x="99" y="327"/>
                      </a:lnTo>
                      <a:lnTo>
                        <a:pt x="120" y="297"/>
                      </a:lnTo>
                      <a:lnTo>
                        <a:pt x="120" y="234"/>
                      </a:lnTo>
                      <a:lnTo>
                        <a:pt x="150" y="210"/>
                      </a:lnTo>
                      <a:lnTo>
                        <a:pt x="159" y="180"/>
                      </a:lnTo>
                      <a:lnTo>
                        <a:pt x="264" y="48"/>
                      </a:lnTo>
                      <a:lnTo>
                        <a:pt x="315" y="0"/>
                      </a:lnTo>
                      <a:close/>
                    </a:path>
                  </a:pathLst>
                </a:custGeom>
                <a:solidFill>
                  <a:srgbClr val="019470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190680" y="4806360"/>
                  <a:ext cx="642240" cy="279720"/>
                </a:xfrm>
                <a:custGeom>
                  <a:avLst/>
                  <a:gdLst/>
                  <a:ahLst/>
                  <a:rect l="l" t="t" r="r" b="b"/>
                  <a:pathLst>
                    <a:path w="507" h="696">
                      <a:moveTo>
                        <a:pt x="0" y="270"/>
                      </a:moveTo>
                      <a:lnTo>
                        <a:pt x="27" y="315"/>
                      </a:lnTo>
                      <a:lnTo>
                        <a:pt x="0" y="513"/>
                      </a:lnTo>
                      <a:lnTo>
                        <a:pt x="33" y="537"/>
                      </a:lnTo>
                      <a:lnTo>
                        <a:pt x="27" y="603"/>
                      </a:lnTo>
                      <a:lnTo>
                        <a:pt x="24" y="624"/>
                      </a:lnTo>
                      <a:lnTo>
                        <a:pt x="33" y="660"/>
                      </a:lnTo>
                      <a:lnTo>
                        <a:pt x="75" y="678"/>
                      </a:lnTo>
                      <a:lnTo>
                        <a:pt x="174" y="690"/>
                      </a:lnTo>
                      <a:lnTo>
                        <a:pt x="222" y="696"/>
                      </a:lnTo>
                      <a:lnTo>
                        <a:pt x="255" y="687"/>
                      </a:lnTo>
                      <a:lnTo>
                        <a:pt x="279" y="612"/>
                      </a:lnTo>
                      <a:lnTo>
                        <a:pt x="330" y="576"/>
                      </a:lnTo>
                      <a:lnTo>
                        <a:pt x="363" y="576"/>
                      </a:lnTo>
                      <a:lnTo>
                        <a:pt x="390" y="555"/>
                      </a:lnTo>
                      <a:lnTo>
                        <a:pt x="450" y="543"/>
                      </a:lnTo>
                      <a:lnTo>
                        <a:pt x="432" y="495"/>
                      </a:lnTo>
                      <a:lnTo>
                        <a:pt x="393" y="414"/>
                      </a:lnTo>
                      <a:lnTo>
                        <a:pt x="438" y="333"/>
                      </a:lnTo>
                      <a:lnTo>
                        <a:pt x="465" y="264"/>
                      </a:lnTo>
                      <a:lnTo>
                        <a:pt x="507" y="210"/>
                      </a:lnTo>
                      <a:lnTo>
                        <a:pt x="492" y="90"/>
                      </a:lnTo>
                      <a:lnTo>
                        <a:pt x="393" y="51"/>
                      </a:lnTo>
                      <a:lnTo>
                        <a:pt x="318" y="0"/>
                      </a:lnTo>
                      <a:lnTo>
                        <a:pt x="279" y="0"/>
                      </a:lnTo>
                      <a:lnTo>
                        <a:pt x="291" y="66"/>
                      </a:lnTo>
                      <a:lnTo>
                        <a:pt x="294" y="99"/>
                      </a:lnTo>
                      <a:lnTo>
                        <a:pt x="279" y="144"/>
                      </a:lnTo>
                      <a:lnTo>
                        <a:pt x="141" y="183"/>
                      </a:lnTo>
                      <a:lnTo>
                        <a:pt x="84" y="228"/>
                      </a:lnTo>
                      <a:lnTo>
                        <a:pt x="0" y="27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688920" y="4814640"/>
                  <a:ext cx="1053000" cy="279720"/>
                </a:xfrm>
                <a:custGeom>
                  <a:avLst/>
                  <a:gdLst/>
                  <a:ahLst/>
                  <a:rect l="l" t="t" r="r" b="b"/>
                  <a:pathLst>
                    <a:path w="831" h="696">
                      <a:moveTo>
                        <a:pt x="132" y="180"/>
                      </a:moveTo>
                      <a:lnTo>
                        <a:pt x="75" y="237"/>
                      </a:lnTo>
                      <a:lnTo>
                        <a:pt x="42" y="327"/>
                      </a:lnTo>
                      <a:lnTo>
                        <a:pt x="0" y="390"/>
                      </a:lnTo>
                      <a:lnTo>
                        <a:pt x="48" y="489"/>
                      </a:lnTo>
                      <a:lnTo>
                        <a:pt x="75" y="537"/>
                      </a:lnTo>
                      <a:lnTo>
                        <a:pt x="111" y="561"/>
                      </a:lnTo>
                      <a:lnTo>
                        <a:pt x="156" y="558"/>
                      </a:lnTo>
                      <a:lnTo>
                        <a:pt x="285" y="606"/>
                      </a:lnTo>
                      <a:lnTo>
                        <a:pt x="396" y="630"/>
                      </a:lnTo>
                      <a:lnTo>
                        <a:pt x="432" y="660"/>
                      </a:lnTo>
                      <a:lnTo>
                        <a:pt x="480" y="663"/>
                      </a:lnTo>
                      <a:lnTo>
                        <a:pt x="510" y="696"/>
                      </a:lnTo>
                      <a:lnTo>
                        <a:pt x="555" y="687"/>
                      </a:lnTo>
                      <a:lnTo>
                        <a:pt x="507" y="636"/>
                      </a:lnTo>
                      <a:lnTo>
                        <a:pt x="486" y="528"/>
                      </a:lnTo>
                      <a:lnTo>
                        <a:pt x="543" y="435"/>
                      </a:lnTo>
                      <a:lnTo>
                        <a:pt x="738" y="351"/>
                      </a:lnTo>
                      <a:lnTo>
                        <a:pt x="831" y="294"/>
                      </a:lnTo>
                      <a:lnTo>
                        <a:pt x="816" y="255"/>
                      </a:lnTo>
                      <a:lnTo>
                        <a:pt x="699" y="156"/>
                      </a:lnTo>
                      <a:lnTo>
                        <a:pt x="633" y="135"/>
                      </a:lnTo>
                      <a:lnTo>
                        <a:pt x="522" y="36"/>
                      </a:lnTo>
                      <a:lnTo>
                        <a:pt x="471" y="0"/>
                      </a:lnTo>
                      <a:lnTo>
                        <a:pt x="399" y="84"/>
                      </a:lnTo>
                      <a:lnTo>
                        <a:pt x="384" y="129"/>
                      </a:lnTo>
                      <a:lnTo>
                        <a:pt x="321" y="162"/>
                      </a:lnTo>
                      <a:lnTo>
                        <a:pt x="276" y="132"/>
                      </a:lnTo>
                      <a:lnTo>
                        <a:pt x="195" y="153"/>
                      </a:lnTo>
                      <a:lnTo>
                        <a:pt x="132" y="18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943560" y="4674960"/>
                  <a:ext cx="3790440" cy="857160"/>
                  <a:chOff x="943560" y="4674960"/>
                  <a:chExt cx="3790440" cy="8571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958680" y="5063040"/>
                    <a:ext cx="33840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002">
                        <a:moveTo>
                          <a:pt x="0" y="1002"/>
                        </a:moveTo>
                        <a:lnTo>
                          <a:pt x="39" y="966"/>
                        </a:lnTo>
                        <a:lnTo>
                          <a:pt x="54" y="921"/>
                        </a:lnTo>
                        <a:lnTo>
                          <a:pt x="111" y="876"/>
                        </a:lnTo>
                        <a:lnTo>
                          <a:pt x="126" y="807"/>
                        </a:lnTo>
                        <a:lnTo>
                          <a:pt x="105" y="756"/>
                        </a:lnTo>
                        <a:lnTo>
                          <a:pt x="135" y="699"/>
                        </a:lnTo>
                        <a:lnTo>
                          <a:pt x="144" y="645"/>
                        </a:lnTo>
                        <a:lnTo>
                          <a:pt x="174" y="606"/>
                        </a:lnTo>
                        <a:lnTo>
                          <a:pt x="216" y="510"/>
                        </a:lnTo>
                        <a:lnTo>
                          <a:pt x="252" y="423"/>
                        </a:lnTo>
                        <a:lnTo>
                          <a:pt x="267" y="381"/>
                        </a:lnTo>
                        <a:lnTo>
                          <a:pt x="255" y="339"/>
                        </a:lnTo>
                        <a:lnTo>
                          <a:pt x="216" y="303"/>
                        </a:lnTo>
                        <a:lnTo>
                          <a:pt x="180" y="276"/>
                        </a:lnTo>
                        <a:lnTo>
                          <a:pt x="159" y="231"/>
                        </a:lnTo>
                        <a:lnTo>
                          <a:pt x="138" y="189"/>
                        </a:lnTo>
                        <a:lnTo>
                          <a:pt x="120" y="156"/>
                        </a:lnTo>
                        <a:lnTo>
                          <a:pt x="123" y="129"/>
                        </a:lnTo>
                        <a:lnTo>
                          <a:pt x="141" y="120"/>
                        </a:lnTo>
                        <a:lnTo>
                          <a:pt x="165" y="120"/>
                        </a:lnTo>
                        <a:lnTo>
                          <a:pt x="183" y="105"/>
                        </a:lnTo>
                        <a:cubicBezTo>
                          <a:pt x="177" y="89"/>
                          <a:pt x="165" y="64"/>
                          <a:pt x="165" y="45"/>
                        </a:cubicBezTo>
                        <a:lnTo>
                          <a:pt x="198" y="0"/>
                        </a:lnTo>
                      </a:path>
                    </a:pathLst>
                  </a:custGeom>
                  <a:noFill/>
                  <a:ln w="57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205640" y="4865400"/>
                    <a:ext cx="30384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501">
                        <a:moveTo>
                          <a:pt x="0" y="501"/>
                        </a:moveTo>
                        <a:lnTo>
                          <a:pt x="21" y="468"/>
                        </a:lnTo>
                        <a:lnTo>
                          <a:pt x="78" y="453"/>
                        </a:lnTo>
                        <a:lnTo>
                          <a:pt x="96" y="423"/>
                        </a:lnTo>
                        <a:lnTo>
                          <a:pt x="150" y="435"/>
                        </a:lnTo>
                        <a:lnTo>
                          <a:pt x="165" y="411"/>
                        </a:lnTo>
                        <a:lnTo>
                          <a:pt x="153" y="390"/>
                        </a:lnTo>
                        <a:lnTo>
                          <a:pt x="150" y="372"/>
                        </a:lnTo>
                        <a:lnTo>
                          <a:pt x="183" y="354"/>
                        </a:lnTo>
                        <a:lnTo>
                          <a:pt x="189" y="330"/>
                        </a:lnTo>
                        <a:lnTo>
                          <a:pt x="216" y="318"/>
                        </a:lnTo>
                        <a:lnTo>
                          <a:pt x="240" y="237"/>
                        </a:lnTo>
                        <a:lnTo>
                          <a:pt x="231" y="204"/>
                        </a:lnTo>
                        <a:lnTo>
                          <a:pt x="213" y="156"/>
                        </a:lnTo>
                        <a:lnTo>
                          <a:pt x="204" y="135"/>
                        </a:lnTo>
                        <a:lnTo>
                          <a:pt x="192" y="114"/>
                        </a:lnTo>
                        <a:lnTo>
                          <a:pt x="195" y="96"/>
                        </a:lnTo>
                        <a:lnTo>
                          <a:pt x="213" y="72"/>
                        </a:lnTo>
                        <a:lnTo>
                          <a:pt x="228" y="60"/>
                        </a:lnTo>
                        <a:lnTo>
                          <a:pt x="210" y="30"/>
                        </a:lnTo>
                        <a:lnTo>
                          <a:pt x="198" y="0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080360" y="5134320"/>
                    <a:ext cx="2630880" cy="39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76" h="978">
                        <a:moveTo>
                          <a:pt x="0" y="978"/>
                        </a:moveTo>
                        <a:lnTo>
                          <a:pt x="39" y="951"/>
                        </a:lnTo>
                        <a:lnTo>
                          <a:pt x="57" y="909"/>
                        </a:lnTo>
                        <a:lnTo>
                          <a:pt x="66" y="873"/>
                        </a:lnTo>
                        <a:lnTo>
                          <a:pt x="90" y="849"/>
                        </a:lnTo>
                        <a:lnTo>
                          <a:pt x="120" y="810"/>
                        </a:lnTo>
                        <a:lnTo>
                          <a:pt x="153" y="780"/>
                        </a:lnTo>
                        <a:lnTo>
                          <a:pt x="183" y="738"/>
                        </a:lnTo>
                        <a:lnTo>
                          <a:pt x="219" y="696"/>
                        </a:lnTo>
                        <a:lnTo>
                          <a:pt x="222" y="648"/>
                        </a:lnTo>
                        <a:lnTo>
                          <a:pt x="237" y="585"/>
                        </a:lnTo>
                        <a:lnTo>
                          <a:pt x="246" y="546"/>
                        </a:lnTo>
                        <a:lnTo>
                          <a:pt x="273" y="534"/>
                        </a:lnTo>
                        <a:lnTo>
                          <a:pt x="327" y="519"/>
                        </a:lnTo>
                        <a:lnTo>
                          <a:pt x="351" y="501"/>
                        </a:lnTo>
                        <a:lnTo>
                          <a:pt x="357" y="477"/>
                        </a:lnTo>
                        <a:lnTo>
                          <a:pt x="360" y="447"/>
                        </a:lnTo>
                        <a:lnTo>
                          <a:pt x="372" y="429"/>
                        </a:lnTo>
                        <a:lnTo>
                          <a:pt x="396" y="408"/>
                        </a:lnTo>
                        <a:lnTo>
                          <a:pt x="435" y="390"/>
                        </a:lnTo>
                        <a:lnTo>
                          <a:pt x="474" y="384"/>
                        </a:lnTo>
                        <a:lnTo>
                          <a:pt x="486" y="345"/>
                        </a:lnTo>
                        <a:lnTo>
                          <a:pt x="483" y="315"/>
                        </a:lnTo>
                        <a:lnTo>
                          <a:pt x="555" y="258"/>
                        </a:lnTo>
                        <a:lnTo>
                          <a:pt x="597" y="210"/>
                        </a:lnTo>
                        <a:lnTo>
                          <a:pt x="657" y="180"/>
                        </a:lnTo>
                        <a:lnTo>
                          <a:pt x="690" y="171"/>
                        </a:lnTo>
                        <a:lnTo>
                          <a:pt x="723" y="165"/>
                        </a:lnTo>
                        <a:lnTo>
                          <a:pt x="741" y="144"/>
                        </a:lnTo>
                        <a:lnTo>
                          <a:pt x="819" y="141"/>
                        </a:lnTo>
                        <a:lnTo>
                          <a:pt x="870" y="114"/>
                        </a:lnTo>
                        <a:lnTo>
                          <a:pt x="963" y="111"/>
                        </a:lnTo>
                        <a:lnTo>
                          <a:pt x="966" y="87"/>
                        </a:lnTo>
                        <a:lnTo>
                          <a:pt x="1005" y="51"/>
                        </a:lnTo>
                        <a:lnTo>
                          <a:pt x="1014" y="9"/>
                        </a:lnTo>
                        <a:lnTo>
                          <a:pt x="1074" y="27"/>
                        </a:lnTo>
                        <a:lnTo>
                          <a:pt x="1101" y="39"/>
                        </a:lnTo>
                        <a:lnTo>
                          <a:pt x="1143" y="0"/>
                        </a:lnTo>
                        <a:lnTo>
                          <a:pt x="1173" y="0"/>
                        </a:lnTo>
                        <a:lnTo>
                          <a:pt x="1239" y="42"/>
                        </a:lnTo>
                        <a:lnTo>
                          <a:pt x="1302" y="66"/>
                        </a:lnTo>
                        <a:lnTo>
                          <a:pt x="1359" y="87"/>
                        </a:lnTo>
                        <a:lnTo>
                          <a:pt x="1413" y="84"/>
                        </a:lnTo>
                        <a:lnTo>
                          <a:pt x="1428" y="72"/>
                        </a:lnTo>
                        <a:lnTo>
                          <a:pt x="1440" y="102"/>
                        </a:lnTo>
                        <a:lnTo>
                          <a:pt x="1500" y="156"/>
                        </a:lnTo>
                        <a:lnTo>
                          <a:pt x="1557" y="180"/>
                        </a:lnTo>
                        <a:lnTo>
                          <a:pt x="1566" y="210"/>
                        </a:lnTo>
                        <a:lnTo>
                          <a:pt x="1584" y="222"/>
                        </a:lnTo>
                        <a:lnTo>
                          <a:pt x="1584" y="264"/>
                        </a:lnTo>
                        <a:lnTo>
                          <a:pt x="1659" y="294"/>
                        </a:lnTo>
                        <a:lnTo>
                          <a:pt x="1749" y="306"/>
                        </a:lnTo>
                        <a:lnTo>
                          <a:pt x="1896" y="312"/>
                        </a:lnTo>
                        <a:lnTo>
                          <a:pt x="1965" y="312"/>
                        </a:lnTo>
                        <a:lnTo>
                          <a:pt x="2040" y="333"/>
                        </a:lnTo>
                        <a:lnTo>
                          <a:pt x="2076" y="357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3711240" y="5182560"/>
                    <a:ext cx="8665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4" h="330">
                        <a:moveTo>
                          <a:pt x="0" y="234"/>
                        </a:moveTo>
                        <a:lnTo>
                          <a:pt x="69" y="282"/>
                        </a:lnTo>
                        <a:lnTo>
                          <a:pt x="138" y="309"/>
                        </a:lnTo>
                        <a:lnTo>
                          <a:pt x="186" y="330"/>
                        </a:lnTo>
                        <a:lnTo>
                          <a:pt x="201" y="312"/>
                        </a:lnTo>
                        <a:lnTo>
                          <a:pt x="213" y="273"/>
                        </a:lnTo>
                        <a:lnTo>
                          <a:pt x="225" y="240"/>
                        </a:lnTo>
                        <a:lnTo>
                          <a:pt x="255" y="204"/>
                        </a:lnTo>
                        <a:lnTo>
                          <a:pt x="306" y="171"/>
                        </a:lnTo>
                        <a:lnTo>
                          <a:pt x="363" y="162"/>
                        </a:lnTo>
                        <a:lnTo>
                          <a:pt x="408" y="162"/>
                        </a:lnTo>
                        <a:lnTo>
                          <a:pt x="423" y="138"/>
                        </a:lnTo>
                        <a:lnTo>
                          <a:pt x="471" y="126"/>
                        </a:lnTo>
                        <a:lnTo>
                          <a:pt x="522" y="102"/>
                        </a:lnTo>
                        <a:lnTo>
                          <a:pt x="564" y="66"/>
                        </a:lnTo>
                        <a:lnTo>
                          <a:pt x="594" y="39"/>
                        </a:lnTo>
                        <a:lnTo>
                          <a:pt x="648" y="15"/>
                        </a:lnTo>
                        <a:lnTo>
                          <a:pt x="684" y="0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441440" y="4674960"/>
                    <a:ext cx="261576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4" h="534">
                        <a:moveTo>
                          <a:pt x="6" y="477"/>
                        </a:moveTo>
                        <a:lnTo>
                          <a:pt x="0" y="447"/>
                        </a:lnTo>
                        <a:lnTo>
                          <a:pt x="63" y="405"/>
                        </a:lnTo>
                        <a:lnTo>
                          <a:pt x="105" y="381"/>
                        </a:lnTo>
                        <a:lnTo>
                          <a:pt x="147" y="369"/>
                        </a:lnTo>
                        <a:lnTo>
                          <a:pt x="168" y="330"/>
                        </a:lnTo>
                        <a:lnTo>
                          <a:pt x="204" y="315"/>
                        </a:lnTo>
                        <a:lnTo>
                          <a:pt x="234" y="297"/>
                        </a:lnTo>
                        <a:lnTo>
                          <a:pt x="258" y="264"/>
                        </a:lnTo>
                        <a:lnTo>
                          <a:pt x="279" y="279"/>
                        </a:lnTo>
                        <a:lnTo>
                          <a:pt x="288" y="306"/>
                        </a:lnTo>
                        <a:lnTo>
                          <a:pt x="306" y="327"/>
                        </a:lnTo>
                        <a:lnTo>
                          <a:pt x="357" y="336"/>
                        </a:lnTo>
                        <a:lnTo>
                          <a:pt x="384" y="348"/>
                        </a:lnTo>
                        <a:lnTo>
                          <a:pt x="405" y="375"/>
                        </a:lnTo>
                        <a:lnTo>
                          <a:pt x="420" y="414"/>
                        </a:lnTo>
                        <a:lnTo>
                          <a:pt x="474" y="387"/>
                        </a:lnTo>
                        <a:lnTo>
                          <a:pt x="501" y="357"/>
                        </a:lnTo>
                        <a:lnTo>
                          <a:pt x="549" y="345"/>
                        </a:lnTo>
                        <a:lnTo>
                          <a:pt x="588" y="297"/>
                        </a:lnTo>
                        <a:lnTo>
                          <a:pt x="657" y="246"/>
                        </a:lnTo>
                        <a:lnTo>
                          <a:pt x="702" y="213"/>
                        </a:lnTo>
                        <a:lnTo>
                          <a:pt x="741" y="177"/>
                        </a:lnTo>
                        <a:lnTo>
                          <a:pt x="753" y="135"/>
                        </a:lnTo>
                        <a:lnTo>
                          <a:pt x="756" y="102"/>
                        </a:lnTo>
                        <a:lnTo>
                          <a:pt x="774" y="87"/>
                        </a:lnTo>
                        <a:lnTo>
                          <a:pt x="858" y="93"/>
                        </a:lnTo>
                        <a:lnTo>
                          <a:pt x="912" y="90"/>
                        </a:lnTo>
                        <a:lnTo>
                          <a:pt x="969" y="72"/>
                        </a:lnTo>
                        <a:lnTo>
                          <a:pt x="1029" y="27"/>
                        </a:lnTo>
                        <a:lnTo>
                          <a:pt x="1062" y="0"/>
                        </a:lnTo>
                        <a:lnTo>
                          <a:pt x="1098" y="12"/>
                        </a:lnTo>
                        <a:lnTo>
                          <a:pt x="1131" y="69"/>
                        </a:lnTo>
                        <a:lnTo>
                          <a:pt x="1167" y="117"/>
                        </a:lnTo>
                        <a:lnTo>
                          <a:pt x="1212" y="174"/>
                        </a:lnTo>
                        <a:lnTo>
                          <a:pt x="1260" y="246"/>
                        </a:lnTo>
                        <a:lnTo>
                          <a:pt x="1320" y="321"/>
                        </a:lnTo>
                        <a:lnTo>
                          <a:pt x="1314" y="366"/>
                        </a:lnTo>
                        <a:lnTo>
                          <a:pt x="1323" y="399"/>
                        </a:lnTo>
                        <a:lnTo>
                          <a:pt x="1347" y="414"/>
                        </a:lnTo>
                        <a:lnTo>
                          <a:pt x="1410" y="396"/>
                        </a:lnTo>
                        <a:lnTo>
                          <a:pt x="1449" y="381"/>
                        </a:lnTo>
                        <a:lnTo>
                          <a:pt x="1470" y="351"/>
                        </a:lnTo>
                        <a:lnTo>
                          <a:pt x="1485" y="318"/>
                        </a:lnTo>
                        <a:lnTo>
                          <a:pt x="1551" y="306"/>
                        </a:lnTo>
                        <a:lnTo>
                          <a:pt x="1581" y="297"/>
                        </a:lnTo>
                        <a:lnTo>
                          <a:pt x="1584" y="276"/>
                        </a:lnTo>
                        <a:lnTo>
                          <a:pt x="1644" y="285"/>
                        </a:lnTo>
                        <a:lnTo>
                          <a:pt x="1662" y="315"/>
                        </a:lnTo>
                        <a:lnTo>
                          <a:pt x="1695" y="318"/>
                        </a:lnTo>
                        <a:lnTo>
                          <a:pt x="1743" y="354"/>
                        </a:lnTo>
                        <a:lnTo>
                          <a:pt x="1812" y="408"/>
                        </a:lnTo>
                        <a:lnTo>
                          <a:pt x="1866" y="420"/>
                        </a:lnTo>
                        <a:lnTo>
                          <a:pt x="1881" y="441"/>
                        </a:lnTo>
                        <a:lnTo>
                          <a:pt x="1884" y="483"/>
                        </a:lnTo>
                        <a:lnTo>
                          <a:pt x="1875" y="516"/>
                        </a:lnTo>
                        <a:lnTo>
                          <a:pt x="1881" y="534"/>
                        </a:lnTo>
                        <a:lnTo>
                          <a:pt x="1923" y="525"/>
                        </a:lnTo>
                        <a:lnTo>
                          <a:pt x="1959" y="501"/>
                        </a:lnTo>
                        <a:lnTo>
                          <a:pt x="1998" y="495"/>
                        </a:lnTo>
                        <a:lnTo>
                          <a:pt x="2028" y="483"/>
                        </a:lnTo>
                        <a:lnTo>
                          <a:pt x="2064" y="489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050000" y="4814640"/>
                    <a:ext cx="6840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40" h="921">
                        <a:moveTo>
                          <a:pt x="0" y="141"/>
                        </a:moveTo>
                        <a:cubicBezTo>
                          <a:pt x="24" y="156"/>
                          <a:pt x="36" y="177"/>
                          <a:pt x="57" y="156"/>
                        </a:cubicBezTo>
                        <a:lnTo>
                          <a:pt x="90" y="141"/>
                        </a:lnTo>
                        <a:lnTo>
                          <a:pt x="117" y="72"/>
                        </a:lnTo>
                        <a:lnTo>
                          <a:pt x="168" y="18"/>
                        </a:lnTo>
                        <a:lnTo>
                          <a:pt x="183" y="0"/>
                        </a:lnTo>
                        <a:lnTo>
                          <a:pt x="219" y="21"/>
                        </a:lnTo>
                        <a:lnTo>
                          <a:pt x="363" y="150"/>
                        </a:lnTo>
                        <a:lnTo>
                          <a:pt x="414" y="165"/>
                        </a:lnTo>
                        <a:lnTo>
                          <a:pt x="537" y="273"/>
                        </a:lnTo>
                        <a:lnTo>
                          <a:pt x="540" y="300"/>
                        </a:lnTo>
                        <a:lnTo>
                          <a:pt x="522" y="321"/>
                        </a:lnTo>
                        <a:lnTo>
                          <a:pt x="294" y="420"/>
                        </a:lnTo>
                        <a:lnTo>
                          <a:pt x="234" y="471"/>
                        </a:lnTo>
                        <a:lnTo>
                          <a:pt x="207" y="519"/>
                        </a:lnTo>
                        <a:lnTo>
                          <a:pt x="210" y="579"/>
                        </a:lnTo>
                        <a:lnTo>
                          <a:pt x="222" y="636"/>
                        </a:lnTo>
                        <a:lnTo>
                          <a:pt x="246" y="666"/>
                        </a:lnTo>
                        <a:lnTo>
                          <a:pt x="267" y="699"/>
                        </a:lnTo>
                        <a:lnTo>
                          <a:pt x="282" y="747"/>
                        </a:lnTo>
                        <a:lnTo>
                          <a:pt x="318" y="774"/>
                        </a:lnTo>
                        <a:lnTo>
                          <a:pt x="339" y="801"/>
                        </a:lnTo>
                        <a:lnTo>
                          <a:pt x="345" y="846"/>
                        </a:lnTo>
                        <a:lnTo>
                          <a:pt x="417" y="921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943560" y="5462280"/>
                    <a:ext cx="155880" cy="6984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"/>
                <p:cNvSpPr/>
                <p:nvPr/>
              </p:nvSpPr>
              <p:spPr>
                <a:xfrm>
                  <a:off x="3502440" y="5079960"/>
                  <a:ext cx="1068120" cy="232560"/>
                </a:xfrm>
                <a:custGeom>
                  <a:avLst/>
                  <a:gdLst/>
                  <a:ahLst/>
                  <a:rect l="l" t="t" r="r" b="b"/>
                  <a:pathLst>
                    <a:path w="843" h="579">
                      <a:moveTo>
                        <a:pt x="138" y="483"/>
                      </a:moveTo>
                      <a:lnTo>
                        <a:pt x="87" y="381"/>
                      </a:lnTo>
                      <a:lnTo>
                        <a:pt x="84" y="318"/>
                      </a:lnTo>
                      <a:lnTo>
                        <a:pt x="3" y="294"/>
                      </a:lnTo>
                      <a:lnTo>
                        <a:pt x="0" y="255"/>
                      </a:lnTo>
                      <a:lnTo>
                        <a:pt x="33" y="210"/>
                      </a:lnTo>
                      <a:lnTo>
                        <a:pt x="111" y="171"/>
                      </a:lnTo>
                      <a:lnTo>
                        <a:pt x="123" y="132"/>
                      </a:lnTo>
                      <a:lnTo>
                        <a:pt x="102" y="99"/>
                      </a:lnTo>
                      <a:lnTo>
                        <a:pt x="117" y="72"/>
                      </a:lnTo>
                      <a:lnTo>
                        <a:pt x="186" y="54"/>
                      </a:lnTo>
                      <a:lnTo>
                        <a:pt x="300" y="93"/>
                      </a:lnTo>
                      <a:lnTo>
                        <a:pt x="354" y="63"/>
                      </a:lnTo>
                      <a:lnTo>
                        <a:pt x="393" y="57"/>
                      </a:lnTo>
                      <a:lnTo>
                        <a:pt x="456" y="111"/>
                      </a:lnTo>
                      <a:lnTo>
                        <a:pt x="474" y="111"/>
                      </a:lnTo>
                      <a:lnTo>
                        <a:pt x="501" y="48"/>
                      </a:lnTo>
                      <a:lnTo>
                        <a:pt x="561" y="54"/>
                      </a:lnTo>
                      <a:lnTo>
                        <a:pt x="570" y="0"/>
                      </a:lnTo>
                      <a:lnTo>
                        <a:pt x="630" y="3"/>
                      </a:lnTo>
                      <a:lnTo>
                        <a:pt x="657" y="39"/>
                      </a:lnTo>
                      <a:lnTo>
                        <a:pt x="705" y="33"/>
                      </a:lnTo>
                      <a:lnTo>
                        <a:pt x="717" y="99"/>
                      </a:lnTo>
                      <a:lnTo>
                        <a:pt x="768" y="135"/>
                      </a:lnTo>
                      <a:lnTo>
                        <a:pt x="783" y="198"/>
                      </a:lnTo>
                      <a:lnTo>
                        <a:pt x="843" y="261"/>
                      </a:lnTo>
                      <a:lnTo>
                        <a:pt x="768" y="282"/>
                      </a:lnTo>
                      <a:lnTo>
                        <a:pt x="669" y="369"/>
                      </a:lnTo>
                      <a:lnTo>
                        <a:pt x="588" y="393"/>
                      </a:lnTo>
                      <a:lnTo>
                        <a:pt x="573" y="417"/>
                      </a:lnTo>
                      <a:lnTo>
                        <a:pt x="489" y="420"/>
                      </a:lnTo>
                      <a:lnTo>
                        <a:pt x="417" y="456"/>
                      </a:lnTo>
                      <a:lnTo>
                        <a:pt x="384" y="519"/>
                      </a:lnTo>
                      <a:lnTo>
                        <a:pt x="369" y="561"/>
                      </a:lnTo>
                      <a:lnTo>
                        <a:pt x="348" y="579"/>
                      </a:lnTo>
                      <a:lnTo>
                        <a:pt x="276" y="555"/>
                      </a:lnTo>
                      <a:lnTo>
                        <a:pt x="183" y="507"/>
                      </a:lnTo>
                      <a:lnTo>
                        <a:pt x="138" y="483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352800" y="4244760"/>
              <a:ext cx="4417920" cy="1026360"/>
              <a:chOff x="352800" y="4244760"/>
              <a:chExt cx="4417920" cy="1026360"/>
            </a:xfrm>
          </p:grpSpPr>
          <p:sp>
            <p:nvSpPr>
              <p:cNvPr id="142" name=""/>
              <p:cNvSpPr/>
              <p:nvPr/>
            </p:nvSpPr>
            <p:spPr>
              <a:xfrm>
                <a:off x="352800" y="5236560"/>
                <a:ext cx="4094280" cy="3456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957240" y="4244760"/>
                <a:ext cx="3813480" cy="857160"/>
                <a:chOff x="957240" y="4244760"/>
                <a:chExt cx="3813480" cy="8571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957240" y="4780080"/>
                  <a:ext cx="916200" cy="316800"/>
                </a:xfrm>
                <a:custGeom>
                  <a:avLst/>
                  <a:gdLst/>
                  <a:ahLst/>
                  <a:rect l="l" t="t" r="r" b="b"/>
                  <a:pathLst>
                    <a:path w="723" h="789">
                      <a:moveTo>
                        <a:pt x="0" y="648"/>
                      </a:moveTo>
                      <a:lnTo>
                        <a:pt x="48" y="603"/>
                      </a:lnTo>
                      <a:lnTo>
                        <a:pt x="60" y="558"/>
                      </a:lnTo>
                      <a:lnTo>
                        <a:pt x="117" y="510"/>
                      </a:lnTo>
                      <a:lnTo>
                        <a:pt x="129" y="429"/>
                      </a:lnTo>
                      <a:lnTo>
                        <a:pt x="111" y="396"/>
                      </a:lnTo>
                      <a:lnTo>
                        <a:pt x="132" y="336"/>
                      </a:lnTo>
                      <a:lnTo>
                        <a:pt x="147" y="300"/>
                      </a:lnTo>
                      <a:lnTo>
                        <a:pt x="186" y="222"/>
                      </a:lnTo>
                      <a:lnTo>
                        <a:pt x="231" y="132"/>
                      </a:lnTo>
                      <a:lnTo>
                        <a:pt x="261" y="57"/>
                      </a:lnTo>
                      <a:lnTo>
                        <a:pt x="270" y="33"/>
                      </a:lnTo>
                      <a:lnTo>
                        <a:pt x="288" y="96"/>
                      </a:lnTo>
                      <a:lnTo>
                        <a:pt x="330" y="138"/>
                      </a:lnTo>
                      <a:lnTo>
                        <a:pt x="390" y="144"/>
                      </a:lnTo>
                      <a:lnTo>
                        <a:pt x="447" y="99"/>
                      </a:lnTo>
                      <a:lnTo>
                        <a:pt x="498" y="54"/>
                      </a:lnTo>
                      <a:lnTo>
                        <a:pt x="525" y="45"/>
                      </a:lnTo>
                      <a:lnTo>
                        <a:pt x="588" y="48"/>
                      </a:lnTo>
                      <a:lnTo>
                        <a:pt x="630" y="24"/>
                      </a:lnTo>
                      <a:lnTo>
                        <a:pt x="669" y="0"/>
                      </a:lnTo>
                      <a:lnTo>
                        <a:pt x="723" y="15"/>
                      </a:lnTo>
                      <a:lnTo>
                        <a:pt x="582" y="138"/>
                      </a:lnTo>
                      <a:lnTo>
                        <a:pt x="576" y="201"/>
                      </a:lnTo>
                      <a:lnTo>
                        <a:pt x="492" y="231"/>
                      </a:lnTo>
                      <a:lnTo>
                        <a:pt x="453" y="288"/>
                      </a:lnTo>
                      <a:lnTo>
                        <a:pt x="447" y="324"/>
                      </a:lnTo>
                      <a:lnTo>
                        <a:pt x="414" y="345"/>
                      </a:lnTo>
                      <a:lnTo>
                        <a:pt x="351" y="366"/>
                      </a:lnTo>
                      <a:lnTo>
                        <a:pt x="324" y="456"/>
                      </a:lnTo>
                      <a:lnTo>
                        <a:pt x="312" y="513"/>
                      </a:lnTo>
                      <a:lnTo>
                        <a:pt x="270" y="573"/>
                      </a:lnTo>
                      <a:lnTo>
                        <a:pt x="168" y="696"/>
                      </a:lnTo>
                      <a:lnTo>
                        <a:pt x="153" y="750"/>
                      </a:lnTo>
                      <a:lnTo>
                        <a:pt x="129" y="780"/>
                      </a:lnTo>
                      <a:lnTo>
                        <a:pt x="111" y="789"/>
                      </a:lnTo>
                      <a:lnTo>
                        <a:pt x="0" y="648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113120" y="4545000"/>
                  <a:ext cx="1323000" cy="291600"/>
                </a:xfrm>
                <a:custGeom>
                  <a:avLst/>
                  <a:gdLst/>
                  <a:ahLst/>
                  <a:rect l="l" t="t" r="r" b="b"/>
                  <a:pathLst>
                    <a:path w="1044" h="726">
                      <a:moveTo>
                        <a:pt x="156" y="648"/>
                      </a:moveTo>
                      <a:lnTo>
                        <a:pt x="165" y="675"/>
                      </a:lnTo>
                      <a:lnTo>
                        <a:pt x="204" y="726"/>
                      </a:lnTo>
                      <a:lnTo>
                        <a:pt x="267" y="726"/>
                      </a:lnTo>
                      <a:lnTo>
                        <a:pt x="300" y="708"/>
                      </a:lnTo>
                      <a:lnTo>
                        <a:pt x="330" y="675"/>
                      </a:lnTo>
                      <a:lnTo>
                        <a:pt x="375" y="639"/>
                      </a:lnTo>
                      <a:lnTo>
                        <a:pt x="396" y="633"/>
                      </a:lnTo>
                      <a:lnTo>
                        <a:pt x="462" y="633"/>
                      </a:lnTo>
                      <a:lnTo>
                        <a:pt x="543" y="588"/>
                      </a:lnTo>
                      <a:lnTo>
                        <a:pt x="564" y="594"/>
                      </a:lnTo>
                      <a:lnTo>
                        <a:pt x="594" y="609"/>
                      </a:lnTo>
                      <a:lnTo>
                        <a:pt x="705" y="570"/>
                      </a:lnTo>
                      <a:lnTo>
                        <a:pt x="714" y="543"/>
                      </a:lnTo>
                      <a:lnTo>
                        <a:pt x="807" y="543"/>
                      </a:lnTo>
                      <a:lnTo>
                        <a:pt x="855" y="519"/>
                      </a:lnTo>
                      <a:lnTo>
                        <a:pt x="936" y="519"/>
                      </a:lnTo>
                      <a:lnTo>
                        <a:pt x="951" y="480"/>
                      </a:lnTo>
                      <a:lnTo>
                        <a:pt x="984" y="456"/>
                      </a:lnTo>
                      <a:lnTo>
                        <a:pt x="990" y="420"/>
                      </a:lnTo>
                      <a:lnTo>
                        <a:pt x="1041" y="432"/>
                      </a:lnTo>
                      <a:lnTo>
                        <a:pt x="1044" y="405"/>
                      </a:lnTo>
                      <a:lnTo>
                        <a:pt x="1011" y="387"/>
                      </a:lnTo>
                      <a:lnTo>
                        <a:pt x="987" y="366"/>
                      </a:lnTo>
                      <a:lnTo>
                        <a:pt x="891" y="354"/>
                      </a:lnTo>
                      <a:lnTo>
                        <a:pt x="876" y="258"/>
                      </a:lnTo>
                      <a:lnTo>
                        <a:pt x="834" y="189"/>
                      </a:lnTo>
                      <a:lnTo>
                        <a:pt x="765" y="159"/>
                      </a:lnTo>
                      <a:lnTo>
                        <a:pt x="735" y="159"/>
                      </a:lnTo>
                      <a:lnTo>
                        <a:pt x="696" y="117"/>
                      </a:lnTo>
                      <a:lnTo>
                        <a:pt x="657" y="105"/>
                      </a:lnTo>
                      <a:lnTo>
                        <a:pt x="618" y="108"/>
                      </a:lnTo>
                      <a:lnTo>
                        <a:pt x="591" y="69"/>
                      </a:lnTo>
                      <a:lnTo>
                        <a:pt x="567" y="33"/>
                      </a:lnTo>
                      <a:lnTo>
                        <a:pt x="537" y="3"/>
                      </a:lnTo>
                      <a:lnTo>
                        <a:pt x="513" y="0"/>
                      </a:lnTo>
                      <a:lnTo>
                        <a:pt x="480" y="42"/>
                      </a:lnTo>
                      <a:lnTo>
                        <a:pt x="435" y="63"/>
                      </a:lnTo>
                      <a:lnTo>
                        <a:pt x="390" y="111"/>
                      </a:lnTo>
                      <a:lnTo>
                        <a:pt x="363" y="90"/>
                      </a:lnTo>
                      <a:lnTo>
                        <a:pt x="324" y="87"/>
                      </a:lnTo>
                      <a:lnTo>
                        <a:pt x="294" y="30"/>
                      </a:lnTo>
                      <a:lnTo>
                        <a:pt x="282" y="57"/>
                      </a:lnTo>
                      <a:lnTo>
                        <a:pt x="264" y="72"/>
                      </a:lnTo>
                      <a:lnTo>
                        <a:pt x="255" y="93"/>
                      </a:lnTo>
                      <a:lnTo>
                        <a:pt x="228" y="117"/>
                      </a:lnTo>
                      <a:lnTo>
                        <a:pt x="234" y="165"/>
                      </a:lnTo>
                      <a:lnTo>
                        <a:pt x="174" y="165"/>
                      </a:lnTo>
                      <a:lnTo>
                        <a:pt x="138" y="192"/>
                      </a:lnTo>
                      <a:lnTo>
                        <a:pt x="90" y="204"/>
                      </a:lnTo>
                      <a:lnTo>
                        <a:pt x="42" y="282"/>
                      </a:lnTo>
                      <a:lnTo>
                        <a:pt x="60" y="333"/>
                      </a:lnTo>
                      <a:lnTo>
                        <a:pt x="3" y="360"/>
                      </a:lnTo>
                      <a:lnTo>
                        <a:pt x="0" y="384"/>
                      </a:lnTo>
                      <a:lnTo>
                        <a:pt x="63" y="513"/>
                      </a:lnTo>
                      <a:lnTo>
                        <a:pt x="138" y="573"/>
                      </a:lnTo>
                      <a:lnTo>
                        <a:pt x="147" y="618"/>
                      </a:lnTo>
                      <a:lnTo>
                        <a:pt x="156" y="648"/>
                      </a:lnTo>
                      <a:close/>
                    </a:path>
                  </a:pathLst>
                </a:custGeom>
                <a:solidFill>
                  <a:srgbClr val="ff9469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470240" y="4244760"/>
                  <a:ext cx="1672920" cy="396360"/>
                </a:xfrm>
                <a:custGeom>
                  <a:avLst/>
                  <a:gdLst/>
                  <a:ahLst/>
                  <a:rect l="l" t="t" r="r" b="b"/>
                  <a:pathLst>
                    <a:path w="1320" h="987">
                      <a:moveTo>
                        <a:pt x="21" y="786"/>
                      </a:moveTo>
                      <a:lnTo>
                        <a:pt x="42" y="834"/>
                      </a:lnTo>
                      <a:lnTo>
                        <a:pt x="81" y="840"/>
                      </a:lnTo>
                      <a:lnTo>
                        <a:pt x="111" y="858"/>
                      </a:lnTo>
                      <a:lnTo>
                        <a:pt x="153" y="813"/>
                      </a:lnTo>
                      <a:lnTo>
                        <a:pt x="204" y="783"/>
                      </a:lnTo>
                      <a:lnTo>
                        <a:pt x="231" y="747"/>
                      </a:lnTo>
                      <a:lnTo>
                        <a:pt x="264" y="750"/>
                      </a:lnTo>
                      <a:lnTo>
                        <a:pt x="312" y="816"/>
                      </a:lnTo>
                      <a:lnTo>
                        <a:pt x="339" y="855"/>
                      </a:lnTo>
                      <a:lnTo>
                        <a:pt x="390" y="855"/>
                      </a:lnTo>
                      <a:lnTo>
                        <a:pt x="432" y="876"/>
                      </a:lnTo>
                      <a:lnTo>
                        <a:pt x="456" y="909"/>
                      </a:lnTo>
                      <a:lnTo>
                        <a:pt x="489" y="906"/>
                      </a:lnTo>
                      <a:lnTo>
                        <a:pt x="558" y="939"/>
                      </a:lnTo>
                      <a:lnTo>
                        <a:pt x="585" y="987"/>
                      </a:lnTo>
                      <a:lnTo>
                        <a:pt x="663" y="945"/>
                      </a:lnTo>
                      <a:lnTo>
                        <a:pt x="756" y="888"/>
                      </a:lnTo>
                      <a:lnTo>
                        <a:pt x="822" y="873"/>
                      </a:lnTo>
                      <a:lnTo>
                        <a:pt x="837" y="840"/>
                      </a:lnTo>
                      <a:lnTo>
                        <a:pt x="882" y="828"/>
                      </a:lnTo>
                      <a:lnTo>
                        <a:pt x="918" y="792"/>
                      </a:lnTo>
                      <a:lnTo>
                        <a:pt x="855" y="783"/>
                      </a:lnTo>
                      <a:lnTo>
                        <a:pt x="654" y="822"/>
                      </a:lnTo>
                      <a:lnTo>
                        <a:pt x="588" y="798"/>
                      </a:lnTo>
                      <a:lnTo>
                        <a:pt x="555" y="816"/>
                      </a:lnTo>
                      <a:lnTo>
                        <a:pt x="519" y="771"/>
                      </a:lnTo>
                      <a:lnTo>
                        <a:pt x="582" y="714"/>
                      </a:lnTo>
                      <a:lnTo>
                        <a:pt x="609" y="624"/>
                      </a:lnTo>
                      <a:lnTo>
                        <a:pt x="720" y="525"/>
                      </a:lnTo>
                      <a:lnTo>
                        <a:pt x="777" y="501"/>
                      </a:lnTo>
                      <a:lnTo>
                        <a:pt x="837" y="498"/>
                      </a:lnTo>
                      <a:lnTo>
                        <a:pt x="885" y="477"/>
                      </a:lnTo>
                      <a:lnTo>
                        <a:pt x="924" y="390"/>
                      </a:lnTo>
                      <a:lnTo>
                        <a:pt x="993" y="357"/>
                      </a:lnTo>
                      <a:lnTo>
                        <a:pt x="993" y="312"/>
                      </a:lnTo>
                      <a:lnTo>
                        <a:pt x="1038" y="237"/>
                      </a:lnTo>
                      <a:lnTo>
                        <a:pt x="1104" y="231"/>
                      </a:lnTo>
                      <a:lnTo>
                        <a:pt x="1149" y="201"/>
                      </a:lnTo>
                      <a:lnTo>
                        <a:pt x="1188" y="264"/>
                      </a:lnTo>
                      <a:lnTo>
                        <a:pt x="1200" y="285"/>
                      </a:lnTo>
                      <a:lnTo>
                        <a:pt x="1251" y="312"/>
                      </a:lnTo>
                      <a:lnTo>
                        <a:pt x="1272" y="354"/>
                      </a:lnTo>
                      <a:lnTo>
                        <a:pt x="1287" y="369"/>
                      </a:lnTo>
                      <a:lnTo>
                        <a:pt x="1320" y="360"/>
                      </a:lnTo>
                      <a:lnTo>
                        <a:pt x="1314" y="309"/>
                      </a:lnTo>
                      <a:lnTo>
                        <a:pt x="1095" y="9"/>
                      </a:lnTo>
                      <a:lnTo>
                        <a:pt x="1056" y="0"/>
                      </a:lnTo>
                      <a:lnTo>
                        <a:pt x="963" y="75"/>
                      </a:lnTo>
                      <a:lnTo>
                        <a:pt x="870" y="93"/>
                      </a:lnTo>
                      <a:lnTo>
                        <a:pt x="759" y="87"/>
                      </a:lnTo>
                      <a:lnTo>
                        <a:pt x="744" y="156"/>
                      </a:lnTo>
                      <a:lnTo>
                        <a:pt x="741" y="177"/>
                      </a:lnTo>
                      <a:lnTo>
                        <a:pt x="585" y="303"/>
                      </a:lnTo>
                      <a:lnTo>
                        <a:pt x="552" y="342"/>
                      </a:lnTo>
                      <a:lnTo>
                        <a:pt x="492" y="363"/>
                      </a:lnTo>
                      <a:lnTo>
                        <a:pt x="426" y="417"/>
                      </a:lnTo>
                      <a:lnTo>
                        <a:pt x="378" y="342"/>
                      </a:lnTo>
                      <a:lnTo>
                        <a:pt x="300" y="327"/>
                      </a:lnTo>
                      <a:lnTo>
                        <a:pt x="270" y="276"/>
                      </a:lnTo>
                      <a:lnTo>
                        <a:pt x="228" y="303"/>
                      </a:lnTo>
                      <a:lnTo>
                        <a:pt x="165" y="345"/>
                      </a:lnTo>
                      <a:lnTo>
                        <a:pt x="120" y="381"/>
                      </a:lnTo>
                      <a:lnTo>
                        <a:pt x="0" y="444"/>
                      </a:lnTo>
                      <a:lnTo>
                        <a:pt x="6" y="486"/>
                      </a:lnTo>
                      <a:lnTo>
                        <a:pt x="36" y="537"/>
                      </a:lnTo>
                      <a:lnTo>
                        <a:pt x="6" y="588"/>
                      </a:lnTo>
                      <a:lnTo>
                        <a:pt x="54" y="705"/>
                      </a:lnTo>
                      <a:lnTo>
                        <a:pt x="21" y="786"/>
                      </a:lnTo>
                      <a:close/>
                    </a:path>
                  </a:pathLst>
                </a:custGeom>
                <a:solidFill>
                  <a:srgbClr val="00dfca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124360" y="4326480"/>
                  <a:ext cx="1467360" cy="246960"/>
                </a:xfrm>
                <a:custGeom>
                  <a:avLst/>
                  <a:gdLst/>
                  <a:ahLst/>
                  <a:rect l="l" t="t" r="r" b="b"/>
                  <a:pathLst>
                    <a:path w="1158" h="615">
                      <a:moveTo>
                        <a:pt x="1146" y="132"/>
                      </a:moveTo>
                      <a:lnTo>
                        <a:pt x="1152" y="177"/>
                      </a:lnTo>
                      <a:lnTo>
                        <a:pt x="1158" y="216"/>
                      </a:lnTo>
                      <a:lnTo>
                        <a:pt x="1146" y="261"/>
                      </a:lnTo>
                      <a:lnTo>
                        <a:pt x="1062" y="288"/>
                      </a:lnTo>
                      <a:lnTo>
                        <a:pt x="1002" y="309"/>
                      </a:lnTo>
                      <a:lnTo>
                        <a:pt x="963" y="339"/>
                      </a:lnTo>
                      <a:lnTo>
                        <a:pt x="864" y="390"/>
                      </a:lnTo>
                      <a:lnTo>
                        <a:pt x="801" y="447"/>
                      </a:lnTo>
                      <a:lnTo>
                        <a:pt x="705" y="573"/>
                      </a:lnTo>
                      <a:lnTo>
                        <a:pt x="636" y="564"/>
                      </a:lnTo>
                      <a:lnTo>
                        <a:pt x="561" y="543"/>
                      </a:lnTo>
                      <a:lnTo>
                        <a:pt x="507" y="594"/>
                      </a:lnTo>
                      <a:lnTo>
                        <a:pt x="447" y="579"/>
                      </a:lnTo>
                      <a:lnTo>
                        <a:pt x="396" y="588"/>
                      </a:lnTo>
                      <a:lnTo>
                        <a:pt x="339" y="576"/>
                      </a:lnTo>
                      <a:lnTo>
                        <a:pt x="138" y="615"/>
                      </a:lnTo>
                      <a:lnTo>
                        <a:pt x="69" y="594"/>
                      </a:lnTo>
                      <a:lnTo>
                        <a:pt x="39" y="609"/>
                      </a:lnTo>
                      <a:lnTo>
                        <a:pt x="0" y="564"/>
                      </a:lnTo>
                      <a:lnTo>
                        <a:pt x="75" y="504"/>
                      </a:lnTo>
                      <a:lnTo>
                        <a:pt x="99" y="414"/>
                      </a:lnTo>
                      <a:lnTo>
                        <a:pt x="207" y="318"/>
                      </a:lnTo>
                      <a:lnTo>
                        <a:pt x="267" y="294"/>
                      </a:lnTo>
                      <a:lnTo>
                        <a:pt x="321" y="297"/>
                      </a:lnTo>
                      <a:lnTo>
                        <a:pt x="378" y="267"/>
                      </a:lnTo>
                      <a:lnTo>
                        <a:pt x="411" y="183"/>
                      </a:lnTo>
                      <a:lnTo>
                        <a:pt x="480" y="153"/>
                      </a:lnTo>
                      <a:lnTo>
                        <a:pt x="480" y="105"/>
                      </a:lnTo>
                      <a:lnTo>
                        <a:pt x="531" y="30"/>
                      </a:lnTo>
                      <a:lnTo>
                        <a:pt x="597" y="30"/>
                      </a:lnTo>
                      <a:lnTo>
                        <a:pt x="636" y="0"/>
                      </a:lnTo>
                      <a:lnTo>
                        <a:pt x="678" y="78"/>
                      </a:lnTo>
                      <a:lnTo>
                        <a:pt x="741" y="114"/>
                      </a:lnTo>
                      <a:lnTo>
                        <a:pt x="759" y="165"/>
                      </a:lnTo>
                      <a:lnTo>
                        <a:pt x="807" y="162"/>
                      </a:lnTo>
                      <a:lnTo>
                        <a:pt x="807" y="201"/>
                      </a:lnTo>
                      <a:lnTo>
                        <a:pt x="837" y="213"/>
                      </a:lnTo>
                      <a:lnTo>
                        <a:pt x="945" y="168"/>
                      </a:lnTo>
                      <a:lnTo>
                        <a:pt x="972" y="111"/>
                      </a:lnTo>
                      <a:lnTo>
                        <a:pt x="1074" y="93"/>
                      </a:lnTo>
                      <a:lnTo>
                        <a:pt x="1074" y="66"/>
                      </a:lnTo>
                      <a:lnTo>
                        <a:pt x="1131" y="78"/>
                      </a:lnTo>
                      <a:lnTo>
                        <a:pt x="1140" y="111"/>
                      </a:lnTo>
                      <a:lnTo>
                        <a:pt x="1146" y="132"/>
                      </a:lnTo>
                      <a:close/>
                    </a:path>
                  </a:pathLst>
                </a:custGeom>
                <a:solidFill>
                  <a:srgbClr val="00cc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204280" y="4545000"/>
                  <a:ext cx="798120" cy="194040"/>
                </a:xfrm>
                <a:custGeom>
                  <a:avLst/>
                  <a:gdLst/>
                  <a:ahLst/>
                  <a:rect l="l" t="t" r="r" b="b"/>
                  <a:pathLst>
                    <a:path w="630" h="483">
                      <a:moveTo>
                        <a:pt x="0" y="240"/>
                      </a:moveTo>
                      <a:lnTo>
                        <a:pt x="186" y="135"/>
                      </a:lnTo>
                      <a:lnTo>
                        <a:pt x="255" y="120"/>
                      </a:lnTo>
                      <a:lnTo>
                        <a:pt x="264" y="90"/>
                      </a:lnTo>
                      <a:lnTo>
                        <a:pt x="312" y="78"/>
                      </a:lnTo>
                      <a:lnTo>
                        <a:pt x="339" y="39"/>
                      </a:lnTo>
                      <a:lnTo>
                        <a:pt x="396" y="33"/>
                      </a:lnTo>
                      <a:lnTo>
                        <a:pt x="444" y="51"/>
                      </a:lnTo>
                      <a:lnTo>
                        <a:pt x="501" y="0"/>
                      </a:lnTo>
                      <a:lnTo>
                        <a:pt x="630" y="30"/>
                      </a:lnTo>
                      <a:lnTo>
                        <a:pt x="627" y="60"/>
                      </a:lnTo>
                      <a:lnTo>
                        <a:pt x="600" y="81"/>
                      </a:lnTo>
                      <a:lnTo>
                        <a:pt x="594" y="144"/>
                      </a:lnTo>
                      <a:lnTo>
                        <a:pt x="573" y="174"/>
                      </a:lnTo>
                      <a:lnTo>
                        <a:pt x="522" y="186"/>
                      </a:lnTo>
                      <a:lnTo>
                        <a:pt x="501" y="189"/>
                      </a:lnTo>
                      <a:lnTo>
                        <a:pt x="507" y="246"/>
                      </a:lnTo>
                      <a:lnTo>
                        <a:pt x="480" y="282"/>
                      </a:lnTo>
                      <a:lnTo>
                        <a:pt x="486" y="378"/>
                      </a:lnTo>
                      <a:lnTo>
                        <a:pt x="576" y="474"/>
                      </a:lnTo>
                      <a:lnTo>
                        <a:pt x="492" y="483"/>
                      </a:lnTo>
                      <a:lnTo>
                        <a:pt x="288" y="387"/>
                      </a:lnTo>
                      <a:lnTo>
                        <a:pt x="231" y="432"/>
                      </a:lnTo>
                      <a:lnTo>
                        <a:pt x="132" y="405"/>
                      </a:lnTo>
                      <a:lnTo>
                        <a:pt x="129" y="366"/>
                      </a:lnTo>
                      <a:lnTo>
                        <a:pt x="24" y="351"/>
                      </a:lnTo>
                      <a:lnTo>
                        <a:pt x="18" y="267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812680" y="4483440"/>
                  <a:ext cx="1437120" cy="360360"/>
                </a:xfrm>
                <a:custGeom>
                  <a:avLst/>
                  <a:gdLst/>
                  <a:ahLst/>
                  <a:rect l="l" t="t" r="r" b="b"/>
                  <a:pathLst>
                    <a:path w="1134" h="897">
                      <a:moveTo>
                        <a:pt x="315" y="0"/>
                      </a:moveTo>
                      <a:lnTo>
                        <a:pt x="345" y="45"/>
                      </a:lnTo>
                      <a:lnTo>
                        <a:pt x="336" y="150"/>
                      </a:lnTo>
                      <a:lnTo>
                        <a:pt x="321" y="240"/>
                      </a:lnTo>
                      <a:lnTo>
                        <a:pt x="354" y="270"/>
                      </a:lnTo>
                      <a:lnTo>
                        <a:pt x="342" y="348"/>
                      </a:lnTo>
                      <a:lnTo>
                        <a:pt x="348" y="393"/>
                      </a:lnTo>
                      <a:lnTo>
                        <a:pt x="390" y="411"/>
                      </a:lnTo>
                      <a:lnTo>
                        <a:pt x="537" y="432"/>
                      </a:lnTo>
                      <a:lnTo>
                        <a:pt x="570" y="420"/>
                      </a:lnTo>
                      <a:lnTo>
                        <a:pt x="597" y="354"/>
                      </a:lnTo>
                      <a:lnTo>
                        <a:pt x="651" y="312"/>
                      </a:lnTo>
                      <a:lnTo>
                        <a:pt x="681" y="312"/>
                      </a:lnTo>
                      <a:lnTo>
                        <a:pt x="708" y="288"/>
                      </a:lnTo>
                      <a:lnTo>
                        <a:pt x="777" y="273"/>
                      </a:lnTo>
                      <a:lnTo>
                        <a:pt x="819" y="315"/>
                      </a:lnTo>
                      <a:lnTo>
                        <a:pt x="861" y="312"/>
                      </a:lnTo>
                      <a:lnTo>
                        <a:pt x="978" y="357"/>
                      </a:lnTo>
                      <a:lnTo>
                        <a:pt x="1104" y="378"/>
                      </a:lnTo>
                      <a:lnTo>
                        <a:pt x="1134" y="420"/>
                      </a:lnTo>
                      <a:lnTo>
                        <a:pt x="1122" y="471"/>
                      </a:lnTo>
                      <a:lnTo>
                        <a:pt x="1065" y="462"/>
                      </a:lnTo>
                      <a:lnTo>
                        <a:pt x="1029" y="528"/>
                      </a:lnTo>
                      <a:lnTo>
                        <a:pt x="966" y="477"/>
                      </a:lnTo>
                      <a:lnTo>
                        <a:pt x="930" y="471"/>
                      </a:lnTo>
                      <a:lnTo>
                        <a:pt x="867" y="507"/>
                      </a:lnTo>
                      <a:lnTo>
                        <a:pt x="753" y="471"/>
                      </a:lnTo>
                      <a:lnTo>
                        <a:pt x="681" y="486"/>
                      </a:lnTo>
                      <a:lnTo>
                        <a:pt x="669" y="510"/>
                      </a:lnTo>
                      <a:lnTo>
                        <a:pt x="687" y="546"/>
                      </a:lnTo>
                      <a:lnTo>
                        <a:pt x="678" y="579"/>
                      </a:lnTo>
                      <a:lnTo>
                        <a:pt x="588" y="633"/>
                      </a:lnTo>
                      <a:lnTo>
                        <a:pt x="567" y="678"/>
                      </a:lnTo>
                      <a:lnTo>
                        <a:pt x="567" y="708"/>
                      </a:lnTo>
                      <a:lnTo>
                        <a:pt x="648" y="732"/>
                      </a:lnTo>
                      <a:lnTo>
                        <a:pt x="657" y="801"/>
                      </a:lnTo>
                      <a:lnTo>
                        <a:pt x="702" y="897"/>
                      </a:lnTo>
                      <a:lnTo>
                        <a:pt x="612" y="858"/>
                      </a:lnTo>
                      <a:lnTo>
                        <a:pt x="396" y="852"/>
                      </a:lnTo>
                      <a:lnTo>
                        <a:pt x="267" y="825"/>
                      </a:lnTo>
                      <a:lnTo>
                        <a:pt x="231" y="816"/>
                      </a:lnTo>
                      <a:lnTo>
                        <a:pt x="231" y="750"/>
                      </a:lnTo>
                      <a:lnTo>
                        <a:pt x="204" y="717"/>
                      </a:lnTo>
                      <a:lnTo>
                        <a:pt x="129" y="681"/>
                      </a:lnTo>
                      <a:lnTo>
                        <a:pt x="84" y="609"/>
                      </a:lnTo>
                      <a:lnTo>
                        <a:pt x="6" y="528"/>
                      </a:lnTo>
                      <a:lnTo>
                        <a:pt x="0" y="471"/>
                      </a:lnTo>
                      <a:lnTo>
                        <a:pt x="3" y="429"/>
                      </a:lnTo>
                      <a:lnTo>
                        <a:pt x="30" y="399"/>
                      </a:lnTo>
                      <a:lnTo>
                        <a:pt x="24" y="339"/>
                      </a:lnTo>
                      <a:lnTo>
                        <a:pt x="99" y="327"/>
                      </a:lnTo>
                      <a:lnTo>
                        <a:pt x="120" y="297"/>
                      </a:lnTo>
                      <a:lnTo>
                        <a:pt x="120" y="234"/>
                      </a:lnTo>
                      <a:lnTo>
                        <a:pt x="150" y="210"/>
                      </a:lnTo>
                      <a:lnTo>
                        <a:pt x="159" y="180"/>
                      </a:lnTo>
                      <a:lnTo>
                        <a:pt x="264" y="48"/>
                      </a:lnTo>
                      <a:lnTo>
                        <a:pt x="315" y="0"/>
                      </a:lnTo>
                      <a:close/>
                    </a:path>
                  </a:pathLst>
                </a:custGeom>
                <a:solidFill>
                  <a:srgbClr val="019470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219480" y="4376160"/>
                  <a:ext cx="642240" cy="279720"/>
                </a:xfrm>
                <a:custGeom>
                  <a:avLst/>
                  <a:gdLst/>
                  <a:ahLst/>
                  <a:rect l="l" t="t" r="r" b="b"/>
                  <a:pathLst>
                    <a:path w="507" h="696">
                      <a:moveTo>
                        <a:pt x="0" y="270"/>
                      </a:moveTo>
                      <a:lnTo>
                        <a:pt x="27" y="315"/>
                      </a:lnTo>
                      <a:lnTo>
                        <a:pt x="0" y="513"/>
                      </a:lnTo>
                      <a:lnTo>
                        <a:pt x="33" y="537"/>
                      </a:lnTo>
                      <a:lnTo>
                        <a:pt x="27" y="603"/>
                      </a:lnTo>
                      <a:lnTo>
                        <a:pt x="24" y="624"/>
                      </a:lnTo>
                      <a:lnTo>
                        <a:pt x="33" y="660"/>
                      </a:lnTo>
                      <a:lnTo>
                        <a:pt x="75" y="678"/>
                      </a:lnTo>
                      <a:lnTo>
                        <a:pt x="174" y="690"/>
                      </a:lnTo>
                      <a:lnTo>
                        <a:pt x="222" y="696"/>
                      </a:lnTo>
                      <a:lnTo>
                        <a:pt x="255" y="687"/>
                      </a:lnTo>
                      <a:lnTo>
                        <a:pt x="279" y="612"/>
                      </a:lnTo>
                      <a:lnTo>
                        <a:pt x="330" y="576"/>
                      </a:lnTo>
                      <a:lnTo>
                        <a:pt x="363" y="576"/>
                      </a:lnTo>
                      <a:lnTo>
                        <a:pt x="390" y="555"/>
                      </a:lnTo>
                      <a:lnTo>
                        <a:pt x="450" y="543"/>
                      </a:lnTo>
                      <a:lnTo>
                        <a:pt x="432" y="495"/>
                      </a:lnTo>
                      <a:lnTo>
                        <a:pt x="393" y="414"/>
                      </a:lnTo>
                      <a:lnTo>
                        <a:pt x="438" y="333"/>
                      </a:lnTo>
                      <a:lnTo>
                        <a:pt x="465" y="264"/>
                      </a:lnTo>
                      <a:lnTo>
                        <a:pt x="507" y="210"/>
                      </a:lnTo>
                      <a:lnTo>
                        <a:pt x="492" y="90"/>
                      </a:lnTo>
                      <a:lnTo>
                        <a:pt x="393" y="51"/>
                      </a:lnTo>
                      <a:lnTo>
                        <a:pt x="318" y="0"/>
                      </a:lnTo>
                      <a:lnTo>
                        <a:pt x="279" y="0"/>
                      </a:lnTo>
                      <a:lnTo>
                        <a:pt x="291" y="66"/>
                      </a:lnTo>
                      <a:lnTo>
                        <a:pt x="294" y="99"/>
                      </a:lnTo>
                      <a:lnTo>
                        <a:pt x="279" y="144"/>
                      </a:lnTo>
                      <a:lnTo>
                        <a:pt x="141" y="183"/>
                      </a:lnTo>
                      <a:lnTo>
                        <a:pt x="84" y="228"/>
                      </a:lnTo>
                      <a:lnTo>
                        <a:pt x="0" y="27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717720" y="4384440"/>
                  <a:ext cx="1053000" cy="279720"/>
                </a:xfrm>
                <a:custGeom>
                  <a:avLst/>
                  <a:gdLst/>
                  <a:ahLst/>
                  <a:rect l="l" t="t" r="r" b="b"/>
                  <a:pathLst>
                    <a:path w="831" h="696">
                      <a:moveTo>
                        <a:pt x="132" y="180"/>
                      </a:moveTo>
                      <a:lnTo>
                        <a:pt x="75" y="237"/>
                      </a:lnTo>
                      <a:lnTo>
                        <a:pt x="42" y="327"/>
                      </a:lnTo>
                      <a:lnTo>
                        <a:pt x="0" y="390"/>
                      </a:lnTo>
                      <a:lnTo>
                        <a:pt x="48" y="489"/>
                      </a:lnTo>
                      <a:lnTo>
                        <a:pt x="75" y="537"/>
                      </a:lnTo>
                      <a:lnTo>
                        <a:pt x="111" y="561"/>
                      </a:lnTo>
                      <a:lnTo>
                        <a:pt x="156" y="558"/>
                      </a:lnTo>
                      <a:lnTo>
                        <a:pt x="285" y="606"/>
                      </a:lnTo>
                      <a:lnTo>
                        <a:pt x="396" y="630"/>
                      </a:lnTo>
                      <a:lnTo>
                        <a:pt x="432" y="660"/>
                      </a:lnTo>
                      <a:lnTo>
                        <a:pt x="480" y="663"/>
                      </a:lnTo>
                      <a:lnTo>
                        <a:pt x="510" y="696"/>
                      </a:lnTo>
                      <a:lnTo>
                        <a:pt x="555" y="687"/>
                      </a:lnTo>
                      <a:lnTo>
                        <a:pt x="507" y="636"/>
                      </a:lnTo>
                      <a:lnTo>
                        <a:pt x="486" y="528"/>
                      </a:lnTo>
                      <a:lnTo>
                        <a:pt x="543" y="435"/>
                      </a:lnTo>
                      <a:lnTo>
                        <a:pt x="738" y="351"/>
                      </a:lnTo>
                      <a:lnTo>
                        <a:pt x="831" y="294"/>
                      </a:lnTo>
                      <a:lnTo>
                        <a:pt x="816" y="255"/>
                      </a:lnTo>
                      <a:lnTo>
                        <a:pt x="699" y="156"/>
                      </a:lnTo>
                      <a:lnTo>
                        <a:pt x="633" y="135"/>
                      </a:lnTo>
                      <a:lnTo>
                        <a:pt x="522" y="36"/>
                      </a:lnTo>
                      <a:lnTo>
                        <a:pt x="471" y="0"/>
                      </a:lnTo>
                      <a:lnTo>
                        <a:pt x="399" y="84"/>
                      </a:lnTo>
                      <a:lnTo>
                        <a:pt x="384" y="129"/>
                      </a:lnTo>
                      <a:lnTo>
                        <a:pt x="321" y="162"/>
                      </a:lnTo>
                      <a:lnTo>
                        <a:pt x="276" y="132"/>
                      </a:lnTo>
                      <a:lnTo>
                        <a:pt x="195" y="153"/>
                      </a:lnTo>
                      <a:lnTo>
                        <a:pt x="132" y="18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972360" y="4244760"/>
                  <a:ext cx="3790440" cy="857160"/>
                  <a:chOff x="972360" y="4244760"/>
                  <a:chExt cx="3790440" cy="85716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987480" y="4632840"/>
                    <a:ext cx="33840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002">
                        <a:moveTo>
                          <a:pt x="0" y="1002"/>
                        </a:moveTo>
                        <a:lnTo>
                          <a:pt x="39" y="966"/>
                        </a:lnTo>
                        <a:lnTo>
                          <a:pt x="54" y="921"/>
                        </a:lnTo>
                        <a:lnTo>
                          <a:pt x="111" y="876"/>
                        </a:lnTo>
                        <a:lnTo>
                          <a:pt x="126" y="807"/>
                        </a:lnTo>
                        <a:lnTo>
                          <a:pt x="105" y="756"/>
                        </a:lnTo>
                        <a:lnTo>
                          <a:pt x="135" y="699"/>
                        </a:lnTo>
                        <a:lnTo>
                          <a:pt x="144" y="645"/>
                        </a:lnTo>
                        <a:lnTo>
                          <a:pt x="174" y="606"/>
                        </a:lnTo>
                        <a:lnTo>
                          <a:pt x="216" y="510"/>
                        </a:lnTo>
                        <a:lnTo>
                          <a:pt x="252" y="423"/>
                        </a:lnTo>
                        <a:lnTo>
                          <a:pt x="267" y="381"/>
                        </a:lnTo>
                        <a:lnTo>
                          <a:pt x="255" y="339"/>
                        </a:lnTo>
                        <a:lnTo>
                          <a:pt x="216" y="303"/>
                        </a:lnTo>
                        <a:lnTo>
                          <a:pt x="180" y="276"/>
                        </a:lnTo>
                        <a:lnTo>
                          <a:pt x="159" y="231"/>
                        </a:lnTo>
                        <a:lnTo>
                          <a:pt x="138" y="189"/>
                        </a:lnTo>
                        <a:lnTo>
                          <a:pt x="120" y="156"/>
                        </a:lnTo>
                        <a:lnTo>
                          <a:pt x="123" y="129"/>
                        </a:lnTo>
                        <a:lnTo>
                          <a:pt x="141" y="120"/>
                        </a:lnTo>
                        <a:lnTo>
                          <a:pt x="165" y="120"/>
                        </a:lnTo>
                        <a:lnTo>
                          <a:pt x="183" y="105"/>
                        </a:lnTo>
                        <a:cubicBezTo>
                          <a:pt x="177" y="89"/>
                          <a:pt x="165" y="64"/>
                          <a:pt x="165" y="45"/>
                        </a:cubicBezTo>
                        <a:lnTo>
                          <a:pt x="198" y="0"/>
                        </a:lnTo>
                      </a:path>
                    </a:pathLst>
                  </a:custGeom>
                  <a:noFill/>
                  <a:ln w="57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234440" y="4435200"/>
                    <a:ext cx="30384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501">
                        <a:moveTo>
                          <a:pt x="0" y="501"/>
                        </a:moveTo>
                        <a:lnTo>
                          <a:pt x="21" y="468"/>
                        </a:lnTo>
                        <a:lnTo>
                          <a:pt x="78" y="453"/>
                        </a:lnTo>
                        <a:lnTo>
                          <a:pt x="96" y="423"/>
                        </a:lnTo>
                        <a:lnTo>
                          <a:pt x="150" y="435"/>
                        </a:lnTo>
                        <a:lnTo>
                          <a:pt x="165" y="411"/>
                        </a:lnTo>
                        <a:lnTo>
                          <a:pt x="153" y="390"/>
                        </a:lnTo>
                        <a:lnTo>
                          <a:pt x="150" y="372"/>
                        </a:lnTo>
                        <a:lnTo>
                          <a:pt x="183" y="354"/>
                        </a:lnTo>
                        <a:lnTo>
                          <a:pt x="189" y="330"/>
                        </a:lnTo>
                        <a:lnTo>
                          <a:pt x="216" y="318"/>
                        </a:lnTo>
                        <a:lnTo>
                          <a:pt x="240" y="237"/>
                        </a:lnTo>
                        <a:lnTo>
                          <a:pt x="231" y="204"/>
                        </a:lnTo>
                        <a:lnTo>
                          <a:pt x="213" y="156"/>
                        </a:lnTo>
                        <a:lnTo>
                          <a:pt x="204" y="135"/>
                        </a:lnTo>
                        <a:lnTo>
                          <a:pt x="192" y="114"/>
                        </a:lnTo>
                        <a:lnTo>
                          <a:pt x="195" y="96"/>
                        </a:lnTo>
                        <a:lnTo>
                          <a:pt x="213" y="72"/>
                        </a:lnTo>
                        <a:lnTo>
                          <a:pt x="228" y="60"/>
                        </a:lnTo>
                        <a:lnTo>
                          <a:pt x="210" y="30"/>
                        </a:lnTo>
                        <a:lnTo>
                          <a:pt x="198" y="0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109160" y="4704120"/>
                    <a:ext cx="2630880" cy="39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76" h="978">
                        <a:moveTo>
                          <a:pt x="0" y="978"/>
                        </a:moveTo>
                        <a:lnTo>
                          <a:pt x="39" y="951"/>
                        </a:lnTo>
                        <a:lnTo>
                          <a:pt x="57" y="909"/>
                        </a:lnTo>
                        <a:lnTo>
                          <a:pt x="66" y="873"/>
                        </a:lnTo>
                        <a:lnTo>
                          <a:pt x="90" y="849"/>
                        </a:lnTo>
                        <a:lnTo>
                          <a:pt x="120" y="810"/>
                        </a:lnTo>
                        <a:lnTo>
                          <a:pt x="153" y="780"/>
                        </a:lnTo>
                        <a:lnTo>
                          <a:pt x="183" y="738"/>
                        </a:lnTo>
                        <a:lnTo>
                          <a:pt x="219" y="696"/>
                        </a:lnTo>
                        <a:lnTo>
                          <a:pt x="222" y="648"/>
                        </a:lnTo>
                        <a:lnTo>
                          <a:pt x="237" y="585"/>
                        </a:lnTo>
                        <a:lnTo>
                          <a:pt x="246" y="546"/>
                        </a:lnTo>
                        <a:lnTo>
                          <a:pt x="273" y="534"/>
                        </a:lnTo>
                        <a:lnTo>
                          <a:pt x="327" y="519"/>
                        </a:lnTo>
                        <a:lnTo>
                          <a:pt x="351" y="501"/>
                        </a:lnTo>
                        <a:lnTo>
                          <a:pt x="357" y="477"/>
                        </a:lnTo>
                        <a:lnTo>
                          <a:pt x="360" y="447"/>
                        </a:lnTo>
                        <a:lnTo>
                          <a:pt x="372" y="429"/>
                        </a:lnTo>
                        <a:lnTo>
                          <a:pt x="396" y="408"/>
                        </a:lnTo>
                        <a:lnTo>
                          <a:pt x="435" y="390"/>
                        </a:lnTo>
                        <a:lnTo>
                          <a:pt x="474" y="384"/>
                        </a:lnTo>
                        <a:lnTo>
                          <a:pt x="486" y="345"/>
                        </a:lnTo>
                        <a:lnTo>
                          <a:pt x="483" y="315"/>
                        </a:lnTo>
                        <a:lnTo>
                          <a:pt x="555" y="258"/>
                        </a:lnTo>
                        <a:lnTo>
                          <a:pt x="597" y="210"/>
                        </a:lnTo>
                        <a:lnTo>
                          <a:pt x="657" y="180"/>
                        </a:lnTo>
                        <a:lnTo>
                          <a:pt x="690" y="171"/>
                        </a:lnTo>
                        <a:lnTo>
                          <a:pt x="723" y="165"/>
                        </a:lnTo>
                        <a:lnTo>
                          <a:pt x="741" y="144"/>
                        </a:lnTo>
                        <a:lnTo>
                          <a:pt x="819" y="141"/>
                        </a:lnTo>
                        <a:lnTo>
                          <a:pt x="870" y="114"/>
                        </a:lnTo>
                        <a:lnTo>
                          <a:pt x="963" y="111"/>
                        </a:lnTo>
                        <a:lnTo>
                          <a:pt x="966" y="87"/>
                        </a:lnTo>
                        <a:lnTo>
                          <a:pt x="1005" y="51"/>
                        </a:lnTo>
                        <a:lnTo>
                          <a:pt x="1014" y="9"/>
                        </a:lnTo>
                        <a:lnTo>
                          <a:pt x="1074" y="27"/>
                        </a:lnTo>
                        <a:lnTo>
                          <a:pt x="1101" y="39"/>
                        </a:lnTo>
                        <a:lnTo>
                          <a:pt x="1143" y="0"/>
                        </a:lnTo>
                        <a:lnTo>
                          <a:pt x="1173" y="0"/>
                        </a:lnTo>
                        <a:lnTo>
                          <a:pt x="1239" y="42"/>
                        </a:lnTo>
                        <a:lnTo>
                          <a:pt x="1302" y="66"/>
                        </a:lnTo>
                        <a:lnTo>
                          <a:pt x="1359" y="87"/>
                        </a:lnTo>
                        <a:lnTo>
                          <a:pt x="1413" y="84"/>
                        </a:lnTo>
                        <a:lnTo>
                          <a:pt x="1428" y="72"/>
                        </a:lnTo>
                        <a:lnTo>
                          <a:pt x="1440" y="102"/>
                        </a:lnTo>
                        <a:lnTo>
                          <a:pt x="1500" y="156"/>
                        </a:lnTo>
                        <a:lnTo>
                          <a:pt x="1557" y="180"/>
                        </a:lnTo>
                        <a:lnTo>
                          <a:pt x="1566" y="210"/>
                        </a:lnTo>
                        <a:lnTo>
                          <a:pt x="1584" y="222"/>
                        </a:lnTo>
                        <a:lnTo>
                          <a:pt x="1584" y="264"/>
                        </a:lnTo>
                        <a:lnTo>
                          <a:pt x="1659" y="294"/>
                        </a:lnTo>
                        <a:lnTo>
                          <a:pt x="1749" y="306"/>
                        </a:lnTo>
                        <a:lnTo>
                          <a:pt x="1896" y="312"/>
                        </a:lnTo>
                        <a:lnTo>
                          <a:pt x="1965" y="312"/>
                        </a:lnTo>
                        <a:lnTo>
                          <a:pt x="2040" y="333"/>
                        </a:lnTo>
                        <a:lnTo>
                          <a:pt x="2076" y="357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3740040" y="4752360"/>
                    <a:ext cx="8665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4" h="330">
                        <a:moveTo>
                          <a:pt x="0" y="234"/>
                        </a:moveTo>
                        <a:lnTo>
                          <a:pt x="69" y="282"/>
                        </a:lnTo>
                        <a:lnTo>
                          <a:pt x="138" y="309"/>
                        </a:lnTo>
                        <a:lnTo>
                          <a:pt x="186" y="330"/>
                        </a:lnTo>
                        <a:lnTo>
                          <a:pt x="201" y="312"/>
                        </a:lnTo>
                        <a:lnTo>
                          <a:pt x="213" y="273"/>
                        </a:lnTo>
                        <a:lnTo>
                          <a:pt x="225" y="240"/>
                        </a:lnTo>
                        <a:lnTo>
                          <a:pt x="255" y="204"/>
                        </a:lnTo>
                        <a:lnTo>
                          <a:pt x="306" y="171"/>
                        </a:lnTo>
                        <a:lnTo>
                          <a:pt x="363" y="162"/>
                        </a:lnTo>
                        <a:lnTo>
                          <a:pt x="408" y="162"/>
                        </a:lnTo>
                        <a:lnTo>
                          <a:pt x="423" y="138"/>
                        </a:lnTo>
                        <a:lnTo>
                          <a:pt x="471" y="126"/>
                        </a:lnTo>
                        <a:lnTo>
                          <a:pt x="522" y="102"/>
                        </a:lnTo>
                        <a:lnTo>
                          <a:pt x="564" y="66"/>
                        </a:lnTo>
                        <a:lnTo>
                          <a:pt x="594" y="39"/>
                        </a:lnTo>
                        <a:lnTo>
                          <a:pt x="648" y="15"/>
                        </a:lnTo>
                        <a:lnTo>
                          <a:pt x="684" y="0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470240" y="4244760"/>
                    <a:ext cx="261576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4" h="534">
                        <a:moveTo>
                          <a:pt x="6" y="477"/>
                        </a:moveTo>
                        <a:lnTo>
                          <a:pt x="0" y="447"/>
                        </a:lnTo>
                        <a:lnTo>
                          <a:pt x="63" y="405"/>
                        </a:lnTo>
                        <a:lnTo>
                          <a:pt x="105" y="381"/>
                        </a:lnTo>
                        <a:lnTo>
                          <a:pt x="147" y="369"/>
                        </a:lnTo>
                        <a:lnTo>
                          <a:pt x="168" y="330"/>
                        </a:lnTo>
                        <a:lnTo>
                          <a:pt x="204" y="315"/>
                        </a:lnTo>
                        <a:lnTo>
                          <a:pt x="234" y="297"/>
                        </a:lnTo>
                        <a:lnTo>
                          <a:pt x="258" y="264"/>
                        </a:lnTo>
                        <a:lnTo>
                          <a:pt x="279" y="279"/>
                        </a:lnTo>
                        <a:lnTo>
                          <a:pt x="288" y="306"/>
                        </a:lnTo>
                        <a:lnTo>
                          <a:pt x="306" y="327"/>
                        </a:lnTo>
                        <a:lnTo>
                          <a:pt x="357" y="336"/>
                        </a:lnTo>
                        <a:lnTo>
                          <a:pt x="384" y="348"/>
                        </a:lnTo>
                        <a:lnTo>
                          <a:pt x="405" y="375"/>
                        </a:lnTo>
                        <a:lnTo>
                          <a:pt x="420" y="414"/>
                        </a:lnTo>
                        <a:lnTo>
                          <a:pt x="474" y="387"/>
                        </a:lnTo>
                        <a:lnTo>
                          <a:pt x="501" y="357"/>
                        </a:lnTo>
                        <a:lnTo>
                          <a:pt x="549" y="345"/>
                        </a:lnTo>
                        <a:lnTo>
                          <a:pt x="588" y="297"/>
                        </a:lnTo>
                        <a:lnTo>
                          <a:pt x="657" y="246"/>
                        </a:lnTo>
                        <a:lnTo>
                          <a:pt x="702" y="213"/>
                        </a:lnTo>
                        <a:lnTo>
                          <a:pt x="741" y="177"/>
                        </a:lnTo>
                        <a:lnTo>
                          <a:pt x="753" y="135"/>
                        </a:lnTo>
                        <a:lnTo>
                          <a:pt x="756" y="102"/>
                        </a:lnTo>
                        <a:lnTo>
                          <a:pt x="774" y="87"/>
                        </a:lnTo>
                        <a:lnTo>
                          <a:pt x="858" y="93"/>
                        </a:lnTo>
                        <a:lnTo>
                          <a:pt x="912" y="90"/>
                        </a:lnTo>
                        <a:lnTo>
                          <a:pt x="969" y="72"/>
                        </a:lnTo>
                        <a:lnTo>
                          <a:pt x="1029" y="27"/>
                        </a:lnTo>
                        <a:lnTo>
                          <a:pt x="1062" y="0"/>
                        </a:lnTo>
                        <a:lnTo>
                          <a:pt x="1098" y="12"/>
                        </a:lnTo>
                        <a:lnTo>
                          <a:pt x="1131" y="69"/>
                        </a:lnTo>
                        <a:lnTo>
                          <a:pt x="1167" y="117"/>
                        </a:lnTo>
                        <a:lnTo>
                          <a:pt x="1212" y="174"/>
                        </a:lnTo>
                        <a:lnTo>
                          <a:pt x="1260" y="246"/>
                        </a:lnTo>
                        <a:lnTo>
                          <a:pt x="1320" y="321"/>
                        </a:lnTo>
                        <a:lnTo>
                          <a:pt x="1314" y="366"/>
                        </a:lnTo>
                        <a:lnTo>
                          <a:pt x="1323" y="399"/>
                        </a:lnTo>
                        <a:lnTo>
                          <a:pt x="1347" y="414"/>
                        </a:lnTo>
                        <a:lnTo>
                          <a:pt x="1410" y="396"/>
                        </a:lnTo>
                        <a:lnTo>
                          <a:pt x="1449" y="381"/>
                        </a:lnTo>
                        <a:lnTo>
                          <a:pt x="1470" y="351"/>
                        </a:lnTo>
                        <a:lnTo>
                          <a:pt x="1485" y="318"/>
                        </a:lnTo>
                        <a:lnTo>
                          <a:pt x="1551" y="306"/>
                        </a:lnTo>
                        <a:lnTo>
                          <a:pt x="1581" y="297"/>
                        </a:lnTo>
                        <a:lnTo>
                          <a:pt x="1584" y="276"/>
                        </a:lnTo>
                        <a:lnTo>
                          <a:pt x="1644" y="285"/>
                        </a:lnTo>
                        <a:lnTo>
                          <a:pt x="1662" y="315"/>
                        </a:lnTo>
                        <a:lnTo>
                          <a:pt x="1695" y="318"/>
                        </a:lnTo>
                        <a:lnTo>
                          <a:pt x="1743" y="354"/>
                        </a:lnTo>
                        <a:lnTo>
                          <a:pt x="1812" y="408"/>
                        </a:lnTo>
                        <a:lnTo>
                          <a:pt x="1866" y="420"/>
                        </a:lnTo>
                        <a:lnTo>
                          <a:pt x="1881" y="441"/>
                        </a:lnTo>
                        <a:lnTo>
                          <a:pt x="1884" y="483"/>
                        </a:lnTo>
                        <a:lnTo>
                          <a:pt x="1875" y="516"/>
                        </a:lnTo>
                        <a:lnTo>
                          <a:pt x="1881" y="534"/>
                        </a:lnTo>
                        <a:lnTo>
                          <a:pt x="1923" y="525"/>
                        </a:lnTo>
                        <a:lnTo>
                          <a:pt x="1959" y="501"/>
                        </a:lnTo>
                        <a:lnTo>
                          <a:pt x="1998" y="495"/>
                        </a:lnTo>
                        <a:lnTo>
                          <a:pt x="2028" y="483"/>
                        </a:lnTo>
                        <a:lnTo>
                          <a:pt x="2064" y="489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078800" y="4384440"/>
                    <a:ext cx="6840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40" h="921">
                        <a:moveTo>
                          <a:pt x="0" y="141"/>
                        </a:moveTo>
                        <a:cubicBezTo>
                          <a:pt x="24" y="156"/>
                          <a:pt x="36" y="177"/>
                          <a:pt x="57" y="156"/>
                        </a:cubicBezTo>
                        <a:lnTo>
                          <a:pt x="90" y="141"/>
                        </a:lnTo>
                        <a:lnTo>
                          <a:pt x="117" y="72"/>
                        </a:lnTo>
                        <a:lnTo>
                          <a:pt x="168" y="18"/>
                        </a:lnTo>
                        <a:lnTo>
                          <a:pt x="183" y="0"/>
                        </a:lnTo>
                        <a:lnTo>
                          <a:pt x="219" y="21"/>
                        </a:lnTo>
                        <a:lnTo>
                          <a:pt x="363" y="150"/>
                        </a:lnTo>
                        <a:lnTo>
                          <a:pt x="414" y="165"/>
                        </a:lnTo>
                        <a:lnTo>
                          <a:pt x="537" y="273"/>
                        </a:lnTo>
                        <a:lnTo>
                          <a:pt x="540" y="300"/>
                        </a:lnTo>
                        <a:lnTo>
                          <a:pt x="522" y="321"/>
                        </a:lnTo>
                        <a:lnTo>
                          <a:pt x="294" y="420"/>
                        </a:lnTo>
                        <a:lnTo>
                          <a:pt x="234" y="471"/>
                        </a:lnTo>
                        <a:lnTo>
                          <a:pt x="207" y="519"/>
                        </a:lnTo>
                        <a:lnTo>
                          <a:pt x="210" y="579"/>
                        </a:lnTo>
                        <a:lnTo>
                          <a:pt x="222" y="636"/>
                        </a:lnTo>
                        <a:lnTo>
                          <a:pt x="246" y="666"/>
                        </a:lnTo>
                        <a:lnTo>
                          <a:pt x="267" y="699"/>
                        </a:lnTo>
                        <a:lnTo>
                          <a:pt x="282" y="747"/>
                        </a:lnTo>
                        <a:lnTo>
                          <a:pt x="318" y="774"/>
                        </a:lnTo>
                        <a:lnTo>
                          <a:pt x="339" y="801"/>
                        </a:lnTo>
                        <a:lnTo>
                          <a:pt x="345" y="846"/>
                        </a:lnTo>
                        <a:lnTo>
                          <a:pt x="417" y="921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972360" y="5032080"/>
                    <a:ext cx="155880" cy="6984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" name=""/>
                <p:cNvSpPr/>
                <p:nvPr/>
              </p:nvSpPr>
              <p:spPr>
                <a:xfrm>
                  <a:off x="3531240" y="4649760"/>
                  <a:ext cx="1068120" cy="232560"/>
                </a:xfrm>
                <a:custGeom>
                  <a:avLst/>
                  <a:gdLst/>
                  <a:ahLst/>
                  <a:rect l="l" t="t" r="r" b="b"/>
                  <a:pathLst>
                    <a:path w="843" h="579">
                      <a:moveTo>
                        <a:pt x="138" y="483"/>
                      </a:moveTo>
                      <a:lnTo>
                        <a:pt x="87" y="381"/>
                      </a:lnTo>
                      <a:lnTo>
                        <a:pt x="84" y="318"/>
                      </a:lnTo>
                      <a:lnTo>
                        <a:pt x="3" y="294"/>
                      </a:lnTo>
                      <a:lnTo>
                        <a:pt x="0" y="255"/>
                      </a:lnTo>
                      <a:lnTo>
                        <a:pt x="33" y="210"/>
                      </a:lnTo>
                      <a:lnTo>
                        <a:pt x="111" y="171"/>
                      </a:lnTo>
                      <a:lnTo>
                        <a:pt x="123" y="132"/>
                      </a:lnTo>
                      <a:lnTo>
                        <a:pt x="102" y="99"/>
                      </a:lnTo>
                      <a:lnTo>
                        <a:pt x="117" y="72"/>
                      </a:lnTo>
                      <a:lnTo>
                        <a:pt x="186" y="54"/>
                      </a:lnTo>
                      <a:lnTo>
                        <a:pt x="300" y="93"/>
                      </a:lnTo>
                      <a:lnTo>
                        <a:pt x="354" y="63"/>
                      </a:lnTo>
                      <a:lnTo>
                        <a:pt x="393" y="57"/>
                      </a:lnTo>
                      <a:lnTo>
                        <a:pt x="456" y="111"/>
                      </a:lnTo>
                      <a:lnTo>
                        <a:pt x="474" y="111"/>
                      </a:lnTo>
                      <a:lnTo>
                        <a:pt x="501" y="48"/>
                      </a:lnTo>
                      <a:lnTo>
                        <a:pt x="561" y="54"/>
                      </a:lnTo>
                      <a:lnTo>
                        <a:pt x="570" y="0"/>
                      </a:lnTo>
                      <a:lnTo>
                        <a:pt x="630" y="3"/>
                      </a:lnTo>
                      <a:lnTo>
                        <a:pt x="657" y="39"/>
                      </a:lnTo>
                      <a:lnTo>
                        <a:pt x="705" y="33"/>
                      </a:lnTo>
                      <a:lnTo>
                        <a:pt x="717" y="99"/>
                      </a:lnTo>
                      <a:lnTo>
                        <a:pt x="768" y="135"/>
                      </a:lnTo>
                      <a:lnTo>
                        <a:pt x="783" y="198"/>
                      </a:lnTo>
                      <a:lnTo>
                        <a:pt x="843" y="261"/>
                      </a:lnTo>
                      <a:lnTo>
                        <a:pt x="768" y="282"/>
                      </a:lnTo>
                      <a:lnTo>
                        <a:pt x="669" y="369"/>
                      </a:lnTo>
                      <a:lnTo>
                        <a:pt x="588" y="393"/>
                      </a:lnTo>
                      <a:lnTo>
                        <a:pt x="573" y="417"/>
                      </a:lnTo>
                      <a:lnTo>
                        <a:pt x="489" y="420"/>
                      </a:lnTo>
                      <a:lnTo>
                        <a:pt x="417" y="456"/>
                      </a:lnTo>
                      <a:lnTo>
                        <a:pt x="384" y="519"/>
                      </a:lnTo>
                      <a:lnTo>
                        <a:pt x="369" y="561"/>
                      </a:lnTo>
                      <a:lnTo>
                        <a:pt x="348" y="579"/>
                      </a:lnTo>
                      <a:lnTo>
                        <a:pt x="276" y="555"/>
                      </a:lnTo>
                      <a:lnTo>
                        <a:pt x="183" y="507"/>
                      </a:lnTo>
                      <a:lnTo>
                        <a:pt x="138" y="483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" name=""/>
            <p:cNvGrpSpPr/>
            <p:nvPr/>
          </p:nvGrpSpPr>
          <p:grpSpPr>
            <a:xfrm>
              <a:off x="352800" y="3736440"/>
              <a:ext cx="4417920" cy="1026720"/>
              <a:chOff x="352800" y="3736440"/>
              <a:chExt cx="4417920" cy="1026720"/>
            </a:xfrm>
          </p:grpSpPr>
          <p:sp>
            <p:nvSpPr>
              <p:cNvPr id="162" name=""/>
              <p:cNvSpPr/>
              <p:nvPr/>
            </p:nvSpPr>
            <p:spPr>
              <a:xfrm>
                <a:off x="352800" y="4728600"/>
                <a:ext cx="4094280" cy="3456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957240" y="3736440"/>
                <a:ext cx="3813480" cy="857520"/>
                <a:chOff x="957240" y="3736440"/>
                <a:chExt cx="3813480" cy="8575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957240" y="4272120"/>
                  <a:ext cx="916200" cy="317160"/>
                </a:xfrm>
                <a:custGeom>
                  <a:avLst/>
                  <a:gdLst/>
                  <a:ahLst/>
                  <a:rect l="l" t="t" r="r" b="b"/>
                  <a:pathLst>
                    <a:path w="723" h="789">
                      <a:moveTo>
                        <a:pt x="0" y="648"/>
                      </a:moveTo>
                      <a:lnTo>
                        <a:pt x="48" y="603"/>
                      </a:lnTo>
                      <a:lnTo>
                        <a:pt x="60" y="558"/>
                      </a:lnTo>
                      <a:lnTo>
                        <a:pt x="117" y="510"/>
                      </a:lnTo>
                      <a:lnTo>
                        <a:pt x="129" y="429"/>
                      </a:lnTo>
                      <a:lnTo>
                        <a:pt x="111" y="396"/>
                      </a:lnTo>
                      <a:lnTo>
                        <a:pt x="132" y="336"/>
                      </a:lnTo>
                      <a:lnTo>
                        <a:pt x="147" y="300"/>
                      </a:lnTo>
                      <a:lnTo>
                        <a:pt x="186" y="222"/>
                      </a:lnTo>
                      <a:lnTo>
                        <a:pt x="231" y="132"/>
                      </a:lnTo>
                      <a:lnTo>
                        <a:pt x="261" y="57"/>
                      </a:lnTo>
                      <a:lnTo>
                        <a:pt x="270" y="33"/>
                      </a:lnTo>
                      <a:lnTo>
                        <a:pt x="288" y="96"/>
                      </a:lnTo>
                      <a:lnTo>
                        <a:pt x="330" y="138"/>
                      </a:lnTo>
                      <a:lnTo>
                        <a:pt x="390" y="144"/>
                      </a:lnTo>
                      <a:lnTo>
                        <a:pt x="447" y="99"/>
                      </a:lnTo>
                      <a:lnTo>
                        <a:pt x="498" y="54"/>
                      </a:lnTo>
                      <a:lnTo>
                        <a:pt x="525" y="45"/>
                      </a:lnTo>
                      <a:lnTo>
                        <a:pt x="588" y="48"/>
                      </a:lnTo>
                      <a:lnTo>
                        <a:pt x="630" y="24"/>
                      </a:lnTo>
                      <a:lnTo>
                        <a:pt x="669" y="0"/>
                      </a:lnTo>
                      <a:lnTo>
                        <a:pt x="723" y="15"/>
                      </a:lnTo>
                      <a:lnTo>
                        <a:pt x="582" y="138"/>
                      </a:lnTo>
                      <a:lnTo>
                        <a:pt x="576" y="201"/>
                      </a:lnTo>
                      <a:lnTo>
                        <a:pt x="492" y="231"/>
                      </a:lnTo>
                      <a:lnTo>
                        <a:pt x="453" y="288"/>
                      </a:lnTo>
                      <a:lnTo>
                        <a:pt x="447" y="324"/>
                      </a:lnTo>
                      <a:lnTo>
                        <a:pt x="414" y="345"/>
                      </a:lnTo>
                      <a:lnTo>
                        <a:pt x="351" y="366"/>
                      </a:lnTo>
                      <a:lnTo>
                        <a:pt x="324" y="456"/>
                      </a:lnTo>
                      <a:lnTo>
                        <a:pt x="312" y="513"/>
                      </a:lnTo>
                      <a:lnTo>
                        <a:pt x="270" y="573"/>
                      </a:lnTo>
                      <a:lnTo>
                        <a:pt x="168" y="696"/>
                      </a:lnTo>
                      <a:lnTo>
                        <a:pt x="153" y="750"/>
                      </a:lnTo>
                      <a:lnTo>
                        <a:pt x="129" y="780"/>
                      </a:lnTo>
                      <a:lnTo>
                        <a:pt x="111" y="789"/>
                      </a:lnTo>
                      <a:lnTo>
                        <a:pt x="0" y="648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113120" y="4036680"/>
                  <a:ext cx="1323000" cy="291960"/>
                </a:xfrm>
                <a:custGeom>
                  <a:avLst/>
                  <a:gdLst/>
                  <a:ahLst/>
                  <a:rect l="l" t="t" r="r" b="b"/>
                  <a:pathLst>
                    <a:path w="1044" h="726">
                      <a:moveTo>
                        <a:pt x="156" y="648"/>
                      </a:moveTo>
                      <a:lnTo>
                        <a:pt x="165" y="675"/>
                      </a:lnTo>
                      <a:lnTo>
                        <a:pt x="204" y="726"/>
                      </a:lnTo>
                      <a:lnTo>
                        <a:pt x="267" y="726"/>
                      </a:lnTo>
                      <a:lnTo>
                        <a:pt x="300" y="708"/>
                      </a:lnTo>
                      <a:lnTo>
                        <a:pt x="330" y="675"/>
                      </a:lnTo>
                      <a:lnTo>
                        <a:pt x="375" y="639"/>
                      </a:lnTo>
                      <a:lnTo>
                        <a:pt x="396" y="633"/>
                      </a:lnTo>
                      <a:lnTo>
                        <a:pt x="462" y="633"/>
                      </a:lnTo>
                      <a:lnTo>
                        <a:pt x="543" y="588"/>
                      </a:lnTo>
                      <a:lnTo>
                        <a:pt x="564" y="594"/>
                      </a:lnTo>
                      <a:lnTo>
                        <a:pt x="594" y="609"/>
                      </a:lnTo>
                      <a:lnTo>
                        <a:pt x="705" y="570"/>
                      </a:lnTo>
                      <a:lnTo>
                        <a:pt x="714" y="543"/>
                      </a:lnTo>
                      <a:lnTo>
                        <a:pt x="807" y="543"/>
                      </a:lnTo>
                      <a:lnTo>
                        <a:pt x="855" y="519"/>
                      </a:lnTo>
                      <a:lnTo>
                        <a:pt x="936" y="519"/>
                      </a:lnTo>
                      <a:lnTo>
                        <a:pt x="951" y="480"/>
                      </a:lnTo>
                      <a:lnTo>
                        <a:pt x="984" y="456"/>
                      </a:lnTo>
                      <a:lnTo>
                        <a:pt x="990" y="420"/>
                      </a:lnTo>
                      <a:lnTo>
                        <a:pt x="1041" y="432"/>
                      </a:lnTo>
                      <a:lnTo>
                        <a:pt x="1044" y="405"/>
                      </a:lnTo>
                      <a:lnTo>
                        <a:pt x="1011" y="387"/>
                      </a:lnTo>
                      <a:lnTo>
                        <a:pt x="987" y="366"/>
                      </a:lnTo>
                      <a:lnTo>
                        <a:pt x="891" y="354"/>
                      </a:lnTo>
                      <a:lnTo>
                        <a:pt x="876" y="258"/>
                      </a:lnTo>
                      <a:lnTo>
                        <a:pt x="834" y="189"/>
                      </a:lnTo>
                      <a:lnTo>
                        <a:pt x="765" y="159"/>
                      </a:lnTo>
                      <a:lnTo>
                        <a:pt x="735" y="159"/>
                      </a:lnTo>
                      <a:lnTo>
                        <a:pt x="696" y="117"/>
                      </a:lnTo>
                      <a:lnTo>
                        <a:pt x="657" y="105"/>
                      </a:lnTo>
                      <a:lnTo>
                        <a:pt x="618" y="108"/>
                      </a:lnTo>
                      <a:lnTo>
                        <a:pt x="591" y="69"/>
                      </a:lnTo>
                      <a:lnTo>
                        <a:pt x="567" y="33"/>
                      </a:lnTo>
                      <a:lnTo>
                        <a:pt x="537" y="3"/>
                      </a:lnTo>
                      <a:lnTo>
                        <a:pt x="513" y="0"/>
                      </a:lnTo>
                      <a:lnTo>
                        <a:pt x="480" y="42"/>
                      </a:lnTo>
                      <a:lnTo>
                        <a:pt x="435" y="63"/>
                      </a:lnTo>
                      <a:lnTo>
                        <a:pt x="390" y="111"/>
                      </a:lnTo>
                      <a:lnTo>
                        <a:pt x="363" y="90"/>
                      </a:lnTo>
                      <a:lnTo>
                        <a:pt x="324" y="87"/>
                      </a:lnTo>
                      <a:lnTo>
                        <a:pt x="294" y="30"/>
                      </a:lnTo>
                      <a:lnTo>
                        <a:pt x="282" y="57"/>
                      </a:lnTo>
                      <a:lnTo>
                        <a:pt x="264" y="72"/>
                      </a:lnTo>
                      <a:lnTo>
                        <a:pt x="255" y="93"/>
                      </a:lnTo>
                      <a:lnTo>
                        <a:pt x="228" y="117"/>
                      </a:lnTo>
                      <a:lnTo>
                        <a:pt x="234" y="165"/>
                      </a:lnTo>
                      <a:lnTo>
                        <a:pt x="174" y="165"/>
                      </a:lnTo>
                      <a:lnTo>
                        <a:pt x="138" y="192"/>
                      </a:lnTo>
                      <a:lnTo>
                        <a:pt x="90" y="204"/>
                      </a:lnTo>
                      <a:lnTo>
                        <a:pt x="42" y="282"/>
                      </a:lnTo>
                      <a:lnTo>
                        <a:pt x="60" y="333"/>
                      </a:lnTo>
                      <a:lnTo>
                        <a:pt x="3" y="360"/>
                      </a:lnTo>
                      <a:lnTo>
                        <a:pt x="0" y="384"/>
                      </a:lnTo>
                      <a:lnTo>
                        <a:pt x="63" y="513"/>
                      </a:lnTo>
                      <a:lnTo>
                        <a:pt x="138" y="573"/>
                      </a:lnTo>
                      <a:lnTo>
                        <a:pt x="147" y="618"/>
                      </a:lnTo>
                      <a:lnTo>
                        <a:pt x="156" y="648"/>
                      </a:lnTo>
                      <a:close/>
                    </a:path>
                  </a:pathLst>
                </a:custGeom>
                <a:solidFill>
                  <a:srgbClr val="ff9469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470240" y="3736440"/>
                  <a:ext cx="1672920" cy="396720"/>
                </a:xfrm>
                <a:custGeom>
                  <a:avLst/>
                  <a:gdLst/>
                  <a:ahLst/>
                  <a:rect l="l" t="t" r="r" b="b"/>
                  <a:pathLst>
                    <a:path w="1320" h="987">
                      <a:moveTo>
                        <a:pt x="21" y="786"/>
                      </a:moveTo>
                      <a:lnTo>
                        <a:pt x="42" y="834"/>
                      </a:lnTo>
                      <a:lnTo>
                        <a:pt x="81" y="840"/>
                      </a:lnTo>
                      <a:lnTo>
                        <a:pt x="111" y="858"/>
                      </a:lnTo>
                      <a:lnTo>
                        <a:pt x="153" y="813"/>
                      </a:lnTo>
                      <a:lnTo>
                        <a:pt x="204" y="783"/>
                      </a:lnTo>
                      <a:lnTo>
                        <a:pt x="231" y="747"/>
                      </a:lnTo>
                      <a:lnTo>
                        <a:pt x="264" y="750"/>
                      </a:lnTo>
                      <a:lnTo>
                        <a:pt x="312" y="816"/>
                      </a:lnTo>
                      <a:lnTo>
                        <a:pt x="339" y="855"/>
                      </a:lnTo>
                      <a:lnTo>
                        <a:pt x="390" y="855"/>
                      </a:lnTo>
                      <a:lnTo>
                        <a:pt x="432" y="876"/>
                      </a:lnTo>
                      <a:lnTo>
                        <a:pt x="456" y="909"/>
                      </a:lnTo>
                      <a:lnTo>
                        <a:pt x="489" y="906"/>
                      </a:lnTo>
                      <a:lnTo>
                        <a:pt x="558" y="939"/>
                      </a:lnTo>
                      <a:lnTo>
                        <a:pt x="585" y="987"/>
                      </a:lnTo>
                      <a:lnTo>
                        <a:pt x="663" y="945"/>
                      </a:lnTo>
                      <a:lnTo>
                        <a:pt x="756" y="888"/>
                      </a:lnTo>
                      <a:lnTo>
                        <a:pt x="822" y="873"/>
                      </a:lnTo>
                      <a:lnTo>
                        <a:pt x="837" y="840"/>
                      </a:lnTo>
                      <a:lnTo>
                        <a:pt x="882" y="828"/>
                      </a:lnTo>
                      <a:lnTo>
                        <a:pt x="918" y="792"/>
                      </a:lnTo>
                      <a:lnTo>
                        <a:pt x="855" y="783"/>
                      </a:lnTo>
                      <a:lnTo>
                        <a:pt x="654" y="822"/>
                      </a:lnTo>
                      <a:lnTo>
                        <a:pt x="588" y="798"/>
                      </a:lnTo>
                      <a:lnTo>
                        <a:pt x="555" y="816"/>
                      </a:lnTo>
                      <a:lnTo>
                        <a:pt x="519" y="771"/>
                      </a:lnTo>
                      <a:lnTo>
                        <a:pt x="582" y="714"/>
                      </a:lnTo>
                      <a:lnTo>
                        <a:pt x="609" y="624"/>
                      </a:lnTo>
                      <a:lnTo>
                        <a:pt x="720" y="525"/>
                      </a:lnTo>
                      <a:lnTo>
                        <a:pt x="777" y="501"/>
                      </a:lnTo>
                      <a:lnTo>
                        <a:pt x="837" y="498"/>
                      </a:lnTo>
                      <a:lnTo>
                        <a:pt x="885" y="477"/>
                      </a:lnTo>
                      <a:lnTo>
                        <a:pt x="924" y="390"/>
                      </a:lnTo>
                      <a:lnTo>
                        <a:pt x="993" y="357"/>
                      </a:lnTo>
                      <a:lnTo>
                        <a:pt x="993" y="312"/>
                      </a:lnTo>
                      <a:lnTo>
                        <a:pt x="1038" y="237"/>
                      </a:lnTo>
                      <a:lnTo>
                        <a:pt x="1104" y="231"/>
                      </a:lnTo>
                      <a:lnTo>
                        <a:pt x="1149" y="201"/>
                      </a:lnTo>
                      <a:lnTo>
                        <a:pt x="1188" y="264"/>
                      </a:lnTo>
                      <a:lnTo>
                        <a:pt x="1200" y="285"/>
                      </a:lnTo>
                      <a:lnTo>
                        <a:pt x="1251" y="312"/>
                      </a:lnTo>
                      <a:lnTo>
                        <a:pt x="1272" y="354"/>
                      </a:lnTo>
                      <a:lnTo>
                        <a:pt x="1287" y="369"/>
                      </a:lnTo>
                      <a:lnTo>
                        <a:pt x="1320" y="360"/>
                      </a:lnTo>
                      <a:lnTo>
                        <a:pt x="1314" y="309"/>
                      </a:lnTo>
                      <a:lnTo>
                        <a:pt x="1095" y="9"/>
                      </a:lnTo>
                      <a:lnTo>
                        <a:pt x="1056" y="0"/>
                      </a:lnTo>
                      <a:lnTo>
                        <a:pt x="963" y="75"/>
                      </a:lnTo>
                      <a:lnTo>
                        <a:pt x="870" y="93"/>
                      </a:lnTo>
                      <a:lnTo>
                        <a:pt x="759" y="87"/>
                      </a:lnTo>
                      <a:lnTo>
                        <a:pt x="744" y="156"/>
                      </a:lnTo>
                      <a:lnTo>
                        <a:pt x="741" y="177"/>
                      </a:lnTo>
                      <a:lnTo>
                        <a:pt x="585" y="303"/>
                      </a:lnTo>
                      <a:lnTo>
                        <a:pt x="552" y="342"/>
                      </a:lnTo>
                      <a:lnTo>
                        <a:pt x="492" y="363"/>
                      </a:lnTo>
                      <a:lnTo>
                        <a:pt x="426" y="417"/>
                      </a:lnTo>
                      <a:lnTo>
                        <a:pt x="378" y="342"/>
                      </a:lnTo>
                      <a:lnTo>
                        <a:pt x="300" y="327"/>
                      </a:lnTo>
                      <a:lnTo>
                        <a:pt x="270" y="276"/>
                      </a:lnTo>
                      <a:lnTo>
                        <a:pt x="228" y="303"/>
                      </a:lnTo>
                      <a:lnTo>
                        <a:pt x="165" y="345"/>
                      </a:lnTo>
                      <a:lnTo>
                        <a:pt x="120" y="381"/>
                      </a:lnTo>
                      <a:lnTo>
                        <a:pt x="0" y="444"/>
                      </a:lnTo>
                      <a:lnTo>
                        <a:pt x="6" y="486"/>
                      </a:lnTo>
                      <a:lnTo>
                        <a:pt x="36" y="537"/>
                      </a:lnTo>
                      <a:lnTo>
                        <a:pt x="6" y="588"/>
                      </a:lnTo>
                      <a:lnTo>
                        <a:pt x="54" y="705"/>
                      </a:lnTo>
                      <a:lnTo>
                        <a:pt x="21" y="786"/>
                      </a:lnTo>
                      <a:close/>
                    </a:path>
                  </a:pathLst>
                </a:custGeom>
                <a:solidFill>
                  <a:srgbClr val="00dfca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124360" y="3818160"/>
                  <a:ext cx="1467360" cy="247320"/>
                </a:xfrm>
                <a:custGeom>
                  <a:avLst/>
                  <a:gdLst/>
                  <a:ahLst/>
                  <a:rect l="l" t="t" r="r" b="b"/>
                  <a:pathLst>
                    <a:path w="1158" h="615">
                      <a:moveTo>
                        <a:pt x="1146" y="132"/>
                      </a:moveTo>
                      <a:lnTo>
                        <a:pt x="1152" y="177"/>
                      </a:lnTo>
                      <a:lnTo>
                        <a:pt x="1158" y="216"/>
                      </a:lnTo>
                      <a:lnTo>
                        <a:pt x="1146" y="261"/>
                      </a:lnTo>
                      <a:lnTo>
                        <a:pt x="1062" y="288"/>
                      </a:lnTo>
                      <a:lnTo>
                        <a:pt x="1002" y="309"/>
                      </a:lnTo>
                      <a:lnTo>
                        <a:pt x="963" y="339"/>
                      </a:lnTo>
                      <a:lnTo>
                        <a:pt x="864" y="390"/>
                      </a:lnTo>
                      <a:lnTo>
                        <a:pt x="801" y="447"/>
                      </a:lnTo>
                      <a:lnTo>
                        <a:pt x="705" y="573"/>
                      </a:lnTo>
                      <a:lnTo>
                        <a:pt x="636" y="564"/>
                      </a:lnTo>
                      <a:lnTo>
                        <a:pt x="561" y="543"/>
                      </a:lnTo>
                      <a:lnTo>
                        <a:pt x="507" y="594"/>
                      </a:lnTo>
                      <a:lnTo>
                        <a:pt x="447" y="579"/>
                      </a:lnTo>
                      <a:lnTo>
                        <a:pt x="396" y="588"/>
                      </a:lnTo>
                      <a:lnTo>
                        <a:pt x="339" y="576"/>
                      </a:lnTo>
                      <a:lnTo>
                        <a:pt x="138" y="615"/>
                      </a:lnTo>
                      <a:lnTo>
                        <a:pt x="69" y="594"/>
                      </a:lnTo>
                      <a:lnTo>
                        <a:pt x="39" y="609"/>
                      </a:lnTo>
                      <a:lnTo>
                        <a:pt x="0" y="564"/>
                      </a:lnTo>
                      <a:lnTo>
                        <a:pt x="75" y="504"/>
                      </a:lnTo>
                      <a:lnTo>
                        <a:pt x="99" y="414"/>
                      </a:lnTo>
                      <a:lnTo>
                        <a:pt x="207" y="318"/>
                      </a:lnTo>
                      <a:lnTo>
                        <a:pt x="267" y="294"/>
                      </a:lnTo>
                      <a:lnTo>
                        <a:pt x="321" y="297"/>
                      </a:lnTo>
                      <a:lnTo>
                        <a:pt x="378" y="267"/>
                      </a:lnTo>
                      <a:lnTo>
                        <a:pt x="411" y="183"/>
                      </a:lnTo>
                      <a:lnTo>
                        <a:pt x="480" y="153"/>
                      </a:lnTo>
                      <a:lnTo>
                        <a:pt x="480" y="105"/>
                      </a:lnTo>
                      <a:lnTo>
                        <a:pt x="531" y="30"/>
                      </a:lnTo>
                      <a:lnTo>
                        <a:pt x="597" y="30"/>
                      </a:lnTo>
                      <a:lnTo>
                        <a:pt x="636" y="0"/>
                      </a:lnTo>
                      <a:lnTo>
                        <a:pt x="678" y="78"/>
                      </a:lnTo>
                      <a:lnTo>
                        <a:pt x="741" y="114"/>
                      </a:lnTo>
                      <a:lnTo>
                        <a:pt x="759" y="165"/>
                      </a:lnTo>
                      <a:lnTo>
                        <a:pt x="807" y="162"/>
                      </a:lnTo>
                      <a:lnTo>
                        <a:pt x="807" y="201"/>
                      </a:lnTo>
                      <a:lnTo>
                        <a:pt x="837" y="213"/>
                      </a:lnTo>
                      <a:lnTo>
                        <a:pt x="945" y="168"/>
                      </a:lnTo>
                      <a:lnTo>
                        <a:pt x="972" y="111"/>
                      </a:lnTo>
                      <a:lnTo>
                        <a:pt x="1074" y="93"/>
                      </a:lnTo>
                      <a:lnTo>
                        <a:pt x="1074" y="66"/>
                      </a:lnTo>
                      <a:lnTo>
                        <a:pt x="1131" y="78"/>
                      </a:lnTo>
                      <a:lnTo>
                        <a:pt x="1140" y="111"/>
                      </a:lnTo>
                      <a:lnTo>
                        <a:pt x="1146" y="132"/>
                      </a:lnTo>
                      <a:close/>
                    </a:path>
                  </a:pathLst>
                </a:custGeom>
                <a:solidFill>
                  <a:srgbClr val="00cc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204280" y="4036680"/>
                  <a:ext cx="798120" cy="194040"/>
                </a:xfrm>
                <a:custGeom>
                  <a:avLst/>
                  <a:gdLst/>
                  <a:ahLst/>
                  <a:rect l="l" t="t" r="r" b="b"/>
                  <a:pathLst>
                    <a:path w="630" h="483">
                      <a:moveTo>
                        <a:pt x="0" y="240"/>
                      </a:moveTo>
                      <a:lnTo>
                        <a:pt x="186" y="135"/>
                      </a:lnTo>
                      <a:lnTo>
                        <a:pt x="255" y="120"/>
                      </a:lnTo>
                      <a:lnTo>
                        <a:pt x="264" y="90"/>
                      </a:lnTo>
                      <a:lnTo>
                        <a:pt x="312" y="78"/>
                      </a:lnTo>
                      <a:lnTo>
                        <a:pt x="339" y="39"/>
                      </a:lnTo>
                      <a:lnTo>
                        <a:pt x="396" y="33"/>
                      </a:lnTo>
                      <a:lnTo>
                        <a:pt x="444" y="51"/>
                      </a:lnTo>
                      <a:lnTo>
                        <a:pt x="501" y="0"/>
                      </a:lnTo>
                      <a:lnTo>
                        <a:pt x="630" y="30"/>
                      </a:lnTo>
                      <a:lnTo>
                        <a:pt x="627" y="60"/>
                      </a:lnTo>
                      <a:lnTo>
                        <a:pt x="600" y="81"/>
                      </a:lnTo>
                      <a:lnTo>
                        <a:pt x="594" y="144"/>
                      </a:lnTo>
                      <a:lnTo>
                        <a:pt x="573" y="174"/>
                      </a:lnTo>
                      <a:lnTo>
                        <a:pt x="522" y="186"/>
                      </a:lnTo>
                      <a:lnTo>
                        <a:pt x="501" y="189"/>
                      </a:lnTo>
                      <a:lnTo>
                        <a:pt x="507" y="246"/>
                      </a:lnTo>
                      <a:lnTo>
                        <a:pt x="480" y="282"/>
                      </a:lnTo>
                      <a:lnTo>
                        <a:pt x="486" y="378"/>
                      </a:lnTo>
                      <a:lnTo>
                        <a:pt x="576" y="474"/>
                      </a:lnTo>
                      <a:lnTo>
                        <a:pt x="492" y="483"/>
                      </a:lnTo>
                      <a:lnTo>
                        <a:pt x="288" y="387"/>
                      </a:lnTo>
                      <a:lnTo>
                        <a:pt x="231" y="432"/>
                      </a:lnTo>
                      <a:lnTo>
                        <a:pt x="132" y="405"/>
                      </a:lnTo>
                      <a:lnTo>
                        <a:pt x="129" y="366"/>
                      </a:lnTo>
                      <a:lnTo>
                        <a:pt x="24" y="351"/>
                      </a:lnTo>
                      <a:lnTo>
                        <a:pt x="18" y="267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812680" y="3975120"/>
                  <a:ext cx="1437120" cy="360720"/>
                </a:xfrm>
                <a:custGeom>
                  <a:avLst/>
                  <a:gdLst/>
                  <a:ahLst/>
                  <a:rect l="l" t="t" r="r" b="b"/>
                  <a:pathLst>
                    <a:path w="1134" h="897">
                      <a:moveTo>
                        <a:pt x="315" y="0"/>
                      </a:moveTo>
                      <a:lnTo>
                        <a:pt x="345" y="45"/>
                      </a:lnTo>
                      <a:lnTo>
                        <a:pt x="336" y="150"/>
                      </a:lnTo>
                      <a:lnTo>
                        <a:pt x="321" y="240"/>
                      </a:lnTo>
                      <a:lnTo>
                        <a:pt x="354" y="270"/>
                      </a:lnTo>
                      <a:lnTo>
                        <a:pt x="342" y="348"/>
                      </a:lnTo>
                      <a:lnTo>
                        <a:pt x="348" y="393"/>
                      </a:lnTo>
                      <a:lnTo>
                        <a:pt x="390" y="411"/>
                      </a:lnTo>
                      <a:lnTo>
                        <a:pt x="537" y="432"/>
                      </a:lnTo>
                      <a:lnTo>
                        <a:pt x="570" y="420"/>
                      </a:lnTo>
                      <a:lnTo>
                        <a:pt x="597" y="354"/>
                      </a:lnTo>
                      <a:lnTo>
                        <a:pt x="651" y="312"/>
                      </a:lnTo>
                      <a:lnTo>
                        <a:pt x="681" y="312"/>
                      </a:lnTo>
                      <a:lnTo>
                        <a:pt x="708" y="288"/>
                      </a:lnTo>
                      <a:lnTo>
                        <a:pt x="777" y="273"/>
                      </a:lnTo>
                      <a:lnTo>
                        <a:pt x="819" y="315"/>
                      </a:lnTo>
                      <a:lnTo>
                        <a:pt x="861" y="312"/>
                      </a:lnTo>
                      <a:lnTo>
                        <a:pt x="978" y="357"/>
                      </a:lnTo>
                      <a:lnTo>
                        <a:pt x="1104" y="378"/>
                      </a:lnTo>
                      <a:lnTo>
                        <a:pt x="1134" y="420"/>
                      </a:lnTo>
                      <a:lnTo>
                        <a:pt x="1122" y="471"/>
                      </a:lnTo>
                      <a:lnTo>
                        <a:pt x="1065" y="462"/>
                      </a:lnTo>
                      <a:lnTo>
                        <a:pt x="1029" y="528"/>
                      </a:lnTo>
                      <a:lnTo>
                        <a:pt x="966" y="477"/>
                      </a:lnTo>
                      <a:lnTo>
                        <a:pt x="930" y="471"/>
                      </a:lnTo>
                      <a:lnTo>
                        <a:pt x="867" y="507"/>
                      </a:lnTo>
                      <a:lnTo>
                        <a:pt x="753" y="471"/>
                      </a:lnTo>
                      <a:lnTo>
                        <a:pt x="681" y="486"/>
                      </a:lnTo>
                      <a:lnTo>
                        <a:pt x="669" y="510"/>
                      </a:lnTo>
                      <a:lnTo>
                        <a:pt x="687" y="546"/>
                      </a:lnTo>
                      <a:lnTo>
                        <a:pt x="678" y="579"/>
                      </a:lnTo>
                      <a:lnTo>
                        <a:pt x="588" y="633"/>
                      </a:lnTo>
                      <a:lnTo>
                        <a:pt x="567" y="678"/>
                      </a:lnTo>
                      <a:lnTo>
                        <a:pt x="567" y="708"/>
                      </a:lnTo>
                      <a:lnTo>
                        <a:pt x="648" y="732"/>
                      </a:lnTo>
                      <a:lnTo>
                        <a:pt x="657" y="801"/>
                      </a:lnTo>
                      <a:lnTo>
                        <a:pt x="702" y="897"/>
                      </a:lnTo>
                      <a:lnTo>
                        <a:pt x="612" y="858"/>
                      </a:lnTo>
                      <a:lnTo>
                        <a:pt x="396" y="852"/>
                      </a:lnTo>
                      <a:lnTo>
                        <a:pt x="267" y="825"/>
                      </a:lnTo>
                      <a:lnTo>
                        <a:pt x="231" y="816"/>
                      </a:lnTo>
                      <a:lnTo>
                        <a:pt x="231" y="750"/>
                      </a:lnTo>
                      <a:lnTo>
                        <a:pt x="204" y="717"/>
                      </a:lnTo>
                      <a:lnTo>
                        <a:pt x="129" y="681"/>
                      </a:lnTo>
                      <a:lnTo>
                        <a:pt x="84" y="609"/>
                      </a:lnTo>
                      <a:lnTo>
                        <a:pt x="6" y="528"/>
                      </a:lnTo>
                      <a:lnTo>
                        <a:pt x="0" y="471"/>
                      </a:lnTo>
                      <a:lnTo>
                        <a:pt x="3" y="429"/>
                      </a:lnTo>
                      <a:lnTo>
                        <a:pt x="30" y="399"/>
                      </a:lnTo>
                      <a:lnTo>
                        <a:pt x="24" y="339"/>
                      </a:lnTo>
                      <a:lnTo>
                        <a:pt x="99" y="327"/>
                      </a:lnTo>
                      <a:lnTo>
                        <a:pt x="120" y="297"/>
                      </a:lnTo>
                      <a:lnTo>
                        <a:pt x="120" y="234"/>
                      </a:lnTo>
                      <a:lnTo>
                        <a:pt x="150" y="210"/>
                      </a:lnTo>
                      <a:lnTo>
                        <a:pt x="159" y="180"/>
                      </a:lnTo>
                      <a:lnTo>
                        <a:pt x="264" y="48"/>
                      </a:lnTo>
                      <a:lnTo>
                        <a:pt x="315" y="0"/>
                      </a:lnTo>
                      <a:close/>
                    </a:path>
                  </a:pathLst>
                </a:custGeom>
                <a:solidFill>
                  <a:srgbClr val="019470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219480" y="3867840"/>
                  <a:ext cx="642240" cy="279720"/>
                </a:xfrm>
                <a:custGeom>
                  <a:avLst/>
                  <a:gdLst/>
                  <a:ahLst/>
                  <a:rect l="l" t="t" r="r" b="b"/>
                  <a:pathLst>
                    <a:path w="507" h="696">
                      <a:moveTo>
                        <a:pt x="0" y="270"/>
                      </a:moveTo>
                      <a:lnTo>
                        <a:pt x="27" y="315"/>
                      </a:lnTo>
                      <a:lnTo>
                        <a:pt x="0" y="513"/>
                      </a:lnTo>
                      <a:lnTo>
                        <a:pt x="33" y="537"/>
                      </a:lnTo>
                      <a:lnTo>
                        <a:pt x="27" y="603"/>
                      </a:lnTo>
                      <a:lnTo>
                        <a:pt x="24" y="624"/>
                      </a:lnTo>
                      <a:lnTo>
                        <a:pt x="33" y="660"/>
                      </a:lnTo>
                      <a:lnTo>
                        <a:pt x="75" y="678"/>
                      </a:lnTo>
                      <a:lnTo>
                        <a:pt x="174" y="690"/>
                      </a:lnTo>
                      <a:lnTo>
                        <a:pt x="222" y="696"/>
                      </a:lnTo>
                      <a:lnTo>
                        <a:pt x="255" y="687"/>
                      </a:lnTo>
                      <a:lnTo>
                        <a:pt x="279" y="612"/>
                      </a:lnTo>
                      <a:lnTo>
                        <a:pt x="330" y="576"/>
                      </a:lnTo>
                      <a:lnTo>
                        <a:pt x="363" y="576"/>
                      </a:lnTo>
                      <a:lnTo>
                        <a:pt x="390" y="555"/>
                      </a:lnTo>
                      <a:lnTo>
                        <a:pt x="450" y="543"/>
                      </a:lnTo>
                      <a:lnTo>
                        <a:pt x="432" y="495"/>
                      </a:lnTo>
                      <a:lnTo>
                        <a:pt x="393" y="414"/>
                      </a:lnTo>
                      <a:lnTo>
                        <a:pt x="438" y="333"/>
                      </a:lnTo>
                      <a:lnTo>
                        <a:pt x="465" y="264"/>
                      </a:lnTo>
                      <a:lnTo>
                        <a:pt x="507" y="210"/>
                      </a:lnTo>
                      <a:lnTo>
                        <a:pt x="492" y="90"/>
                      </a:lnTo>
                      <a:lnTo>
                        <a:pt x="393" y="51"/>
                      </a:lnTo>
                      <a:lnTo>
                        <a:pt x="318" y="0"/>
                      </a:lnTo>
                      <a:lnTo>
                        <a:pt x="279" y="0"/>
                      </a:lnTo>
                      <a:lnTo>
                        <a:pt x="291" y="66"/>
                      </a:lnTo>
                      <a:lnTo>
                        <a:pt x="294" y="99"/>
                      </a:lnTo>
                      <a:lnTo>
                        <a:pt x="279" y="144"/>
                      </a:lnTo>
                      <a:lnTo>
                        <a:pt x="141" y="183"/>
                      </a:lnTo>
                      <a:lnTo>
                        <a:pt x="84" y="228"/>
                      </a:lnTo>
                      <a:lnTo>
                        <a:pt x="0" y="27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717720" y="3876120"/>
                  <a:ext cx="1053000" cy="279720"/>
                </a:xfrm>
                <a:custGeom>
                  <a:avLst/>
                  <a:gdLst/>
                  <a:ahLst/>
                  <a:rect l="l" t="t" r="r" b="b"/>
                  <a:pathLst>
                    <a:path w="831" h="696">
                      <a:moveTo>
                        <a:pt x="132" y="180"/>
                      </a:moveTo>
                      <a:lnTo>
                        <a:pt x="75" y="237"/>
                      </a:lnTo>
                      <a:lnTo>
                        <a:pt x="42" y="327"/>
                      </a:lnTo>
                      <a:lnTo>
                        <a:pt x="0" y="390"/>
                      </a:lnTo>
                      <a:lnTo>
                        <a:pt x="48" y="489"/>
                      </a:lnTo>
                      <a:lnTo>
                        <a:pt x="75" y="537"/>
                      </a:lnTo>
                      <a:lnTo>
                        <a:pt x="111" y="561"/>
                      </a:lnTo>
                      <a:lnTo>
                        <a:pt x="156" y="558"/>
                      </a:lnTo>
                      <a:lnTo>
                        <a:pt x="285" y="606"/>
                      </a:lnTo>
                      <a:lnTo>
                        <a:pt x="396" y="630"/>
                      </a:lnTo>
                      <a:lnTo>
                        <a:pt x="432" y="660"/>
                      </a:lnTo>
                      <a:lnTo>
                        <a:pt x="480" y="663"/>
                      </a:lnTo>
                      <a:lnTo>
                        <a:pt x="510" y="696"/>
                      </a:lnTo>
                      <a:lnTo>
                        <a:pt x="555" y="687"/>
                      </a:lnTo>
                      <a:lnTo>
                        <a:pt x="507" y="636"/>
                      </a:lnTo>
                      <a:lnTo>
                        <a:pt x="486" y="528"/>
                      </a:lnTo>
                      <a:lnTo>
                        <a:pt x="543" y="435"/>
                      </a:lnTo>
                      <a:lnTo>
                        <a:pt x="738" y="351"/>
                      </a:lnTo>
                      <a:lnTo>
                        <a:pt x="831" y="294"/>
                      </a:lnTo>
                      <a:lnTo>
                        <a:pt x="816" y="255"/>
                      </a:lnTo>
                      <a:lnTo>
                        <a:pt x="699" y="156"/>
                      </a:lnTo>
                      <a:lnTo>
                        <a:pt x="633" y="135"/>
                      </a:lnTo>
                      <a:lnTo>
                        <a:pt x="522" y="36"/>
                      </a:lnTo>
                      <a:lnTo>
                        <a:pt x="471" y="0"/>
                      </a:lnTo>
                      <a:lnTo>
                        <a:pt x="399" y="84"/>
                      </a:lnTo>
                      <a:lnTo>
                        <a:pt x="384" y="129"/>
                      </a:lnTo>
                      <a:lnTo>
                        <a:pt x="321" y="162"/>
                      </a:lnTo>
                      <a:lnTo>
                        <a:pt x="276" y="132"/>
                      </a:lnTo>
                      <a:lnTo>
                        <a:pt x="195" y="153"/>
                      </a:lnTo>
                      <a:lnTo>
                        <a:pt x="132" y="18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972360" y="3736440"/>
                  <a:ext cx="3790440" cy="857520"/>
                  <a:chOff x="972360" y="3736440"/>
                  <a:chExt cx="3790440" cy="8575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987480" y="4124880"/>
                    <a:ext cx="33840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002">
                        <a:moveTo>
                          <a:pt x="0" y="1002"/>
                        </a:moveTo>
                        <a:lnTo>
                          <a:pt x="39" y="966"/>
                        </a:lnTo>
                        <a:lnTo>
                          <a:pt x="54" y="921"/>
                        </a:lnTo>
                        <a:lnTo>
                          <a:pt x="111" y="876"/>
                        </a:lnTo>
                        <a:lnTo>
                          <a:pt x="126" y="807"/>
                        </a:lnTo>
                        <a:lnTo>
                          <a:pt x="105" y="756"/>
                        </a:lnTo>
                        <a:lnTo>
                          <a:pt x="135" y="699"/>
                        </a:lnTo>
                        <a:lnTo>
                          <a:pt x="144" y="645"/>
                        </a:lnTo>
                        <a:lnTo>
                          <a:pt x="174" y="606"/>
                        </a:lnTo>
                        <a:lnTo>
                          <a:pt x="216" y="510"/>
                        </a:lnTo>
                        <a:lnTo>
                          <a:pt x="252" y="423"/>
                        </a:lnTo>
                        <a:lnTo>
                          <a:pt x="267" y="381"/>
                        </a:lnTo>
                        <a:lnTo>
                          <a:pt x="255" y="339"/>
                        </a:lnTo>
                        <a:lnTo>
                          <a:pt x="216" y="303"/>
                        </a:lnTo>
                        <a:lnTo>
                          <a:pt x="180" y="276"/>
                        </a:lnTo>
                        <a:lnTo>
                          <a:pt x="159" y="231"/>
                        </a:lnTo>
                        <a:lnTo>
                          <a:pt x="138" y="189"/>
                        </a:lnTo>
                        <a:lnTo>
                          <a:pt x="120" y="156"/>
                        </a:lnTo>
                        <a:lnTo>
                          <a:pt x="123" y="129"/>
                        </a:lnTo>
                        <a:lnTo>
                          <a:pt x="141" y="120"/>
                        </a:lnTo>
                        <a:lnTo>
                          <a:pt x="165" y="120"/>
                        </a:lnTo>
                        <a:lnTo>
                          <a:pt x="183" y="105"/>
                        </a:lnTo>
                        <a:cubicBezTo>
                          <a:pt x="177" y="89"/>
                          <a:pt x="165" y="64"/>
                          <a:pt x="165" y="45"/>
                        </a:cubicBezTo>
                        <a:lnTo>
                          <a:pt x="198" y="0"/>
                        </a:lnTo>
                      </a:path>
                    </a:pathLst>
                  </a:custGeom>
                  <a:noFill/>
                  <a:ln w="57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234440" y="3926880"/>
                    <a:ext cx="30384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501">
                        <a:moveTo>
                          <a:pt x="0" y="501"/>
                        </a:moveTo>
                        <a:lnTo>
                          <a:pt x="21" y="468"/>
                        </a:lnTo>
                        <a:lnTo>
                          <a:pt x="78" y="453"/>
                        </a:lnTo>
                        <a:lnTo>
                          <a:pt x="96" y="423"/>
                        </a:lnTo>
                        <a:lnTo>
                          <a:pt x="150" y="435"/>
                        </a:lnTo>
                        <a:lnTo>
                          <a:pt x="165" y="411"/>
                        </a:lnTo>
                        <a:lnTo>
                          <a:pt x="153" y="390"/>
                        </a:lnTo>
                        <a:lnTo>
                          <a:pt x="150" y="372"/>
                        </a:lnTo>
                        <a:lnTo>
                          <a:pt x="183" y="354"/>
                        </a:lnTo>
                        <a:lnTo>
                          <a:pt x="189" y="330"/>
                        </a:lnTo>
                        <a:lnTo>
                          <a:pt x="216" y="318"/>
                        </a:lnTo>
                        <a:lnTo>
                          <a:pt x="240" y="237"/>
                        </a:lnTo>
                        <a:lnTo>
                          <a:pt x="231" y="204"/>
                        </a:lnTo>
                        <a:lnTo>
                          <a:pt x="213" y="156"/>
                        </a:lnTo>
                        <a:lnTo>
                          <a:pt x="204" y="135"/>
                        </a:lnTo>
                        <a:lnTo>
                          <a:pt x="192" y="114"/>
                        </a:lnTo>
                        <a:lnTo>
                          <a:pt x="195" y="96"/>
                        </a:lnTo>
                        <a:lnTo>
                          <a:pt x="213" y="72"/>
                        </a:lnTo>
                        <a:lnTo>
                          <a:pt x="228" y="60"/>
                        </a:lnTo>
                        <a:lnTo>
                          <a:pt x="210" y="30"/>
                        </a:lnTo>
                        <a:lnTo>
                          <a:pt x="198" y="0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109160" y="4195800"/>
                    <a:ext cx="2630880" cy="39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76" h="978">
                        <a:moveTo>
                          <a:pt x="0" y="978"/>
                        </a:moveTo>
                        <a:lnTo>
                          <a:pt x="39" y="951"/>
                        </a:lnTo>
                        <a:lnTo>
                          <a:pt x="57" y="909"/>
                        </a:lnTo>
                        <a:lnTo>
                          <a:pt x="66" y="873"/>
                        </a:lnTo>
                        <a:lnTo>
                          <a:pt x="90" y="849"/>
                        </a:lnTo>
                        <a:lnTo>
                          <a:pt x="120" y="810"/>
                        </a:lnTo>
                        <a:lnTo>
                          <a:pt x="153" y="780"/>
                        </a:lnTo>
                        <a:lnTo>
                          <a:pt x="183" y="738"/>
                        </a:lnTo>
                        <a:lnTo>
                          <a:pt x="219" y="696"/>
                        </a:lnTo>
                        <a:lnTo>
                          <a:pt x="222" y="648"/>
                        </a:lnTo>
                        <a:lnTo>
                          <a:pt x="237" y="585"/>
                        </a:lnTo>
                        <a:lnTo>
                          <a:pt x="246" y="546"/>
                        </a:lnTo>
                        <a:lnTo>
                          <a:pt x="273" y="534"/>
                        </a:lnTo>
                        <a:lnTo>
                          <a:pt x="327" y="519"/>
                        </a:lnTo>
                        <a:lnTo>
                          <a:pt x="351" y="501"/>
                        </a:lnTo>
                        <a:lnTo>
                          <a:pt x="357" y="477"/>
                        </a:lnTo>
                        <a:lnTo>
                          <a:pt x="360" y="447"/>
                        </a:lnTo>
                        <a:lnTo>
                          <a:pt x="372" y="429"/>
                        </a:lnTo>
                        <a:lnTo>
                          <a:pt x="396" y="408"/>
                        </a:lnTo>
                        <a:lnTo>
                          <a:pt x="435" y="390"/>
                        </a:lnTo>
                        <a:lnTo>
                          <a:pt x="474" y="384"/>
                        </a:lnTo>
                        <a:lnTo>
                          <a:pt x="486" y="345"/>
                        </a:lnTo>
                        <a:lnTo>
                          <a:pt x="483" y="315"/>
                        </a:lnTo>
                        <a:lnTo>
                          <a:pt x="555" y="258"/>
                        </a:lnTo>
                        <a:lnTo>
                          <a:pt x="597" y="210"/>
                        </a:lnTo>
                        <a:lnTo>
                          <a:pt x="657" y="180"/>
                        </a:lnTo>
                        <a:lnTo>
                          <a:pt x="690" y="171"/>
                        </a:lnTo>
                        <a:lnTo>
                          <a:pt x="723" y="165"/>
                        </a:lnTo>
                        <a:lnTo>
                          <a:pt x="741" y="144"/>
                        </a:lnTo>
                        <a:lnTo>
                          <a:pt x="819" y="141"/>
                        </a:lnTo>
                        <a:lnTo>
                          <a:pt x="870" y="114"/>
                        </a:lnTo>
                        <a:lnTo>
                          <a:pt x="963" y="111"/>
                        </a:lnTo>
                        <a:lnTo>
                          <a:pt x="966" y="87"/>
                        </a:lnTo>
                        <a:lnTo>
                          <a:pt x="1005" y="51"/>
                        </a:lnTo>
                        <a:lnTo>
                          <a:pt x="1014" y="9"/>
                        </a:lnTo>
                        <a:lnTo>
                          <a:pt x="1074" y="27"/>
                        </a:lnTo>
                        <a:lnTo>
                          <a:pt x="1101" y="39"/>
                        </a:lnTo>
                        <a:lnTo>
                          <a:pt x="1143" y="0"/>
                        </a:lnTo>
                        <a:lnTo>
                          <a:pt x="1173" y="0"/>
                        </a:lnTo>
                        <a:lnTo>
                          <a:pt x="1239" y="42"/>
                        </a:lnTo>
                        <a:lnTo>
                          <a:pt x="1302" y="66"/>
                        </a:lnTo>
                        <a:lnTo>
                          <a:pt x="1359" y="87"/>
                        </a:lnTo>
                        <a:lnTo>
                          <a:pt x="1413" y="84"/>
                        </a:lnTo>
                        <a:lnTo>
                          <a:pt x="1428" y="72"/>
                        </a:lnTo>
                        <a:lnTo>
                          <a:pt x="1440" y="102"/>
                        </a:lnTo>
                        <a:lnTo>
                          <a:pt x="1500" y="156"/>
                        </a:lnTo>
                        <a:lnTo>
                          <a:pt x="1557" y="180"/>
                        </a:lnTo>
                        <a:lnTo>
                          <a:pt x="1566" y="210"/>
                        </a:lnTo>
                        <a:lnTo>
                          <a:pt x="1584" y="222"/>
                        </a:lnTo>
                        <a:lnTo>
                          <a:pt x="1584" y="264"/>
                        </a:lnTo>
                        <a:lnTo>
                          <a:pt x="1659" y="294"/>
                        </a:lnTo>
                        <a:lnTo>
                          <a:pt x="1749" y="306"/>
                        </a:lnTo>
                        <a:lnTo>
                          <a:pt x="1896" y="312"/>
                        </a:lnTo>
                        <a:lnTo>
                          <a:pt x="1965" y="312"/>
                        </a:lnTo>
                        <a:lnTo>
                          <a:pt x="2040" y="333"/>
                        </a:lnTo>
                        <a:lnTo>
                          <a:pt x="2076" y="357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3740040" y="4244400"/>
                    <a:ext cx="8665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4" h="330">
                        <a:moveTo>
                          <a:pt x="0" y="234"/>
                        </a:moveTo>
                        <a:lnTo>
                          <a:pt x="69" y="282"/>
                        </a:lnTo>
                        <a:lnTo>
                          <a:pt x="138" y="309"/>
                        </a:lnTo>
                        <a:lnTo>
                          <a:pt x="186" y="330"/>
                        </a:lnTo>
                        <a:lnTo>
                          <a:pt x="201" y="312"/>
                        </a:lnTo>
                        <a:lnTo>
                          <a:pt x="213" y="273"/>
                        </a:lnTo>
                        <a:lnTo>
                          <a:pt x="225" y="240"/>
                        </a:lnTo>
                        <a:lnTo>
                          <a:pt x="255" y="204"/>
                        </a:lnTo>
                        <a:lnTo>
                          <a:pt x="306" y="171"/>
                        </a:lnTo>
                        <a:lnTo>
                          <a:pt x="363" y="162"/>
                        </a:lnTo>
                        <a:lnTo>
                          <a:pt x="408" y="162"/>
                        </a:lnTo>
                        <a:lnTo>
                          <a:pt x="423" y="138"/>
                        </a:lnTo>
                        <a:lnTo>
                          <a:pt x="471" y="126"/>
                        </a:lnTo>
                        <a:lnTo>
                          <a:pt x="522" y="102"/>
                        </a:lnTo>
                        <a:lnTo>
                          <a:pt x="564" y="66"/>
                        </a:lnTo>
                        <a:lnTo>
                          <a:pt x="594" y="39"/>
                        </a:lnTo>
                        <a:lnTo>
                          <a:pt x="648" y="15"/>
                        </a:lnTo>
                        <a:lnTo>
                          <a:pt x="684" y="0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470240" y="3736440"/>
                    <a:ext cx="261576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4" h="534">
                        <a:moveTo>
                          <a:pt x="6" y="477"/>
                        </a:moveTo>
                        <a:lnTo>
                          <a:pt x="0" y="447"/>
                        </a:lnTo>
                        <a:lnTo>
                          <a:pt x="63" y="405"/>
                        </a:lnTo>
                        <a:lnTo>
                          <a:pt x="105" y="381"/>
                        </a:lnTo>
                        <a:lnTo>
                          <a:pt x="147" y="369"/>
                        </a:lnTo>
                        <a:lnTo>
                          <a:pt x="168" y="330"/>
                        </a:lnTo>
                        <a:lnTo>
                          <a:pt x="204" y="315"/>
                        </a:lnTo>
                        <a:lnTo>
                          <a:pt x="234" y="297"/>
                        </a:lnTo>
                        <a:lnTo>
                          <a:pt x="258" y="264"/>
                        </a:lnTo>
                        <a:lnTo>
                          <a:pt x="279" y="279"/>
                        </a:lnTo>
                        <a:lnTo>
                          <a:pt x="288" y="306"/>
                        </a:lnTo>
                        <a:lnTo>
                          <a:pt x="306" y="327"/>
                        </a:lnTo>
                        <a:lnTo>
                          <a:pt x="357" y="336"/>
                        </a:lnTo>
                        <a:lnTo>
                          <a:pt x="384" y="348"/>
                        </a:lnTo>
                        <a:lnTo>
                          <a:pt x="405" y="375"/>
                        </a:lnTo>
                        <a:lnTo>
                          <a:pt x="420" y="414"/>
                        </a:lnTo>
                        <a:lnTo>
                          <a:pt x="474" y="387"/>
                        </a:lnTo>
                        <a:lnTo>
                          <a:pt x="501" y="357"/>
                        </a:lnTo>
                        <a:lnTo>
                          <a:pt x="549" y="345"/>
                        </a:lnTo>
                        <a:lnTo>
                          <a:pt x="588" y="297"/>
                        </a:lnTo>
                        <a:lnTo>
                          <a:pt x="657" y="246"/>
                        </a:lnTo>
                        <a:lnTo>
                          <a:pt x="702" y="213"/>
                        </a:lnTo>
                        <a:lnTo>
                          <a:pt x="741" y="177"/>
                        </a:lnTo>
                        <a:lnTo>
                          <a:pt x="753" y="135"/>
                        </a:lnTo>
                        <a:lnTo>
                          <a:pt x="756" y="102"/>
                        </a:lnTo>
                        <a:lnTo>
                          <a:pt x="774" y="87"/>
                        </a:lnTo>
                        <a:lnTo>
                          <a:pt x="858" y="93"/>
                        </a:lnTo>
                        <a:lnTo>
                          <a:pt x="912" y="90"/>
                        </a:lnTo>
                        <a:lnTo>
                          <a:pt x="969" y="72"/>
                        </a:lnTo>
                        <a:lnTo>
                          <a:pt x="1029" y="27"/>
                        </a:lnTo>
                        <a:lnTo>
                          <a:pt x="1062" y="0"/>
                        </a:lnTo>
                        <a:lnTo>
                          <a:pt x="1098" y="12"/>
                        </a:lnTo>
                        <a:lnTo>
                          <a:pt x="1131" y="69"/>
                        </a:lnTo>
                        <a:lnTo>
                          <a:pt x="1167" y="117"/>
                        </a:lnTo>
                        <a:lnTo>
                          <a:pt x="1212" y="174"/>
                        </a:lnTo>
                        <a:lnTo>
                          <a:pt x="1260" y="246"/>
                        </a:lnTo>
                        <a:lnTo>
                          <a:pt x="1320" y="321"/>
                        </a:lnTo>
                        <a:lnTo>
                          <a:pt x="1314" y="366"/>
                        </a:lnTo>
                        <a:lnTo>
                          <a:pt x="1323" y="399"/>
                        </a:lnTo>
                        <a:lnTo>
                          <a:pt x="1347" y="414"/>
                        </a:lnTo>
                        <a:lnTo>
                          <a:pt x="1410" y="396"/>
                        </a:lnTo>
                        <a:lnTo>
                          <a:pt x="1449" y="381"/>
                        </a:lnTo>
                        <a:lnTo>
                          <a:pt x="1470" y="351"/>
                        </a:lnTo>
                        <a:lnTo>
                          <a:pt x="1485" y="318"/>
                        </a:lnTo>
                        <a:lnTo>
                          <a:pt x="1551" y="306"/>
                        </a:lnTo>
                        <a:lnTo>
                          <a:pt x="1581" y="297"/>
                        </a:lnTo>
                        <a:lnTo>
                          <a:pt x="1584" y="276"/>
                        </a:lnTo>
                        <a:lnTo>
                          <a:pt x="1644" y="285"/>
                        </a:lnTo>
                        <a:lnTo>
                          <a:pt x="1662" y="315"/>
                        </a:lnTo>
                        <a:lnTo>
                          <a:pt x="1695" y="318"/>
                        </a:lnTo>
                        <a:lnTo>
                          <a:pt x="1743" y="354"/>
                        </a:lnTo>
                        <a:lnTo>
                          <a:pt x="1812" y="408"/>
                        </a:lnTo>
                        <a:lnTo>
                          <a:pt x="1866" y="420"/>
                        </a:lnTo>
                        <a:lnTo>
                          <a:pt x="1881" y="441"/>
                        </a:lnTo>
                        <a:lnTo>
                          <a:pt x="1884" y="483"/>
                        </a:lnTo>
                        <a:lnTo>
                          <a:pt x="1875" y="516"/>
                        </a:lnTo>
                        <a:lnTo>
                          <a:pt x="1881" y="534"/>
                        </a:lnTo>
                        <a:lnTo>
                          <a:pt x="1923" y="525"/>
                        </a:lnTo>
                        <a:lnTo>
                          <a:pt x="1959" y="501"/>
                        </a:lnTo>
                        <a:lnTo>
                          <a:pt x="1998" y="495"/>
                        </a:lnTo>
                        <a:lnTo>
                          <a:pt x="2028" y="483"/>
                        </a:lnTo>
                        <a:lnTo>
                          <a:pt x="2064" y="489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078800" y="3876120"/>
                    <a:ext cx="6840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40" h="921">
                        <a:moveTo>
                          <a:pt x="0" y="141"/>
                        </a:moveTo>
                        <a:cubicBezTo>
                          <a:pt x="24" y="156"/>
                          <a:pt x="36" y="177"/>
                          <a:pt x="57" y="156"/>
                        </a:cubicBezTo>
                        <a:lnTo>
                          <a:pt x="90" y="141"/>
                        </a:lnTo>
                        <a:lnTo>
                          <a:pt x="117" y="72"/>
                        </a:lnTo>
                        <a:lnTo>
                          <a:pt x="168" y="18"/>
                        </a:lnTo>
                        <a:lnTo>
                          <a:pt x="183" y="0"/>
                        </a:lnTo>
                        <a:lnTo>
                          <a:pt x="219" y="21"/>
                        </a:lnTo>
                        <a:lnTo>
                          <a:pt x="363" y="150"/>
                        </a:lnTo>
                        <a:lnTo>
                          <a:pt x="414" y="165"/>
                        </a:lnTo>
                        <a:lnTo>
                          <a:pt x="537" y="273"/>
                        </a:lnTo>
                        <a:lnTo>
                          <a:pt x="540" y="300"/>
                        </a:lnTo>
                        <a:lnTo>
                          <a:pt x="522" y="321"/>
                        </a:lnTo>
                        <a:lnTo>
                          <a:pt x="294" y="420"/>
                        </a:lnTo>
                        <a:lnTo>
                          <a:pt x="234" y="471"/>
                        </a:lnTo>
                        <a:lnTo>
                          <a:pt x="207" y="519"/>
                        </a:lnTo>
                        <a:lnTo>
                          <a:pt x="210" y="579"/>
                        </a:lnTo>
                        <a:lnTo>
                          <a:pt x="222" y="636"/>
                        </a:lnTo>
                        <a:lnTo>
                          <a:pt x="246" y="666"/>
                        </a:lnTo>
                        <a:lnTo>
                          <a:pt x="267" y="699"/>
                        </a:lnTo>
                        <a:lnTo>
                          <a:pt x="282" y="747"/>
                        </a:lnTo>
                        <a:lnTo>
                          <a:pt x="318" y="774"/>
                        </a:lnTo>
                        <a:lnTo>
                          <a:pt x="339" y="801"/>
                        </a:lnTo>
                        <a:lnTo>
                          <a:pt x="345" y="846"/>
                        </a:lnTo>
                        <a:lnTo>
                          <a:pt x="417" y="921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972360" y="4524120"/>
                    <a:ext cx="155880" cy="6984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>
                  <a:off x="3531240" y="4141800"/>
                  <a:ext cx="1068120" cy="232560"/>
                </a:xfrm>
                <a:custGeom>
                  <a:avLst/>
                  <a:gdLst/>
                  <a:ahLst/>
                  <a:rect l="l" t="t" r="r" b="b"/>
                  <a:pathLst>
                    <a:path w="843" h="579">
                      <a:moveTo>
                        <a:pt x="138" y="483"/>
                      </a:moveTo>
                      <a:lnTo>
                        <a:pt x="87" y="381"/>
                      </a:lnTo>
                      <a:lnTo>
                        <a:pt x="84" y="318"/>
                      </a:lnTo>
                      <a:lnTo>
                        <a:pt x="3" y="294"/>
                      </a:lnTo>
                      <a:lnTo>
                        <a:pt x="0" y="255"/>
                      </a:lnTo>
                      <a:lnTo>
                        <a:pt x="33" y="210"/>
                      </a:lnTo>
                      <a:lnTo>
                        <a:pt x="111" y="171"/>
                      </a:lnTo>
                      <a:lnTo>
                        <a:pt x="123" y="132"/>
                      </a:lnTo>
                      <a:lnTo>
                        <a:pt x="102" y="99"/>
                      </a:lnTo>
                      <a:lnTo>
                        <a:pt x="117" y="72"/>
                      </a:lnTo>
                      <a:lnTo>
                        <a:pt x="186" y="54"/>
                      </a:lnTo>
                      <a:lnTo>
                        <a:pt x="300" y="93"/>
                      </a:lnTo>
                      <a:lnTo>
                        <a:pt x="354" y="63"/>
                      </a:lnTo>
                      <a:lnTo>
                        <a:pt x="393" y="57"/>
                      </a:lnTo>
                      <a:lnTo>
                        <a:pt x="456" y="111"/>
                      </a:lnTo>
                      <a:lnTo>
                        <a:pt x="474" y="111"/>
                      </a:lnTo>
                      <a:lnTo>
                        <a:pt x="501" y="48"/>
                      </a:lnTo>
                      <a:lnTo>
                        <a:pt x="561" y="54"/>
                      </a:lnTo>
                      <a:lnTo>
                        <a:pt x="570" y="0"/>
                      </a:lnTo>
                      <a:lnTo>
                        <a:pt x="630" y="3"/>
                      </a:lnTo>
                      <a:lnTo>
                        <a:pt x="657" y="39"/>
                      </a:lnTo>
                      <a:lnTo>
                        <a:pt x="705" y="33"/>
                      </a:lnTo>
                      <a:lnTo>
                        <a:pt x="717" y="99"/>
                      </a:lnTo>
                      <a:lnTo>
                        <a:pt x="768" y="135"/>
                      </a:lnTo>
                      <a:lnTo>
                        <a:pt x="783" y="198"/>
                      </a:lnTo>
                      <a:lnTo>
                        <a:pt x="843" y="261"/>
                      </a:lnTo>
                      <a:lnTo>
                        <a:pt x="768" y="282"/>
                      </a:lnTo>
                      <a:lnTo>
                        <a:pt x="669" y="369"/>
                      </a:lnTo>
                      <a:lnTo>
                        <a:pt x="588" y="393"/>
                      </a:lnTo>
                      <a:lnTo>
                        <a:pt x="573" y="417"/>
                      </a:lnTo>
                      <a:lnTo>
                        <a:pt x="489" y="420"/>
                      </a:lnTo>
                      <a:lnTo>
                        <a:pt x="417" y="456"/>
                      </a:lnTo>
                      <a:lnTo>
                        <a:pt x="384" y="519"/>
                      </a:lnTo>
                      <a:lnTo>
                        <a:pt x="369" y="561"/>
                      </a:lnTo>
                      <a:lnTo>
                        <a:pt x="348" y="579"/>
                      </a:lnTo>
                      <a:lnTo>
                        <a:pt x="276" y="555"/>
                      </a:lnTo>
                      <a:lnTo>
                        <a:pt x="183" y="507"/>
                      </a:lnTo>
                      <a:lnTo>
                        <a:pt x="138" y="483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367920" y="3169080"/>
              <a:ext cx="4417920" cy="1024560"/>
              <a:chOff x="367920" y="3169080"/>
              <a:chExt cx="4417920" cy="1024560"/>
            </a:xfrm>
          </p:grpSpPr>
          <p:sp>
            <p:nvSpPr>
              <p:cNvPr id="182" name=""/>
              <p:cNvSpPr/>
              <p:nvPr/>
            </p:nvSpPr>
            <p:spPr>
              <a:xfrm>
                <a:off x="367920" y="4159440"/>
                <a:ext cx="4094280" cy="3420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972360" y="3169080"/>
                <a:ext cx="3813480" cy="855720"/>
                <a:chOff x="972360" y="3169080"/>
                <a:chExt cx="3813480" cy="855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972360" y="3703680"/>
                  <a:ext cx="916200" cy="316440"/>
                </a:xfrm>
                <a:custGeom>
                  <a:avLst/>
                  <a:gdLst/>
                  <a:ahLst/>
                  <a:rect l="l" t="t" r="r" b="b"/>
                  <a:pathLst>
                    <a:path w="723" h="789">
                      <a:moveTo>
                        <a:pt x="0" y="648"/>
                      </a:moveTo>
                      <a:lnTo>
                        <a:pt x="48" y="603"/>
                      </a:lnTo>
                      <a:lnTo>
                        <a:pt x="60" y="558"/>
                      </a:lnTo>
                      <a:lnTo>
                        <a:pt x="117" y="510"/>
                      </a:lnTo>
                      <a:lnTo>
                        <a:pt x="129" y="429"/>
                      </a:lnTo>
                      <a:lnTo>
                        <a:pt x="111" y="396"/>
                      </a:lnTo>
                      <a:lnTo>
                        <a:pt x="132" y="336"/>
                      </a:lnTo>
                      <a:lnTo>
                        <a:pt x="147" y="300"/>
                      </a:lnTo>
                      <a:lnTo>
                        <a:pt x="186" y="222"/>
                      </a:lnTo>
                      <a:lnTo>
                        <a:pt x="231" y="132"/>
                      </a:lnTo>
                      <a:lnTo>
                        <a:pt x="261" y="57"/>
                      </a:lnTo>
                      <a:lnTo>
                        <a:pt x="270" y="33"/>
                      </a:lnTo>
                      <a:lnTo>
                        <a:pt x="288" y="96"/>
                      </a:lnTo>
                      <a:lnTo>
                        <a:pt x="330" y="138"/>
                      </a:lnTo>
                      <a:lnTo>
                        <a:pt x="390" y="144"/>
                      </a:lnTo>
                      <a:lnTo>
                        <a:pt x="447" y="99"/>
                      </a:lnTo>
                      <a:lnTo>
                        <a:pt x="498" y="54"/>
                      </a:lnTo>
                      <a:lnTo>
                        <a:pt x="525" y="45"/>
                      </a:lnTo>
                      <a:lnTo>
                        <a:pt x="588" y="48"/>
                      </a:lnTo>
                      <a:lnTo>
                        <a:pt x="630" y="24"/>
                      </a:lnTo>
                      <a:lnTo>
                        <a:pt x="669" y="0"/>
                      </a:lnTo>
                      <a:lnTo>
                        <a:pt x="723" y="15"/>
                      </a:lnTo>
                      <a:lnTo>
                        <a:pt x="582" y="138"/>
                      </a:lnTo>
                      <a:lnTo>
                        <a:pt x="576" y="201"/>
                      </a:lnTo>
                      <a:lnTo>
                        <a:pt x="492" y="231"/>
                      </a:lnTo>
                      <a:lnTo>
                        <a:pt x="453" y="288"/>
                      </a:lnTo>
                      <a:lnTo>
                        <a:pt x="447" y="324"/>
                      </a:lnTo>
                      <a:lnTo>
                        <a:pt x="414" y="345"/>
                      </a:lnTo>
                      <a:lnTo>
                        <a:pt x="351" y="366"/>
                      </a:lnTo>
                      <a:lnTo>
                        <a:pt x="324" y="456"/>
                      </a:lnTo>
                      <a:lnTo>
                        <a:pt x="312" y="513"/>
                      </a:lnTo>
                      <a:lnTo>
                        <a:pt x="270" y="573"/>
                      </a:lnTo>
                      <a:lnTo>
                        <a:pt x="168" y="696"/>
                      </a:lnTo>
                      <a:lnTo>
                        <a:pt x="153" y="750"/>
                      </a:lnTo>
                      <a:lnTo>
                        <a:pt x="129" y="780"/>
                      </a:lnTo>
                      <a:lnTo>
                        <a:pt x="111" y="789"/>
                      </a:lnTo>
                      <a:lnTo>
                        <a:pt x="0" y="648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128240" y="3468960"/>
                  <a:ext cx="1323000" cy="291240"/>
                </a:xfrm>
                <a:custGeom>
                  <a:avLst/>
                  <a:gdLst/>
                  <a:ahLst/>
                  <a:rect l="l" t="t" r="r" b="b"/>
                  <a:pathLst>
                    <a:path w="1044" h="726">
                      <a:moveTo>
                        <a:pt x="156" y="648"/>
                      </a:moveTo>
                      <a:lnTo>
                        <a:pt x="165" y="675"/>
                      </a:lnTo>
                      <a:lnTo>
                        <a:pt x="204" y="726"/>
                      </a:lnTo>
                      <a:lnTo>
                        <a:pt x="267" y="726"/>
                      </a:lnTo>
                      <a:lnTo>
                        <a:pt x="300" y="708"/>
                      </a:lnTo>
                      <a:lnTo>
                        <a:pt x="330" y="675"/>
                      </a:lnTo>
                      <a:lnTo>
                        <a:pt x="375" y="639"/>
                      </a:lnTo>
                      <a:lnTo>
                        <a:pt x="396" y="633"/>
                      </a:lnTo>
                      <a:lnTo>
                        <a:pt x="462" y="633"/>
                      </a:lnTo>
                      <a:lnTo>
                        <a:pt x="543" y="588"/>
                      </a:lnTo>
                      <a:lnTo>
                        <a:pt x="564" y="594"/>
                      </a:lnTo>
                      <a:lnTo>
                        <a:pt x="594" y="609"/>
                      </a:lnTo>
                      <a:lnTo>
                        <a:pt x="705" y="570"/>
                      </a:lnTo>
                      <a:lnTo>
                        <a:pt x="714" y="543"/>
                      </a:lnTo>
                      <a:lnTo>
                        <a:pt x="807" y="543"/>
                      </a:lnTo>
                      <a:lnTo>
                        <a:pt x="855" y="519"/>
                      </a:lnTo>
                      <a:lnTo>
                        <a:pt x="936" y="519"/>
                      </a:lnTo>
                      <a:lnTo>
                        <a:pt x="951" y="480"/>
                      </a:lnTo>
                      <a:lnTo>
                        <a:pt x="984" y="456"/>
                      </a:lnTo>
                      <a:lnTo>
                        <a:pt x="990" y="420"/>
                      </a:lnTo>
                      <a:lnTo>
                        <a:pt x="1041" y="432"/>
                      </a:lnTo>
                      <a:lnTo>
                        <a:pt x="1044" y="405"/>
                      </a:lnTo>
                      <a:lnTo>
                        <a:pt x="1011" y="387"/>
                      </a:lnTo>
                      <a:lnTo>
                        <a:pt x="987" y="366"/>
                      </a:lnTo>
                      <a:lnTo>
                        <a:pt x="891" y="354"/>
                      </a:lnTo>
                      <a:lnTo>
                        <a:pt x="876" y="258"/>
                      </a:lnTo>
                      <a:lnTo>
                        <a:pt x="834" y="189"/>
                      </a:lnTo>
                      <a:lnTo>
                        <a:pt x="765" y="159"/>
                      </a:lnTo>
                      <a:lnTo>
                        <a:pt x="735" y="159"/>
                      </a:lnTo>
                      <a:lnTo>
                        <a:pt x="696" y="117"/>
                      </a:lnTo>
                      <a:lnTo>
                        <a:pt x="657" y="105"/>
                      </a:lnTo>
                      <a:lnTo>
                        <a:pt x="618" y="108"/>
                      </a:lnTo>
                      <a:lnTo>
                        <a:pt x="591" y="69"/>
                      </a:lnTo>
                      <a:lnTo>
                        <a:pt x="567" y="33"/>
                      </a:lnTo>
                      <a:lnTo>
                        <a:pt x="537" y="3"/>
                      </a:lnTo>
                      <a:lnTo>
                        <a:pt x="513" y="0"/>
                      </a:lnTo>
                      <a:lnTo>
                        <a:pt x="480" y="42"/>
                      </a:lnTo>
                      <a:lnTo>
                        <a:pt x="435" y="63"/>
                      </a:lnTo>
                      <a:lnTo>
                        <a:pt x="390" y="111"/>
                      </a:lnTo>
                      <a:lnTo>
                        <a:pt x="363" y="90"/>
                      </a:lnTo>
                      <a:lnTo>
                        <a:pt x="324" y="87"/>
                      </a:lnTo>
                      <a:lnTo>
                        <a:pt x="294" y="30"/>
                      </a:lnTo>
                      <a:lnTo>
                        <a:pt x="282" y="57"/>
                      </a:lnTo>
                      <a:lnTo>
                        <a:pt x="264" y="72"/>
                      </a:lnTo>
                      <a:lnTo>
                        <a:pt x="255" y="93"/>
                      </a:lnTo>
                      <a:lnTo>
                        <a:pt x="228" y="117"/>
                      </a:lnTo>
                      <a:lnTo>
                        <a:pt x="234" y="165"/>
                      </a:lnTo>
                      <a:lnTo>
                        <a:pt x="174" y="165"/>
                      </a:lnTo>
                      <a:lnTo>
                        <a:pt x="138" y="192"/>
                      </a:lnTo>
                      <a:lnTo>
                        <a:pt x="90" y="204"/>
                      </a:lnTo>
                      <a:lnTo>
                        <a:pt x="42" y="282"/>
                      </a:lnTo>
                      <a:lnTo>
                        <a:pt x="60" y="333"/>
                      </a:lnTo>
                      <a:lnTo>
                        <a:pt x="3" y="360"/>
                      </a:lnTo>
                      <a:lnTo>
                        <a:pt x="0" y="384"/>
                      </a:lnTo>
                      <a:lnTo>
                        <a:pt x="63" y="513"/>
                      </a:lnTo>
                      <a:lnTo>
                        <a:pt x="138" y="573"/>
                      </a:lnTo>
                      <a:lnTo>
                        <a:pt x="147" y="618"/>
                      </a:lnTo>
                      <a:lnTo>
                        <a:pt x="156" y="648"/>
                      </a:lnTo>
                      <a:close/>
                    </a:path>
                  </a:pathLst>
                </a:custGeom>
                <a:solidFill>
                  <a:srgbClr val="ff9469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485360" y="3169080"/>
                  <a:ext cx="1672920" cy="396000"/>
                </a:xfrm>
                <a:custGeom>
                  <a:avLst/>
                  <a:gdLst/>
                  <a:ahLst/>
                  <a:rect l="l" t="t" r="r" b="b"/>
                  <a:pathLst>
                    <a:path w="1320" h="987">
                      <a:moveTo>
                        <a:pt x="21" y="786"/>
                      </a:moveTo>
                      <a:lnTo>
                        <a:pt x="42" y="834"/>
                      </a:lnTo>
                      <a:lnTo>
                        <a:pt x="81" y="840"/>
                      </a:lnTo>
                      <a:lnTo>
                        <a:pt x="111" y="858"/>
                      </a:lnTo>
                      <a:lnTo>
                        <a:pt x="153" y="813"/>
                      </a:lnTo>
                      <a:lnTo>
                        <a:pt x="204" y="783"/>
                      </a:lnTo>
                      <a:lnTo>
                        <a:pt x="231" y="747"/>
                      </a:lnTo>
                      <a:lnTo>
                        <a:pt x="264" y="750"/>
                      </a:lnTo>
                      <a:lnTo>
                        <a:pt x="312" y="816"/>
                      </a:lnTo>
                      <a:lnTo>
                        <a:pt x="339" y="855"/>
                      </a:lnTo>
                      <a:lnTo>
                        <a:pt x="390" y="855"/>
                      </a:lnTo>
                      <a:lnTo>
                        <a:pt x="432" y="876"/>
                      </a:lnTo>
                      <a:lnTo>
                        <a:pt x="456" y="909"/>
                      </a:lnTo>
                      <a:lnTo>
                        <a:pt x="489" y="906"/>
                      </a:lnTo>
                      <a:lnTo>
                        <a:pt x="558" y="939"/>
                      </a:lnTo>
                      <a:lnTo>
                        <a:pt x="585" y="987"/>
                      </a:lnTo>
                      <a:lnTo>
                        <a:pt x="663" y="945"/>
                      </a:lnTo>
                      <a:lnTo>
                        <a:pt x="756" y="888"/>
                      </a:lnTo>
                      <a:lnTo>
                        <a:pt x="822" y="873"/>
                      </a:lnTo>
                      <a:lnTo>
                        <a:pt x="837" y="840"/>
                      </a:lnTo>
                      <a:lnTo>
                        <a:pt x="882" y="828"/>
                      </a:lnTo>
                      <a:lnTo>
                        <a:pt x="918" y="792"/>
                      </a:lnTo>
                      <a:lnTo>
                        <a:pt x="855" y="783"/>
                      </a:lnTo>
                      <a:lnTo>
                        <a:pt x="654" y="822"/>
                      </a:lnTo>
                      <a:lnTo>
                        <a:pt x="588" y="798"/>
                      </a:lnTo>
                      <a:lnTo>
                        <a:pt x="555" y="816"/>
                      </a:lnTo>
                      <a:lnTo>
                        <a:pt x="519" y="771"/>
                      </a:lnTo>
                      <a:lnTo>
                        <a:pt x="582" y="714"/>
                      </a:lnTo>
                      <a:lnTo>
                        <a:pt x="609" y="624"/>
                      </a:lnTo>
                      <a:lnTo>
                        <a:pt x="720" y="525"/>
                      </a:lnTo>
                      <a:lnTo>
                        <a:pt x="777" y="501"/>
                      </a:lnTo>
                      <a:lnTo>
                        <a:pt x="837" y="498"/>
                      </a:lnTo>
                      <a:lnTo>
                        <a:pt x="885" y="477"/>
                      </a:lnTo>
                      <a:lnTo>
                        <a:pt x="924" y="390"/>
                      </a:lnTo>
                      <a:lnTo>
                        <a:pt x="993" y="357"/>
                      </a:lnTo>
                      <a:lnTo>
                        <a:pt x="993" y="312"/>
                      </a:lnTo>
                      <a:lnTo>
                        <a:pt x="1038" y="237"/>
                      </a:lnTo>
                      <a:lnTo>
                        <a:pt x="1104" y="231"/>
                      </a:lnTo>
                      <a:lnTo>
                        <a:pt x="1149" y="201"/>
                      </a:lnTo>
                      <a:lnTo>
                        <a:pt x="1188" y="264"/>
                      </a:lnTo>
                      <a:lnTo>
                        <a:pt x="1200" y="285"/>
                      </a:lnTo>
                      <a:lnTo>
                        <a:pt x="1251" y="312"/>
                      </a:lnTo>
                      <a:lnTo>
                        <a:pt x="1272" y="354"/>
                      </a:lnTo>
                      <a:lnTo>
                        <a:pt x="1287" y="369"/>
                      </a:lnTo>
                      <a:lnTo>
                        <a:pt x="1320" y="360"/>
                      </a:lnTo>
                      <a:lnTo>
                        <a:pt x="1314" y="309"/>
                      </a:lnTo>
                      <a:lnTo>
                        <a:pt x="1095" y="9"/>
                      </a:lnTo>
                      <a:lnTo>
                        <a:pt x="1056" y="0"/>
                      </a:lnTo>
                      <a:lnTo>
                        <a:pt x="963" y="75"/>
                      </a:lnTo>
                      <a:lnTo>
                        <a:pt x="870" y="93"/>
                      </a:lnTo>
                      <a:lnTo>
                        <a:pt x="759" y="87"/>
                      </a:lnTo>
                      <a:lnTo>
                        <a:pt x="744" y="156"/>
                      </a:lnTo>
                      <a:lnTo>
                        <a:pt x="741" y="177"/>
                      </a:lnTo>
                      <a:lnTo>
                        <a:pt x="585" y="303"/>
                      </a:lnTo>
                      <a:lnTo>
                        <a:pt x="552" y="342"/>
                      </a:lnTo>
                      <a:lnTo>
                        <a:pt x="492" y="363"/>
                      </a:lnTo>
                      <a:lnTo>
                        <a:pt x="426" y="417"/>
                      </a:lnTo>
                      <a:lnTo>
                        <a:pt x="378" y="342"/>
                      </a:lnTo>
                      <a:lnTo>
                        <a:pt x="300" y="327"/>
                      </a:lnTo>
                      <a:lnTo>
                        <a:pt x="270" y="276"/>
                      </a:lnTo>
                      <a:lnTo>
                        <a:pt x="228" y="303"/>
                      </a:lnTo>
                      <a:lnTo>
                        <a:pt x="165" y="345"/>
                      </a:lnTo>
                      <a:lnTo>
                        <a:pt x="120" y="381"/>
                      </a:lnTo>
                      <a:lnTo>
                        <a:pt x="0" y="444"/>
                      </a:lnTo>
                      <a:lnTo>
                        <a:pt x="6" y="486"/>
                      </a:lnTo>
                      <a:lnTo>
                        <a:pt x="36" y="537"/>
                      </a:lnTo>
                      <a:lnTo>
                        <a:pt x="6" y="588"/>
                      </a:lnTo>
                      <a:lnTo>
                        <a:pt x="54" y="705"/>
                      </a:lnTo>
                      <a:lnTo>
                        <a:pt x="21" y="786"/>
                      </a:lnTo>
                      <a:close/>
                    </a:path>
                  </a:pathLst>
                </a:custGeom>
                <a:solidFill>
                  <a:srgbClr val="00dfca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139480" y="3250800"/>
                  <a:ext cx="1467360" cy="246600"/>
                </a:xfrm>
                <a:custGeom>
                  <a:avLst/>
                  <a:gdLst/>
                  <a:ahLst/>
                  <a:rect l="l" t="t" r="r" b="b"/>
                  <a:pathLst>
                    <a:path w="1158" h="615">
                      <a:moveTo>
                        <a:pt x="1146" y="132"/>
                      </a:moveTo>
                      <a:lnTo>
                        <a:pt x="1152" y="177"/>
                      </a:lnTo>
                      <a:lnTo>
                        <a:pt x="1158" y="216"/>
                      </a:lnTo>
                      <a:lnTo>
                        <a:pt x="1146" y="261"/>
                      </a:lnTo>
                      <a:lnTo>
                        <a:pt x="1062" y="288"/>
                      </a:lnTo>
                      <a:lnTo>
                        <a:pt x="1002" y="309"/>
                      </a:lnTo>
                      <a:lnTo>
                        <a:pt x="963" y="339"/>
                      </a:lnTo>
                      <a:lnTo>
                        <a:pt x="864" y="390"/>
                      </a:lnTo>
                      <a:lnTo>
                        <a:pt x="801" y="447"/>
                      </a:lnTo>
                      <a:lnTo>
                        <a:pt x="705" y="573"/>
                      </a:lnTo>
                      <a:lnTo>
                        <a:pt x="636" y="564"/>
                      </a:lnTo>
                      <a:lnTo>
                        <a:pt x="561" y="543"/>
                      </a:lnTo>
                      <a:lnTo>
                        <a:pt x="507" y="594"/>
                      </a:lnTo>
                      <a:lnTo>
                        <a:pt x="447" y="579"/>
                      </a:lnTo>
                      <a:lnTo>
                        <a:pt x="396" y="588"/>
                      </a:lnTo>
                      <a:lnTo>
                        <a:pt x="339" y="576"/>
                      </a:lnTo>
                      <a:lnTo>
                        <a:pt x="138" y="615"/>
                      </a:lnTo>
                      <a:lnTo>
                        <a:pt x="69" y="594"/>
                      </a:lnTo>
                      <a:lnTo>
                        <a:pt x="39" y="609"/>
                      </a:lnTo>
                      <a:lnTo>
                        <a:pt x="0" y="564"/>
                      </a:lnTo>
                      <a:lnTo>
                        <a:pt x="75" y="504"/>
                      </a:lnTo>
                      <a:lnTo>
                        <a:pt x="99" y="414"/>
                      </a:lnTo>
                      <a:lnTo>
                        <a:pt x="207" y="318"/>
                      </a:lnTo>
                      <a:lnTo>
                        <a:pt x="267" y="294"/>
                      </a:lnTo>
                      <a:lnTo>
                        <a:pt x="321" y="297"/>
                      </a:lnTo>
                      <a:lnTo>
                        <a:pt x="378" y="267"/>
                      </a:lnTo>
                      <a:lnTo>
                        <a:pt x="411" y="183"/>
                      </a:lnTo>
                      <a:lnTo>
                        <a:pt x="480" y="153"/>
                      </a:lnTo>
                      <a:lnTo>
                        <a:pt x="480" y="105"/>
                      </a:lnTo>
                      <a:lnTo>
                        <a:pt x="531" y="30"/>
                      </a:lnTo>
                      <a:lnTo>
                        <a:pt x="597" y="30"/>
                      </a:lnTo>
                      <a:lnTo>
                        <a:pt x="636" y="0"/>
                      </a:lnTo>
                      <a:lnTo>
                        <a:pt x="678" y="78"/>
                      </a:lnTo>
                      <a:lnTo>
                        <a:pt x="741" y="114"/>
                      </a:lnTo>
                      <a:lnTo>
                        <a:pt x="759" y="165"/>
                      </a:lnTo>
                      <a:lnTo>
                        <a:pt x="807" y="162"/>
                      </a:lnTo>
                      <a:lnTo>
                        <a:pt x="807" y="201"/>
                      </a:lnTo>
                      <a:lnTo>
                        <a:pt x="837" y="213"/>
                      </a:lnTo>
                      <a:lnTo>
                        <a:pt x="945" y="168"/>
                      </a:lnTo>
                      <a:lnTo>
                        <a:pt x="972" y="111"/>
                      </a:lnTo>
                      <a:lnTo>
                        <a:pt x="1074" y="93"/>
                      </a:lnTo>
                      <a:lnTo>
                        <a:pt x="1074" y="66"/>
                      </a:lnTo>
                      <a:lnTo>
                        <a:pt x="1131" y="78"/>
                      </a:lnTo>
                      <a:lnTo>
                        <a:pt x="1140" y="111"/>
                      </a:lnTo>
                      <a:lnTo>
                        <a:pt x="1146" y="132"/>
                      </a:lnTo>
                      <a:close/>
                    </a:path>
                  </a:pathLst>
                </a:custGeom>
                <a:solidFill>
                  <a:srgbClr val="00cc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219400" y="3468960"/>
                  <a:ext cx="798120" cy="193680"/>
                </a:xfrm>
                <a:custGeom>
                  <a:avLst/>
                  <a:gdLst/>
                  <a:ahLst/>
                  <a:rect l="l" t="t" r="r" b="b"/>
                  <a:pathLst>
                    <a:path w="630" h="483">
                      <a:moveTo>
                        <a:pt x="0" y="240"/>
                      </a:moveTo>
                      <a:lnTo>
                        <a:pt x="186" y="135"/>
                      </a:lnTo>
                      <a:lnTo>
                        <a:pt x="255" y="120"/>
                      </a:lnTo>
                      <a:lnTo>
                        <a:pt x="264" y="90"/>
                      </a:lnTo>
                      <a:lnTo>
                        <a:pt x="312" y="78"/>
                      </a:lnTo>
                      <a:lnTo>
                        <a:pt x="339" y="39"/>
                      </a:lnTo>
                      <a:lnTo>
                        <a:pt x="396" y="33"/>
                      </a:lnTo>
                      <a:lnTo>
                        <a:pt x="444" y="51"/>
                      </a:lnTo>
                      <a:lnTo>
                        <a:pt x="501" y="0"/>
                      </a:lnTo>
                      <a:lnTo>
                        <a:pt x="630" y="30"/>
                      </a:lnTo>
                      <a:lnTo>
                        <a:pt x="627" y="60"/>
                      </a:lnTo>
                      <a:lnTo>
                        <a:pt x="600" y="81"/>
                      </a:lnTo>
                      <a:lnTo>
                        <a:pt x="594" y="144"/>
                      </a:lnTo>
                      <a:lnTo>
                        <a:pt x="573" y="174"/>
                      </a:lnTo>
                      <a:lnTo>
                        <a:pt x="522" y="186"/>
                      </a:lnTo>
                      <a:lnTo>
                        <a:pt x="501" y="189"/>
                      </a:lnTo>
                      <a:lnTo>
                        <a:pt x="507" y="246"/>
                      </a:lnTo>
                      <a:lnTo>
                        <a:pt x="480" y="282"/>
                      </a:lnTo>
                      <a:lnTo>
                        <a:pt x="486" y="378"/>
                      </a:lnTo>
                      <a:lnTo>
                        <a:pt x="576" y="474"/>
                      </a:lnTo>
                      <a:lnTo>
                        <a:pt x="492" y="483"/>
                      </a:lnTo>
                      <a:lnTo>
                        <a:pt x="288" y="387"/>
                      </a:lnTo>
                      <a:lnTo>
                        <a:pt x="231" y="432"/>
                      </a:lnTo>
                      <a:lnTo>
                        <a:pt x="132" y="405"/>
                      </a:lnTo>
                      <a:lnTo>
                        <a:pt x="129" y="366"/>
                      </a:lnTo>
                      <a:lnTo>
                        <a:pt x="24" y="351"/>
                      </a:lnTo>
                      <a:lnTo>
                        <a:pt x="18" y="267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827800" y="3407400"/>
                  <a:ext cx="1437120" cy="360000"/>
                </a:xfrm>
                <a:custGeom>
                  <a:avLst/>
                  <a:gdLst/>
                  <a:ahLst/>
                  <a:rect l="l" t="t" r="r" b="b"/>
                  <a:pathLst>
                    <a:path w="1134" h="897">
                      <a:moveTo>
                        <a:pt x="315" y="0"/>
                      </a:moveTo>
                      <a:lnTo>
                        <a:pt x="345" y="45"/>
                      </a:lnTo>
                      <a:lnTo>
                        <a:pt x="336" y="150"/>
                      </a:lnTo>
                      <a:lnTo>
                        <a:pt x="321" y="240"/>
                      </a:lnTo>
                      <a:lnTo>
                        <a:pt x="354" y="270"/>
                      </a:lnTo>
                      <a:lnTo>
                        <a:pt x="342" y="348"/>
                      </a:lnTo>
                      <a:lnTo>
                        <a:pt x="348" y="393"/>
                      </a:lnTo>
                      <a:lnTo>
                        <a:pt x="390" y="411"/>
                      </a:lnTo>
                      <a:lnTo>
                        <a:pt x="537" y="432"/>
                      </a:lnTo>
                      <a:lnTo>
                        <a:pt x="570" y="420"/>
                      </a:lnTo>
                      <a:lnTo>
                        <a:pt x="597" y="354"/>
                      </a:lnTo>
                      <a:lnTo>
                        <a:pt x="651" y="312"/>
                      </a:lnTo>
                      <a:lnTo>
                        <a:pt x="681" y="312"/>
                      </a:lnTo>
                      <a:lnTo>
                        <a:pt x="708" y="288"/>
                      </a:lnTo>
                      <a:lnTo>
                        <a:pt x="777" y="273"/>
                      </a:lnTo>
                      <a:lnTo>
                        <a:pt x="819" y="315"/>
                      </a:lnTo>
                      <a:lnTo>
                        <a:pt x="861" y="312"/>
                      </a:lnTo>
                      <a:lnTo>
                        <a:pt x="978" y="357"/>
                      </a:lnTo>
                      <a:lnTo>
                        <a:pt x="1104" y="378"/>
                      </a:lnTo>
                      <a:lnTo>
                        <a:pt x="1134" y="420"/>
                      </a:lnTo>
                      <a:lnTo>
                        <a:pt x="1122" y="471"/>
                      </a:lnTo>
                      <a:lnTo>
                        <a:pt x="1065" y="462"/>
                      </a:lnTo>
                      <a:lnTo>
                        <a:pt x="1029" y="528"/>
                      </a:lnTo>
                      <a:lnTo>
                        <a:pt x="966" y="477"/>
                      </a:lnTo>
                      <a:lnTo>
                        <a:pt x="930" y="471"/>
                      </a:lnTo>
                      <a:lnTo>
                        <a:pt x="867" y="507"/>
                      </a:lnTo>
                      <a:lnTo>
                        <a:pt x="753" y="471"/>
                      </a:lnTo>
                      <a:lnTo>
                        <a:pt x="681" y="486"/>
                      </a:lnTo>
                      <a:lnTo>
                        <a:pt x="669" y="510"/>
                      </a:lnTo>
                      <a:lnTo>
                        <a:pt x="687" y="546"/>
                      </a:lnTo>
                      <a:lnTo>
                        <a:pt x="678" y="579"/>
                      </a:lnTo>
                      <a:lnTo>
                        <a:pt x="588" y="633"/>
                      </a:lnTo>
                      <a:lnTo>
                        <a:pt x="567" y="678"/>
                      </a:lnTo>
                      <a:lnTo>
                        <a:pt x="567" y="708"/>
                      </a:lnTo>
                      <a:lnTo>
                        <a:pt x="648" y="732"/>
                      </a:lnTo>
                      <a:lnTo>
                        <a:pt x="657" y="801"/>
                      </a:lnTo>
                      <a:lnTo>
                        <a:pt x="702" y="897"/>
                      </a:lnTo>
                      <a:lnTo>
                        <a:pt x="612" y="858"/>
                      </a:lnTo>
                      <a:lnTo>
                        <a:pt x="396" y="852"/>
                      </a:lnTo>
                      <a:lnTo>
                        <a:pt x="267" y="825"/>
                      </a:lnTo>
                      <a:lnTo>
                        <a:pt x="231" y="816"/>
                      </a:lnTo>
                      <a:lnTo>
                        <a:pt x="231" y="750"/>
                      </a:lnTo>
                      <a:lnTo>
                        <a:pt x="204" y="717"/>
                      </a:lnTo>
                      <a:lnTo>
                        <a:pt x="129" y="681"/>
                      </a:lnTo>
                      <a:lnTo>
                        <a:pt x="84" y="609"/>
                      </a:lnTo>
                      <a:lnTo>
                        <a:pt x="6" y="528"/>
                      </a:lnTo>
                      <a:lnTo>
                        <a:pt x="0" y="471"/>
                      </a:lnTo>
                      <a:lnTo>
                        <a:pt x="3" y="429"/>
                      </a:lnTo>
                      <a:lnTo>
                        <a:pt x="30" y="399"/>
                      </a:lnTo>
                      <a:lnTo>
                        <a:pt x="24" y="339"/>
                      </a:lnTo>
                      <a:lnTo>
                        <a:pt x="99" y="327"/>
                      </a:lnTo>
                      <a:lnTo>
                        <a:pt x="120" y="297"/>
                      </a:lnTo>
                      <a:lnTo>
                        <a:pt x="120" y="234"/>
                      </a:lnTo>
                      <a:lnTo>
                        <a:pt x="150" y="210"/>
                      </a:lnTo>
                      <a:lnTo>
                        <a:pt x="159" y="180"/>
                      </a:lnTo>
                      <a:lnTo>
                        <a:pt x="264" y="48"/>
                      </a:lnTo>
                      <a:lnTo>
                        <a:pt x="315" y="0"/>
                      </a:lnTo>
                      <a:close/>
                    </a:path>
                  </a:pathLst>
                </a:custGeom>
                <a:solidFill>
                  <a:srgbClr val="019470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234600" y="3300120"/>
                  <a:ext cx="642240" cy="279360"/>
                </a:xfrm>
                <a:custGeom>
                  <a:avLst/>
                  <a:gdLst/>
                  <a:ahLst/>
                  <a:rect l="l" t="t" r="r" b="b"/>
                  <a:pathLst>
                    <a:path w="507" h="696">
                      <a:moveTo>
                        <a:pt x="0" y="270"/>
                      </a:moveTo>
                      <a:lnTo>
                        <a:pt x="27" y="315"/>
                      </a:lnTo>
                      <a:lnTo>
                        <a:pt x="0" y="513"/>
                      </a:lnTo>
                      <a:lnTo>
                        <a:pt x="33" y="537"/>
                      </a:lnTo>
                      <a:lnTo>
                        <a:pt x="27" y="603"/>
                      </a:lnTo>
                      <a:lnTo>
                        <a:pt x="24" y="624"/>
                      </a:lnTo>
                      <a:lnTo>
                        <a:pt x="33" y="660"/>
                      </a:lnTo>
                      <a:lnTo>
                        <a:pt x="75" y="678"/>
                      </a:lnTo>
                      <a:lnTo>
                        <a:pt x="174" y="690"/>
                      </a:lnTo>
                      <a:lnTo>
                        <a:pt x="222" y="696"/>
                      </a:lnTo>
                      <a:lnTo>
                        <a:pt x="255" y="687"/>
                      </a:lnTo>
                      <a:lnTo>
                        <a:pt x="279" y="612"/>
                      </a:lnTo>
                      <a:lnTo>
                        <a:pt x="330" y="576"/>
                      </a:lnTo>
                      <a:lnTo>
                        <a:pt x="363" y="576"/>
                      </a:lnTo>
                      <a:lnTo>
                        <a:pt x="390" y="555"/>
                      </a:lnTo>
                      <a:lnTo>
                        <a:pt x="450" y="543"/>
                      </a:lnTo>
                      <a:lnTo>
                        <a:pt x="432" y="495"/>
                      </a:lnTo>
                      <a:lnTo>
                        <a:pt x="393" y="414"/>
                      </a:lnTo>
                      <a:lnTo>
                        <a:pt x="438" y="333"/>
                      </a:lnTo>
                      <a:lnTo>
                        <a:pt x="465" y="264"/>
                      </a:lnTo>
                      <a:lnTo>
                        <a:pt x="507" y="210"/>
                      </a:lnTo>
                      <a:lnTo>
                        <a:pt x="492" y="90"/>
                      </a:lnTo>
                      <a:lnTo>
                        <a:pt x="393" y="51"/>
                      </a:lnTo>
                      <a:lnTo>
                        <a:pt x="318" y="0"/>
                      </a:lnTo>
                      <a:lnTo>
                        <a:pt x="279" y="0"/>
                      </a:lnTo>
                      <a:lnTo>
                        <a:pt x="291" y="66"/>
                      </a:lnTo>
                      <a:lnTo>
                        <a:pt x="294" y="99"/>
                      </a:lnTo>
                      <a:lnTo>
                        <a:pt x="279" y="144"/>
                      </a:lnTo>
                      <a:lnTo>
                        <a:pt x="141" y="183"/>
                      </a:lnTo>
                      <a:lnTo>
                        <a:pt x="84" y="228"/>
                      </a:lnTo>
                      <a:lnTo>
                        <a:pt x="0" y="27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732840" y="3308760"/>
                  <a:ext cx="1053000" cy="279360"/>
                </a:xfrm>
                <a:custGeom>
                  <a:avLst/>
                  <a:gdLst/>
                  <a:ahLst/>
                  <a:rect l="l" t="t" r="r" b="b"/>
                  <a:pathLst>
                    <a:path w="831" h="696">
                      <a:moveTo>
                        <a:pt x="132" y="180"/>
                      </a:moveTo>
                      <a:lnTo>
                        <a:pt x="75" y="237"/>
                      </a:lnTo>
                      <a:lnTo>
                        <a:pt x="42" y="327"/>
                      </a:lnTo>
                      <a:lnTo>
                        <a:pt x="0" y="390"/>
                      </a:lnTo>
                      <a:lnTo>
                        <a:pt x="48" y="489"/>
                      </a:lnTo>
                      <a:lnTo>
                        <a:pt x="75" y="537"/>
                      </a:lnTo>
                      <a:lnTo>
                        <a:pt x="111" y="561"/>
                      </a:lnTo>
                      <a:lnTo>
                        <a:pt x="156" y="558"/>
                      </a:lnTo>
                      <a:lnTo>
                        <a:pt x="285" y="606"/>
                      </a:lnTo>
                      <a:lnTo>
                        <a:pt x="396" y="630"/>
                      </a:lnTo>
                      <a:lnTo>
                        <a:pt x="432" y="660"/>
                      </a:lnTo>
                      <a:lnTo>
                        <a:pt x="480" y="663"/>
                      </a:lnTo>
                      <a:lnTo>
                        <a:pt x="510" y="696"/>
                      </a:lnTo>
                      <a:lnTo>
                        <a:pt x="555" y="687"/>
                      </a:lnTo>
                      <a:lnTo>
                        <a:pt x="507" y="636"/>
                      </a:lnTo>
                      <a:lnTo>
                        <a:pt x="486" y="528"/>
                      </a:lnTo>
                      <a:lnTo>
                        <a:pt x="543" y="435"/>
                      </a:lnTo>
                      <a:lnTo>
                        <a:pt x="738" y="351"/>
                      </a:lnTo>
                      <a:lnTo>
                        <a:pt x="831" y="294"/>
                      </a:lnTo>
                      <a:lnTo>
                        <a:pt x="816" y="255"/>
                      </a:lnTo>
                      <a:lnTo>
                        <a:pt x="699" y="156"/>
                      </a:lnTo>
                      <a:lnTo>
                        <a:pt x="633" y="135"/>
                      </a:lnTo>
                      <a:lnTo>
                        <a:pt x="522" y="36"/>
                      </a:lnTo>
                      <a:lnTo>
                        <a:pt x="471" y="0"/>
                      </a:lnTo>
                      <a:lnTo>
                        <a:pt x="399" y="84"/>
                      </a:lnTo>
                      <a:lnTo>
                        <a:pt x="384" y="129"/>
                      </a:lnTo>
                      <a:lnTo>
                        <a:pt x="321" y="162"/>
                      </a:lnTo>
                      <a:lnTo>
                        <a:pt x="276" y="132"/>
                      </a:lnTo>
                      <a:lnTo>
                        <a:pt x="195" y="153"/>
                      </a:lnTo>
                      <a:lnTo>
                        <a:pt x="132" y="18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" name=""/>
                <p:cNvGrpSpPr/>
                <p:nvPr/>
              </p:nvGrpSpPr>
              <p:grpSpPr>
                <a:xfrm>
                  <a:off x="987480" y="3169080"/>
                  <a:ext cx="3790440" cy="855720"/>
                  <a:chOff x="987480" y="3169080"/>
                  <a:chExt cx="3790440" cy="85572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1002600" y="3556800"/>
                    <a:ext cx="33840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002">
                        <a:moveTo>
                          <a:pt x="0" y="1002"/>
                        </a:moveTo>
                        <a:lnTo>
                          <a:pt x="39" y="966"/>
                        </a:lnTo>
                        <a:lnTo>
                          <a:pt x="54" y="921"/>
                        </a:lnTo>
                        <a:lnTo>
                          <a:pt x="111" y="876"/>
                        </a:lnTo>
                        <a:lnTo>
                          <a:pt x="126" y="807"/>
                        </a:lnTo>
                        <a:lnTo>
                          <a:pt x="105" y="756"/>
                        </a:lnTo>
                        <a:lnTo>
                          <a:pt x="135" y="699"/>
                        </a:lnTo>
                        <a:lnTo>
                          <a:pt x="144" y="645"/>
                        </a:lnTo>
                        <a:lnTo>
                          <a:pt x="174" y="606"/>
                        </a:lnTo>
                        <a:lnTo>
                          <a:pt x="216" y="510"/>
                        </a:lnTo>
                        <a:lnTo>
                          <a:pt x="252" y="423"/>
                        </a:lnTo>
                        <a:lnTo>
                          <a:pt x="267" y="381"/>
                        </a:lnTo>
                        <a:lnTo>
                          <a:pt x="255" y="339"/>
                        </a:lnTo>
                        <a:lnTo>
                          <a:pt x="216" y="303"/>
                        </a:lnTo>
                        <a:lnTo>
                          <a:pt x="180" y="276"/>
                        </a:lnTo>
                        <a:lnTo>
                          <a:pt x="159" y="231"/>
                        </a:lnTo>
                        <a:lnTo>
                          <a:pt x="138" y="189"/>
                        </a:lnTo>
                        <a:lnTo>
                          <a:pt x="120" y="156"/>
                        </a:lnTo>
                        <a:lnTo>
                          <a:pt x="123" y="129"/>
                        </a:lnTo>
                        <a:lnTo>
                          <a:pt x="141" y="120"/>
                        </a:lnTo>
                        <a:lnTo>
                          <a:pt x="165" y="120"/>
                        </a:lnTo>
                        <a:lnTo>
                          <a:pt x="183" y="105"/>
                        </a:lnTo>
                        <a:cubicBezTo>
                          <a:pt x="177" y="89"/>
                          <a:pt x="165" y="64"/>
                          <a:pt x="165" y="45"/>
                        </a:cubicBezTo>
                        <a:lnTo>
                          <a:pt x="198" y="0"/>
                        </a:lnTo>
                      </a:path>
                    </a:pathLst>
                  </a:custGeom>
                  <a:noFill/>
                  <a:ln w="57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1249560" y="3359160"/>
                    <a:ext cx="303840" cy="20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501">
                        <a:moveTo>
                          <a:pt x="0" y="501"/>
                        </a:moveTo>
                        <a:lnTo>
                          <a:pt x="21" y="468"/>
                        </a:lnTo>
                        <a:lnTo>
                          <a:pt x="78" y="453"/>
                        </a:lnTo>
                        <a:lnTo>
                          <a:pt x="96" y="423"/>
                        </a:lnTo>
                        <a:lnTo>
                          <a:pt x="150" y="435"/>
                        </a:lnTo>
                        <a:lnTo>
                          <a:pt x="165" y="411"/>
                        </a:lnTo>
                        <a:lnTo>
                          <a:pt x="153" y="390"/>
                        </a:lnTo>
                        <a:lnTo>
                          <a:pt x="150" y="372"/>
                        </a:lnTo>
                        <a:lnTo>
                          <a:pt x="183" y="354"/>
                        </a:lnTo>
                        <a:lnTo>
                          <a:pt x="189" y="330"/>
                        </a:lnTo>
                        <a:lnTo>
                          <a:pt x="216" y="318"/>
                        </a:lnTo>
                        <a:lnTo>
                          <a:pt x="240" y="237"/>
                        </a:lnTo>
                        <a:lnTo>
                          <a:pt x="231" y="204"/>
                        </a:lnTo>
                        <a:lnTo>
                          <a:pt x="213" y="156"/>
                        </a:lnTo>
                        <a:lnTo>
                          <a:pt x="204" y="135"/>
                        </a:lnTo>
                        <a:lnTo>
                          <a:pt x="192" y="114"/>
                        </a:lnTo>
                        <a:lnTo>
                          <a:pt x="195" y="96"/>
                        </a:lnTo>
                        <a:lnTo>
                          <a:pt x="213" y="72"/>
                        </a:lnTo>
                        <a:lnTo>
                          <a:pt x="228" y="60"/>
                        </a:lnTo>
                        <a:lnTo>
                          <a:pt x="210" y="30"/>
                        </a:lnTo>
                        <a:lnTo>
                          <a:pt x="198" y="0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1124280" y="3627720"/>
                    <a:ext cx="2630880" cy="39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6" h="978">
                        <a:moveTo>
                          <a:pt x="0" y="978"/>
                        </a:moveTo>
                        <a:lnTo>
                          <a:pt x="39" y="951"/>
                        </a:lnTo>
                        <a:lnTo>
                          <a:pt x="57" y="909"/>
                        </a:lnTo>
                        <a:lnTo>
                          <a:pt x="66" y="873"/>
                        </a:lnTo>
                        <a:lnTo>
                          <a:pt x="90" y="849"/>
                        </a:lnTo>
                        <a:lnTo>
                          <a:pt x="120" y="810"/>
                        </a:lnTo>
                        <a:lnTo>
                          <a:pt x="153" y="780"/>
                        </a:lnTo>
                        <a:lnTo>
                          <a:pt x="183" y="738"/>
                        </a:lnTo>
                        <a:lnTo>
                          <a:pt x="219" y="696"/>
                        </a:lnTo>
                        <a:lnTo>
                          <a:pt x="222" y="648"/>
                        </a:lnTo>
                        <a:lnTo>
                          <a:pt x="237" y="585"/>
                        </a:lnTo>
                        <a:lnTo>
                          <a:pt x="246" y="546"/>
                        </a:lnTo>
                        <a:lnTo>
                          <a:pt x="273" y="534"/>
                        </a:lnTo>
                        <a:lnTo>
                          <a:pt x="327" y="519"/>
                        </a:lnTo>
                        <a:lnTo>
                          <a:pt x="351" y="501"/>
                        </a:lnTo>
                        <a:lnTo>
                          <a:pt x="357" y="477"/>
                        </a:lnTo>
                        <a:lnTo>
                          <a:pt x="360" y="447"/>
                        </a:lnTo>
                        <a:lnTo>
                          <a:pt x="372" y="429"/>
                        </a:lnTo>
                        <a:lnTo>
                          <a:pt x="396" y="408"/>
                        </a:lnTo>
                        <a:lnTo>
                          <a:pt x="435" y="390"/>
                        </a:lnTo>
                        <a:lnTo>
                          <a:pt x="474" y="384"/>
                        </a:lnTo>
                        <a:lnTo>
                          <a:pt x="486" y="345"/>
                        </a:lnTo>
                        <a:lnTo>
                          <a:pt x="483" y="315"/>
                        </a:lnTo>
                        <a:lnTo>
                          <a:pt x="555" y="258"/>
                        </a:lnTo>
                        <a:lnTo>
                          <a:pt x="597" y="210"/>
                        </a:lnTo>
                        <a:lnTo>
                          <a:pt x="657" y="180"/>
                        </a:lnTo>
                        <a:lnTo>
                          <a:pt x="690" y="171"/>
                        </a:lnTo>
                        <a:lnTo>
                          <a:pt x="723" y="165"/>
                        </a:lnTo>
                        <a:lnTo>
                          <a:pt x="741" y="144"/>
                        </a:lnTo>
                        <a:lnTo>
                          <a:pt x="819" y="141"/>
                        </a:lnTo>
                        <a:lnTo>
                          <a:pt x="870" y="114"/>
                        </a:lnTo>
                        <a:lnTo>
                          <a:pt x="963" y="111"/>
                        </a:lnTo>
                        <a:lnTo>
                          <a:pt x="966" y="87"/>
                        </a:lnTo>
                        <a:lnTo>
                          <a:pt x="1005" y="51"/>
                        </a:lnTo>
                        <a:lnTo>
                          <a:pt x="1014" y="9"/>
                        </a:lnTo>
                        <a:lnTo>
                          <a:pt x="1074" y="27"/>
                        </a:lnTo>
                        <a:lnTo>
                          <a:pt x="1101" y="39"/>
                        </a:lnTo>
                        <a:lnTo>
                          <a:pt x="1143" y="0"/>
                        </a:lnTo>
                        <a:lnTo>
                          <a:pt x="1173" y="0"/>
                        </a:lnTo>
                        <a:lnTo>
                          <a:pt x="1239" y="42"/>
                        </a:lnTo>
                        <a:lnTo>
                          <a:pt x="1302" y="66"/>
                        </a:lnTo>
                        <a:lnTo>
                          <a:pt x="1359" y="87"/>
                        </a:lnTo>
                        <a:lnTo>
                          <a:pt x="1413" y="84"/>
                        </a:lnTo>
                        <a:lnTo>
                          <a:pt x="1428" y="72"/>
                        </a:lnTo>
                        <a:lnTo>
                          <a:pt x="1440" y="102"/>
                        </a:lnTo>
                        <a:lnTo>
                          <a:pt x="1500" y="156"/>
                        </a:lnTo>
                        <a:lnTo>
                          <a:pt x="1557" y="180"/>
                        </a:lnTo>
                        <a:lnTo>
                          <a:pt x="1566" y="210"/>
                        </a:lnTo>
                        <a:lnTo>
                          <a:pt x="1584" y="222"/>
                        </a:lnTo>
                        <a:lnTo>
                          <a:pt x="1584" y="264"/>
                        </a:lnTo>
                        <a:lnTo>
                          <a:pt x="1659" y="294"/>
                        </a:lnTo>
                        <a:lnTo>
                          <a:pt x="1749" y="306"/>
                        </a:lnTo>
                        <a:lnTo>
                          <a:pt x="1896" y="312"/>
                        </a:lnTo>
                        <a:lnTo>
                          <a:pt x="1965" y="312"/>
                        </a:lnTo>
                        <a:lnTo>
                          <a:pt x="2040" y="333"/>
                        </a:lnTo>
                        <a:lnTo>
                          <a:pt x="2076" y="357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755160" y="3675960"/>
                    <a:ext cx="86652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4" h="330">
                        <a:moveTo>
                          <a:pt x="0" y="234"/>
                        </a:moveTo>
                        <a:lnTo>
                          <a:pt x="69" y="282"/>
                        </a:lnTo>
                        <a:lnTo>
                          <a:pt x="138" y="309"/>
                        </a:lnTo>
                        <a:lnTo>
                          <a:pt x="186" y="330"/>
                        </a:lnTo>
                        <a:lnTo>
                          <a:pt x="201" y="312"/>
                        </a:lnTo>
                        <a:lnTo>
                          <a:pt x="213" y="273"/>
                        </a:lnTo>
                        <a:lnTo>
                          <a:pt x="225" y="240"/>
                        </a:lnTo>
                        <a:lnTo>
                          <a:pt x="255" y="204"/>
                        </a:lnTo>
                        <a:lnTo>
                          <a:pt x="306" y="171"/>
                        </a:lnTo>
                        <a:lnTo>
                          <a:pt x="363" y="162"/>
                        </a:lnTo>
                        <a:lnTo>
                          <a:pt x="408" y="162"/>
                        </a:lnTo>
                        <a:lnTo>
                          <a:pt x="423" y="138"/>
                        </a:lnTo>
                        <a:lnTo>
                          <a:pt x="471" y="126"/>
                        </a:lnTo>
                        <a:lnTo>
                          <a:pt x="522" y="102"/>
                        </a:lnTo>
                        <a:lnTo>
                          <a:pt x="564" y="66"/>
                        </a:lnTo>
                        <a:lnTo>
                          <a:pt x="594" y="39"/>
                        </a:lnTo>
                        <a:lnTo>
                          <a:pt x="648" y="15"/>
                        </a:lnTo>
                        <a:lnTo>
                          <a:pt x="684" y="0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485360" y="3169080"/>
                    <a:ext cx="261576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4" h="534">
                        <a:moveTo>
                          <a:pt x="6" y="477"/>
                        </a:moveTo>
                        <a:lnTo>
                          <a:pt x="0" y="447"/>
                        </a:lnTo>
                        <a:lnTo>
                          <a:pt x="63" y="405"/>
                        </a:lnTo>
                        <a:lnTo>
                          <a:pt x="105" y="381"/>
                        </a:lnTo>
                        <a:lnTo>
                          <a:pt x="147" y="369"/>
                        </a:lnTo>
                        <a:lnTo>
                          <a:pt x="168" y="330"/>
                        </a:lnTo>
                        <a:lnTo>
                          <a:pt x="204" y="315"/>
                        </a:lnTo>
                        <a:lnTo>
                          <a:pt x="234" y="297"/>
                        </a:lnTo>
                        <a:lnTo>
                          <a:pt x="258" y="264"/>
                        </a:lnTo>
                        <a:lnTo>
                          <a:pt x="279" y="279"/>
                        </a:lnTo>
                        <a:lnTo>
                          <a:pt x="288" y="306"/>
                        </a:lnTo>
                        <a:lnTo>
                          <a:pt x="306" y="327"/>
                        </a:lnTo>
                        <a:lnTo>
                          <a:pt x="357" y="336"/>
                        </a:lnTo>
                        <a:lnTo>
                          <a:pt x="384" y="348"/>
                        </a:lnTo>
                        <a:lnTo>
                          <a:pt x="405" y="375"/>
                        </a:lnTo>
                        <a:lnTo>
                          <a:pt x="420" y="414"/>
                        </a:lnTo>
                        <a:lnTo>
                          <a:pt x="474" y="387"/>
                        </a:lnTo>
                        <a:lnTo>
                          <a:pt x="501" y="357"/>
                        </a:lnTo>
                        <a:lnTo>
                          <a:pt x="549" y="345"/>
                        </a:lnTo>
                        <a:lnTo>
                          <a:pt x="588" y="297"/>
                        </a:lnTo>
                        <a:lnTo>
                          <a:pt x="657" y="246"/>
                        </a:lnTo>
                        <a:lnTo>
                          <a:pt x="702" y="213"/>
                        </a:lnTo>
                        <a:lnTo>
                          <a:pt x="741" y="177"/>
                        </a:lnTo>
                        <a:lnTo>
                          <a:pt x="753" y="135"/>
                        </a:lnTo>
                        <a:lnTo>
                          <a:pt x="756" y="102"/>
                        </a:lnTo>
                        <a:lnTo>
                          <a:pt x="774" y="87"/>
                        </a:lnTo>
                        <a:lnTo>
                          <a:pt x="858" y="93"/>
                        </a:lnTo>
                        <a:lnTo>
                          <a:pt x="912" y="90"/>
                        </a:lnTo>
                        <a:lnTo>
                          <a:pt x="969" y="72"/>
                        </a:lnTo>
                        <a:lnTo>
                          <a:pt x="1029" y="27"/>
                        </a:lnTo>
                        <a:lnTo>
                          <a:pt x="1062" y="0"/>
                        </a:lnTo>
                        <a:lnTo>
                          <a:pt x="1098" y="12"/>
                        </a:lnTo>
                        <a:lnTo>
                          <a:pt x="1131" y="69"/>
                        </a:lnTo>
                        <a:lnTo>
                          <a:pt x="1167" y="117"/>
                        </a:lnTo>
                        <a:lnTo>
                          <a:pt x="1212" y="174"/>
                        </a:lnTo>
                        <a:lnTo>
                          <a:pt x="1260" y="246"/>
                        </a:lnTo>
                        <a:lnTo>
                          <a:pt x="1320" y="321"/>
                        </a:lnTo>
                        <a:lnTo>
                          <a:pt x="1314" y="366"/>
                        </a:lnTo>
                        <a:lnTo>
                          <a:pt x="1323" y="399"/>
                        </a:lnTo>
                        <a:lnTo>
                          <a:pt x="1347" y="414"/>
                        </a:lnTo>
                        <a:lnTo>
                          <a:pt x="1410" y="396"/>
                        </a:lnTo>
                        <a:lnTo>
                          <a:pt x="1449" y="381"/>
                        </a:lnTo>
                        <a:lnTo>
                          <a:pt x="1470" y="351"/>
                        </a:lnTo>
                        <a:lnTo>
                          <a:pt x="1485" y="318"/>
                        </a:lnTo>
                        <a:lnTo>
                          <a:pt x="1551" y="306"/>
                        </a:lnTo>
                        <a:lnTo>
                          <a:pt x="1581" y="297"/>
                        </a:lnTo>
                        <a:lnTo>
                          <a:pt x="1584" y="276"/>
                        </a:lnTo>
                        <a:lnTo>
                          <a:pt x="1644" y="285"/>
                        </a:lnTo>
                        <a:lnTo>
                          <a:pt x="1662" y="315"/>
                        </a:lnTo>
                        <a:lnTo>
                          <a:pt x="1695" y="318"/>
                        </a:lnTo>
                        <a:lnTo>
                          <a:pt x="1743" y="354"/>
                        </a:lnTo>
                        <a:lnTo>
                          <a:pt x="1812" y="408"/>
                        </a:lnTo>
                        <a:lnTo>
                          <a:pt x="1866" y="420"/>
                        </a:lnTo>
                        <a:lnTo>
                          <a:pt x="1881" y="441"/>
                        </a:lnTo>
                        <a:lnTo>
                          <a:pt x="1884" y="483"/>
                        </a:lnTo>
                        <a:lnTo>
                          <a:pt x="1875" y="516"/>
                        </a:lnTo>
                        <a:lnTo>
                          <a:pt x="1881" y="534"/>
                        </a:lnTo>
                        <a:lnTo>
                          <a:pt x="1923" y="525"/>
                        </a:lnTo>
                        <a:lnTo>
                          <a:pt x="1959" y="501"/>
                        </a:lnTo>
                        <a:lnTo>
                          <a:pt x="1998" y="495"/>
                        </a:lnTo>
                        <a:lnTo>
                          <a:pt x="2028" y="483"/>
                        </a:lnTo>
                        <a:lnTo>
                          <a:pt x="2064" y="489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093920" y="3308760"/>
                    <a:ext cx="68400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0" h="921">
                        <a:moveTo>
                          <a:pt x="0" y="141"/>
                        </a:moveTo>
                        <a:cubicBezTo>
                          <a:pt x="24" y="156"/>
                          <a:pt x="36" y="177"/>
                          <a:pt x="57" y="156"/>
                        </a:cubicBezTo>
                        <a:lnTo>
                          <a:pt x="90" y="141"/>
                        </a:lnTo>
                        <a:lnTo>
                          <a:pt x="117" y="72"/>
                        </a:lnTo>
                        <a:lnTo>
                          <a:pt x="168" y="18"/>
                        </a:lnTo>
                        <a:lnTo>
                          <a:pt x="183" y="0"/>
                        </a:lnTo>
                        <a:lnTo>
                          <a:pt x="219" y="21"/>
                        </a:lnTo>
                        <a:lnTo>
                          <a:pt x="363" y="150"/>
                        </a:lnTo>
                        <a:lnTo>
                          <a:pt x="414" y="165"/>
                        </a:lnTo>
                        <a:lnTo>
                          <a:pt x="537" y="273"/>
                        </a:lnTo>
                        <a:lnTo>
                          <a:pt x="540" y="300"/>
                        </a:lnTo>
                        <a:lnTo>
                          <a:pt x="522" y="321"/>
                        </a:lnTo>
                        <a:lnTo>
                          <a:pt x="294" y="420"/>
                        </a:lnTo>
                        <a:lnTo>
                          <a:pt x="234" y="471"/>
                        </a:lnTo>
                        <a:lnTo>
                          <a:pt x="207" y="519"/>
                        </a:lnTo>
                        <a:lnTo>
                          <a:pt x="210" y="579"/>
                        </a:lnTo>
                        <a:lnTo>
                          <a:pt x="222" y="636"/>
                        </a:lnTo>
                        <a:lnTo>
                          <a:pt x="246" y="666"/>
                        </a:lnTo>
                        <a:lnTo>
                          <a:pt x="267" y="699"/>
                        </a:lnTo>
                        <a:lnTo>
                          <a:pt x="282" y="747"/>
                        </a:lnTo>
                        <a:lnTo>
                          <a:pt x="318" y="774"/>
                        </a:lnTo>
                        <a:lnTo>
                          <a:pt x="339" y="801"/>
                        </a:lnTo>
                        <a:lnTo>
                          <a:pt x="345" y="846"/>
                        </a:lnTo>
                        <a:lnTo>
                          <a:pt x="417" y="921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987480" y="3955320"/>
                    <a:ext cx="155880" cy="6948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" name=""/>
                <p:cNvSpPr/>
                <p:nvPr/>
              </p:nvSpPr>
              <p:spPr>
                <a:xfrm>
                  <a:off x="3546360" y="3573720"/>
                  <a:ext cx="1068120" cy="232200"/>
                </a:xfrm>
                <a:custGeom>
                  <a:avLst/>
                  <a:gdLst/>
                  <a:ahLst/>
                  <a:rect l="l" t="t" r="r" b="b"/>
                  <a:pathLst>
                    <a:path w="843" h="579">
                      <a:moveTo>
                        <a:pt x="138" y="483"/>
                      </a:moveTo>
                      <a:lnTo>
                        <a:pt x="87" y="381"/>
                      </a:lnTo>
                      <a:lnTo>
                        <a:pt x="84" y="318"/>
                      </a:lnTo>
                      <a:lnTo>
                        <a:pt x="3" y="294"/>
                      </a:lnTo>
                      <a:lnTo>
                        <a:pt x="0" y="255"/>
                      </a:lnTo>
                      <a:lnTo>
                        <a:pt x="33" y="210"/>
                      </a:lnTo>
                      <a:lnTo>
                        <a:pt x="111" y="171"/>
                      </a:lnTo>
                      <a:lnTo>
                        <a:pt x="123" y="132"/>
                      </a:lnTo>
                      <a:lnTo>
                        <a:pt x="102" y="99"/>
                      </a:lnTo>
                      <a:lnTo>
                        <a:pt x="117" y="72"/>
                      </a:lnTo>
                      <a:lnTo>
                        <a:pt x="186" y="54"/>
                      </a:lnTo>
                      <a:lnTo>
                        <a:pt x="300" y="93"/>
                      </a:lnTo>
                      <a:lnTo>
                        <a:pt x="354" y="63"/>
                      </a:lnTo>
                      <a:lnTo>
                        <a:pt x="393" y="57"/>
                      </a:lnTo>
                      <a:lnTo>
                        <a:pt x="456" y="111"/>
                      </a:lnTo>
                      <a:lnTo>
                        <a:pt x="474" y="111"/>
                      </a:lnTo>
                      <a:lnTo>
                        <a:pt x="501" y="48"/>
                      </a:lnTo>
                      <a:lnTo>
                        <a:pt x="561" y="54"/>
                      </a:lnTo>
                      <a:lnTo>
                        <a:pt x="570" y="0"/>
                      </a:lnTo>
                      <a:lnTo>
                        <a:pt x="630" y="3"/>
                      </a:lnTo>
                      <a:lnTo>
                        <a:pt x="657" y="39"/>
                      </a:lnTo>
                      <a:lnTo>
                        <a:pt x="705" y="33"/>
                      </a:lnTo>
                      <a:lnTo>
                        <a:pt x="717" y="99"/>
                      </a:lnTo>
                      <a:lnTo>
                        <a:pt x="768" y="135"/>
                      </a:lnTo>
                      <a:lnTo>
                        <a:pt x="783" y="198"/>
                      </a:lnTo>
                      <a:lnTo>
                        <a:pt x="843" y="261"/>
                      </a:lnTo>
                      <a:lnTo>
                        <a:pt x="768" y="282"/>
                      </a:lnTo>
                      <a:lnTo>
                        <a:pt x="669" y="369"/>
                      </a:lnTo>
                      <a:lnTo>
                        <a:pt x="588" y="393"/>
                      </a:lnTo>
                      <a:lnTo>
                        <a:pt x="573" y="417"/>
                      </a:lnTo>
                      <a:lnTo>
                        <a:pt x="489" y="420"/>
                      </a:lnTo>
                      <a:lnTo>
                        <a:pt x="417" y="456"/>
                      </a:lnTo>
                      <a:lnTo>
                        <a:pt x="384" y="519"/>
                      </a:lnTo>
                      <a:lnTo>
                        <a:pt x="369" y="561"/>
                      </a:lnTo>
                      <a:lnTo>
                        <a:pt x="348" y="579"/>
                      </a:lnTo>
                      <a:lnTo>
                        <a:pt x="276" y="555"/>
                      </a:lnTo>
                      <a:lnTo>
                        <a:pt x="183" y="507"/>
                      </a:lnTo>
                      <a:lnTo>
                        <a:pt x="138" y="483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356040" y="2600280"/>
              <a:ext cx="4417920" cy="1026360"/>
              <a:chOff x="356040" y="2600280"/>
              <a:chExt cx="4417920" cy="1026360"/>
            </a:xfrm>
          </p:grpSpPr>
          <p:sp>
            <p:nvSpPr>
              <p:cNvPr id="202" name=""/>
              <p:cNvSpPr/>
              <p:nvPr/>
            </p:nvSpPr>
            <p:spPr>
              <a:xfrm>
                <a:off x="356040" y="3592080"/>
                <a:ext cx="4094280" cy="3456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960480" y="2600280"/>
                <a:ext cx="3813480" cy="857160"/>
                <a:chOff x="960480" y="2600280"/>
                <a:chExt cx="3813480" cy="8571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960480" y="3135600"/>
                  <a:ext cx="916200" cy="316800"/>
                </a:xfrm>
                <a:custGeom>
                  <a:avLst/>
                  <a:gdLst/>
                  <a:ahLst/>
                  <a:rect l="l" t="t" r="r" b="b"/>
                  <a:pathLst>
                    <a:path w="723" h="789">
                      <a:moveTo>
                        <a:pt x="0" y="648"/>
                      </a:moveTo>
                      <a:lnTo>
                        <a:pt x="48" y="603"/>
                      </a:lnTo>
                      <a:lnTo>
                        <a:pt x="60" y="558"/>
                      </a:lnTo>
                      <a:lnTo>
                        <a:pt x="117" y="510"/>
                      </a:lnTo>
                      <a:lnTo>
                        <a:pt x="129" y="429"/>
                      </a:lnTo>
                      <a:lnTo>
                        <a:pt x="111" y="396"/>
                      </a:lnTo>
                      <a:lnTo>
                        <a:pt x="132" y="336"/>
                      </a:lnTo>
                      <a:lnTo>
                        <a:pt x="147" y="300"/>
                      </a:lnTo>
                      <a:lnTo>
                        <a:pt x="186" y="222"/>
                      </a:lnTo>
                      <a:lnTo>
                        <a:pt x="231" y="132"/>
                      </a:lnTo>
                      <a:lnTo>
                        <a:pt x="261" y="57"/>
                      </a:lnTo>
                      <a:lnTo>
                        <a:pt x="270" y="33"/>
                      </a:lnTo>
                      <a:lnTo>
                        <a:pt x="288" y="96"/>
                      </a:lnTo>
                      <a:lnTo>
                        <a:pt x="330" y="138"/>
                      </a:lnTo>
                      <a:lnTo>
                        <a:pt x="390" y="144"/>
                      </a:lnTo>
                      <a:lnTo>
                        <a:pt x="447" y="99"/>
                      </a:lnTo>
                      <a:lnTo>
                        <a:pt x="498" y="54"/>
                      </a:lnTo>
                      <a:lnTo>
                        <a:pt x="525" y="45"/>
                      </a:lnTo>
                      <a:lnTo>
                        <a:pt x="588" y="48"/>
                      </a:lnTo>
                      <a:lnTo>
                        <a:pt x="630" y="24"/>
                      </a:lnTo>
                      <a:lnTo>
                        <a:pt x="669" y="0"/>
                      </a:lnTo>
                      <a:lnTo>
                        <a:pt x="723" y="15"/>
                      </a:lnTo>
                      <a:lnTo>
                        <a:pt x="582" y="138"/>
                      </a:lnTo>
                      <a:lnTo>
                        <a:pt x="576" y="201"/>
                      </a:lnTo>
                      <a:lnTo>
                        <a:pt x="492" y="231"/>
                      </a:lnTo>
                      <a:lnTo>
                        <a:pt x="453" y="288"/>
                      </a:lnTo>
                      <a:lnTo>
                        <a:pt x="447" y="324"/>
                      </a:lnTo>
                      <a:lnTo>
                        <a:pt x="414" y="345"/>
                      </a:lnTo>
                      <a:lnTo>
                        <a:pt x="351" y="366"/>
                      </a:lnTo>
                      <a:lnTo>
                        <a:pt x="324" y="456"/>
                      </a:lnTo>
                      <a:lnTo>
                        <a:pt x="312" y="513"/>
                      </a:lnTo>
                      <a:lnTo>
                        <a:pt x="270" y="573"/>
                      </a:lnTo>
                      <a:lnTo>
                        <a:pt x="168" y="696"/>
                      </a:lnTo>
                      <a:lnTo>
                        <a:pt x="153" y="750"/>
                      </a:lnTo>
                      <a:lnTo>
                        <a:pt x="129" y="780"/>
                      </a:lnTo>
                      <a:lnTo>
                        <a:pt x="111" y="789"/>
                      </a:lnTo>
                      <a:lnTo>
                        <a:pt x="0" y="648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116360" y="2900520"/>
                  <a:ext cx="1323000" cy="291600"/>
                </a:xfrm>
                <a:custGeom>
                  <a:avLst/>
                  <a:gdLst/>
                  <a:ahLst/>
                  <a:rect l="l" t="t" r="r" b="b"/>
                  <a:pathLst>
                    <a:path w="1044" h="726">
                      <a:moveTo>
                        <a:pt x="156" y="648"/>
                      </a:moveTo>
                      <a:lnTo>
                        <a:pt x="165" y="675"/>
                      </a:lnTo>
                      <a:lnTo>
                        <a:pt x="204" y="726"/>
                      </a:lnTo>
                      <a:lnTo>
                        <a:pt x="267" y="726"/>
                      </a:lnTo>
                      <a:lnTo>
                        <a:pt x="300" y="708"/>
                      </a:lnTo>
                      <a:lnTo>
                        <a:pt x="330" y="675"/>
                      </a:lnTo>
                      <a:lnTo>
                        <a:pt x="375" y="639"/>
                      </a:lnTo>
                      <a:lnTo>
                        <a:pt x="396" y="633"/>
                      </a:lnTo>
                      <a:lnTo>
                        <a:pt x="462" y="633"/>
                      </a:lnTo>
                      <a:lnTo>
                        <a:pt x="543" y="588"/>
                      </a:lnTo>
                      <a:lnTo>
                        <a:pt x="564" y="594"/>
                      </a:lnTo>
                      <a:lnTo>
                        <a:pt x="594" y="609"/>
                      </a:lnTo>
                      <a:lnTo>
                        <a:pt x="705" y="570"/>
                      </a:lnTo>
                      <a:lnTo>
                        <a:pt x="714" y="543"/>
                      </a:lnTo>
                      <a:lnTo>
                        <a:pt x="807" y="543"/>
                      </a:lnTo>
                      <a:lnTo>
                        <a:pt x="855" y="519"/>
                      </a:lnTo>
                      <a:lnTo>
                        <a:pt x="936" y="519"/>
                      </a:lnTo>
                      <a:lnTo>
                        <a:pt x="951" y="480"/>
                      </a:lnTo>
                      <a:lnTo>
                        <a:pt x="984" y="456"/>
                      </a:lnTo>
                      <a:lnTo>
                        <a:pt x="990" y="420"/>
                      </a:lnTo>
                      <a:lnTo>
                        <a:pt x="1041" y="432"/>
                      </a:lnTo>
                      <a:lnTo>
                        <a:pt x="1044" y="405"/>
                      </a:lnTo>
                      <a:lnTo>
                        <a:pt x="1011" y="387"/>
                      </a:lnTo>
                      <a:lnTo>
                        <a:pt x="987" y="366"/>
                      </a:lnTo>
                      <a:lnTo>
                        <a:pt x="891" y="354"/>
                      </a:lnTo>
                      <a:lnTo>
                        <a:pt x="876" y="258"/>
                      </a:lnTo>
                      <a:lnTo>
                        <a:pt x="834" y="189"/>
                      </a:lnTo>
                      <a:lnTo>
                        <a:pt x="765" y="159"/>
                      </a:lnTo>
                      <a:lnTo>
                        <a:pt x="735" y="159"/>
                      </a:lnTo>
                      <a:lnTo>
                        <a:pt x="696" y="117"/>
                      </a:lnTo>
                      <a:lnTo>
                        <a:pt x="657" y="105"/>
                      </a:lnTo>
                      <a:lnTo>
                        <a:pt x="618" y="108"/>
                      </a:lnTo>
                      <a:lnTo>
                        <a:pt x="591" y="69"/>
                      </a:lnTo>
                      <a:lnTo>
                        <a:pt x="567" y="33"/>
                      </a:lnTo>
                      <a:lnTo>
                        <a:pt x="537" y="3"/>
                      </a:lnTo>
                      <a:lnTo>
                        <a:pt x="513" y="0"/>
                      </a:lnTo>
                      <a:lnTo>
                        <a:pt x="480" y="42"/>
                      </a:lnTo>
                      <a:lnTo>
                        <a:pt x="435" y="63"/>
                      </a:lnTo>
                      <a:lnTo>
                        <a:pt x="390" y="111"/>
                      </a:lnTo>
                      <a:lnTo>
                        <a:pt x="363" y="90"/>
                      </a:lnTo>
                      <a:lnTo>
                        <a:pt x="324" y="87"/>
                      </a:lnTo>
                      <a:lnTo>
                        <a:pt x="294" y="30"/>
                      </a:lnTo>
                      <a:lnTo>
                        <a:pt x="282" y="57"/>
                      </a:lnTo>
                      <a:lnTo>
                        <a:pt x="264" y="72"/>
                      </a:lnTo>
                      <a:lnTo>
                        <a:pt x="255" y="93"/>
                      </a:lnTo>
                      <a:lnTo>
                        <a:pt x="228" y="117"/>
                      </a:lnTo>
                      <a:lnTo>
                        <a:pt x="234" y="165"/>
                      </a:lnTo>
                      <a:lnTo>
                        <a:pt x="174" y="165"/>
                      </a:lnTo>
                      <a:lnTo>
                        <a:pt x="138" y="192"/>
                      </a:lnTo>
                      <a:lnTo>
                        <a:pt x="90" y="204"/>
                      </a:lnTo>
                      <a:lnTo>
                        <a:pt x="42" y="282"/>
                      </a:lnTo>
                      <a:lnTo>
                        <a:pt x="60" y="333"/>
                      </a:lnTo>
                      <a:lnTo>
                        <a:pt x="3" y="360"/>
                      </a:lnTo>
                      <a:lnTo>
                        <a:pt x="0" y="384"/>
                      </a:lnTo>
                      <a:lnTo>
                        <a:pt x="63" y="513"/>
                      </a:lnTo>
                      <a:lnTo>
                        <a:pt x="138" y="573"/>
                      </a:lnTo>
                      <a:lnTo>
                        <a:pt x="147" y="618"/>
                      </a:lnTo>
                      <a:lnTo>
                        <a:pt x="156" y="648"/>
                      </a:lnTo>
                      <a:close/>
                    </a:path>
                  </a:pathLst>
                </a:custGeom>
                <a:solidFill>
                  <a:srgbClr val="ff9469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473480" y="2600280"/>
                  <a:ext cx="1672920" cy="396360"/>
                </a:xfrm>
                <a:custGeom>
                  <a:avLst/>
                  <a:gdLst/>
                  <a:ahLst/>
                  <a:rect l="l" t="t" r="r" b="b"/>
                  <a:pathLst>
                    <a:path w="1320" h="987">
                      <a:moveTo>
                        <a:pt x="21" y="786"/>
                      </a:moveTo>
                      <a:lnTo>
                        <a:pt x="42" y="834"/>
                      </a:lnTo>
                      <a:lnTo>
                        <a:pt x="81" y="840"/>
                      </a:lnTo>
                      <a:lnTo>
                        <a:pt x="111" y="858"/>
                      </a:lnTo>
                      <a:lnTo>
                        <a:pt x="153" y="813"/>
                      </a:lnTo>
                      <a:lnTo>
                        <a:pt x="204" y="783"/>
                      </a:lnTo>
                      <a:lnTo>
                        <a:pt x="231" y="747"/>
                      </a:lnTo>
                      <a:lnTo>
                        <a:pt x="264" y="750"/>
                      </a:lnTo>
                      <a:lnTo>
                        <a:pt x="312" y="816"/>
                      </a:lnTo>
                      <a:lnTo>
                        <a:pt x="339" y="855"/>
                      </a:lnTo>
                      <a:lnTo>
                        <a:pt x="390" y="855"/>
                      </a:lnTo>
                      <a:lnTo>
                        <a:pt x="432" y="876"/>
                      </a:lnTo>
                      <a:lnTo>
                        <a:pt x="456" y="909"/>
                      </a:lnTo>
                      <a:lnTo>
                        <a:pt x="489" y="906"/>
                      </a:lnTo>
                      <a:lnTo>
                        <a:pt x="558" y="939"/>
                      </a:lnTo>
                      <a:lnTo>
                        <a:pt x="585" y="987"/>
                      </a:lnTo>
                      <a:lnTo>
                        <a:pt x="663" y="945"/>
                      </a:lnTo>
                      <a:lnTo>
                        <a:pt x="756" y="888"/>
                      </a:lnTo>
                      <a:lnTo>
                        <a:pt x="822" y="873"/>
                      </a:lnTo>
                      <a:lnTo>
                        <a:pt x="837" y="840"/>
                      </a:lnTo>
                      <a:lnTo>
                        <a:pt x="882" y="828"/>
                      </a:lnTo>
                      <a:lnTo>
                        <a:pt x="918" y="792"/>
                      </a:lnTo>
                      <a:lnTo>
                        <a:pt x="855" y="783"/>
                      </a:lnTo>
                      <a:lnTo>
                        <a:pt x="654" y="822"/>
                      </a:lnTo>
                      <a:lnTo>
                        <a:pt x="588" y="798"/>
                      </a:lnTo>
                      <a:lnTo>
                        <a:pt x="555" y="816"/>
                      </a:lnTo>
                      <a:lnTo>
                        <a:pt x="519" y="771"/>
                      </a:lnTo>
                      <a:lnTo>
                        <a:pt x="582" y="714"/>
                      </a:lnTo>
                      <a:lnTo>
                        <a:pt x="609" y="624"/>
                      </a:lnTo>
                      <a:lnTo>
                        <a:pt x="720" y="525"/>
                      </a:lnTo>
                      <a:lnTo>
                        <a:pt x="777" y="501"/>
                      </a:lnTo>
                      <a:lnTo>
                        <a:pt x="837" y="498"/>
                      </a:lnTo>
                      <a:lnTo>
                        <a:pt x="885" y="477"/>
                      </a:lnTo>
                      <a:lnTo>
                        <a:pt x="924" y="390"/>
                      </a:lnTo>
                      <a:lnTo>
                        <a:pt x="993" y="357"/>
                      </a:lnTo>
                      <a:lnTo>
                        <a:pt x="993" y="312"/>
                      </a:lnTo>
                      <a:lnTo>
                        <a:pt x="1038" y="237"/>
                      </a:lnTo>
                      <a:lnTo>
                        <a:pt x="1104" y="231"/>
                      </a:lnTo>
                      <a:lnTo>
                        <a:pt x="1149" y="201"/>
                      </a:lnTo>
                      <a:lnTo>
                        <a:pt x="1188" y="264"/>
                      </a:lnTo>
                      <a:lnTo>
                        <a:pt x="1200" y="285"/>
                      </a:lnTo>
                      <a:lnTo>
                        <a:pt x="1251" y="312"/>
                      </a:lnTo>
                      <a:lnTo>
                        <a:pt x="1272" y="354"/>
                      </a:lnTo>
                      <a:lnTo>
                        <a:pt x="1287" y="369"/>
                      </a:lnTo>
                      <a:lnTo>
                        <a:pt x="1320" y="360"/>
                      </a:lnTo>
                      <a:lnTo>
                        <a:pt x="1314" y="309"/>
                      </a:lnTo>
                      <a:lnTo>
                        <a:pt x="1095" y="9"/>
                      </a:lnTo>
                      <a:lnTo>
                        <a:pt x="1056" y="0"/>
                      </a:lnTo>
                      <a:lnTo>
                        <a:pt x="963" y="75"/>
                      </a:lnTo>
                      <a:lnTo>
                        <a:pt x="870" y="93"/>
                      </a:lnTo>
                      <a:lnTo>
                        <a:pt x="759" y="87"/>
                      </a:lnTo>
                      <a:lnTo>
                        <a:pt x="744" y="156"/>
                      </a:lnTo>
                      <a:lnTo>
                        <a:pt x="741" y="177"/>
                      </a:lnTo>
                      <a:lnTo>
                        <a:pt x="585" y="303"/>
                      </a:lnTo>
                      <a:lnTo>
                        <a:pt x="552" y="342"/>
                      </a:lnTo>
                      <a:lnTo>
                        <a:pt x="492" y="363"/>
                      </a:lnTo>
                      <a:lnTo>
                        <a:pt x="426" y="417"/>
                      </a:lnTo>
                      <a:lnTo>
                        <a:pt x="378" y="342"/>
                      </a:lnTo>
                      <a:lnTo>
                        <a:pt x="300" y="327"/>
                      </a:lnTo>
                      <a:lnTo>
                        <a:pt x="270" y="276"/>
                      </a:lnTo>
                      <a:lnTo>
                        <a:pt x="228" y="303"/>
                      </a:lnTo>
                      <a:lnTo>
                        <a:pt x="165" y="345"/>
                      </a:lnTo>
                      <a:lnTo>
                        <a:pt x="120" y="381"/>
                      </a:lnTo>
                      <a:lnTo>
                        <a:pt x="0" y="444"/>
                      </a:lnTo>
                      <a:lnTo>
                        <a:pt x="6" y="486"/>
                      </a:lnTo>
                      <a:lnTo>
                        <a:pt x="36" y="537"/>
                      </a:lnTo>
                      <a:lnTo>
                        <a:pt x="6" y="588"/>
                      </a:lnTo>
                      <a:lnTo>
                        <a:pt x="54" y="705"/>
                      </a:lnTo>
                      <a:lnTo>
                        <a:pt x="21" y="786"/>
                      </a:lnTo>
                      <a:close/>
                    </a:path>
                  </a:pathLst>
                </a:custGeom>
                <a:solidFill>
                  <a:srgbClr val="00dfca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27600" y="2682000"/>
                  <a:ext cx="1467360" cy="246960"/>
                </a:xfrm>
                <a:custGeom>
                  <a:avLst/>
                  <a:gdLst/>
                  <a:ahLst/>
                  <a:rect l="l" t="t" r="r" b="b"/>
                  <a:pathLst>
                    <a:path w="1158" h="615">
                      <a:moveTo>
                        <a:pt x="1146" y="132"/>
                      </a:moveTo>
                      <a:lnTo>
                        <a:pt x="1152" y="177"/>
                      </a:lnTo>
                      <a:lnTo>
                        <a:pt x="1158" y="216"/>
                      </a:lnTo>
                      <a:lnTo>
                        <a:pt x="1146" y="261"/>
                      </a:lnTo>
                      <a:lnTo>
                        <a:pt x="1062" y="288"/>
                      </a:lnTo>
                      <a:lnTo>
                        <a:pt x="1002" y="309"/>
                      </a:lnTo>
                      <a:lnTo>
                        <a:pt x="963" y="339"/>
                      </a:lnTo>
                      <a:lnTo>
                        <a:pt x="864" y="390"/>
                      </a:lnTo>
                      <a:lnTo>
                        <a:pt x="801" y="447"/>
                      </a:lnTo>
                      <a:lnTo>
                        <a:pt x="705" y="573"/>
                      </a:lnTo>
                      <a:lnTo>
                        <a:pt x="636" y="564"/>
                      </a:lnTo>
                      <a:lnTo>
                        <a:pt x="561" y="543"/>
                      </a:lnTo>
                      <a:lnTo>
                        <a:pt x="507" y="594"/>
                      </a:lnTo>
                      <a:lnTo>
                        <a:pt x="447" y="579"/>
                      </a:lnTo>
                      <a:lnTo>
                        <a:pt x="396" y="588"/>
                      </a:lnTo>
                      <a:lnTo>
                        <a:pt x="339" y="576"/>
                      </a:lnTo>
                      <a:lnTo>
                        <a:pt x="138" y="615"/>
                      </a:lnTo>
                      <a:lnTo>
                        <a:pt x="69" y="594"/>
                      </a:lnTo>
                      <a:lnTo>
                        <a:pt x="39" y="609"/>
                      </a:lnTo>
                      <a:lnTo>
                        <a:pt x="0" y="564"/>
                      </a:lnTo>
                      <a:lnTo>
                        <a:pt x="75" y="504"/>
                      </a:lnTo>
                      <a:lnTo>
                        <a:pt x="99" y="414"/>
                      </a:lnTo>
                      <a:lnTo>
                        <a:pt x="207" y="318"/>
                      </a:lnTo>
                      <a:lnTo>
                        <a:pt x="267" y="294"/>
                      </a:lnTo>
                      <a:lnTo>
                        <a:pt x="321" y="297"/>
                      </a:lnTo>
                      <a:lnTo>
                        <a:pt x="378" y="267"/>
                      </a:lnTo>
                      <a:lnTo>
                        <a:pt x="411" y="183"/>
                      </a:lnTo>
                      <a:lnTo>
                        <a:pt x="480" y="153"/>
                      </a:lnTo>
                      <a:lnTo>
                        <a:pt x="480" y="105"/>
                      </a:lnTo>
                      <a:lnTo>
                        <a:pt x="531" y="30"/>
                      </a:lnTo>
                      <a:lnTo>
                        <a:pt x="597" y="30"/>
                      </a:lnTo>
                      <a:lnTo>
                        <a:pt x="636" y="0"/>
                      </a:lnTo>
                      <a:lnTo>
                        <a:pt x="678" y="78"/>
                      </a:lnTo>
                      <a:lnTo>
                        <a:pt x="741" y="114"/>
                      </a:lnTo>
                      <a:lnTo>
                        <a:pt x="759" y="165"/>
                      </a:lnTo>
                      <a:lnTo>
                        <a:pt x="807" y="162"/>
                      </a:lnTo>
                      <a:lnTo>
                        <a:pt x="807" y="201"/>
                      </a:lnTo>
                      <a:lnTo>
                        <a:pt x="837" y="213"/>
                      </a:lnTo>
                      <a:lnTo>
                        <a:pt x="945" y="168"/>
                      </a:lnTo>
                      <a:lnTo>
                        <a:pt x="972" y="111"/>
                      </a:lnTo>
                      <a:lnTo>
                        <a:pt x="1074" y="93"/>
                      </a:lnTo>
                      <a:lnTo>
                        <a:pt x="1074" y="66"/>
                      </a:lnTo>
                      <a:lnTo>
                        <a:pt x="1131" y="78"/>
                      </a:lnTo>
                      <a:lnTo>
                        <a:pt x="1140" y="111"/>
                      </a:lnTo>
                      <a:lnTo>
                        <a:pt x="1146" y="132"/>
                      </a:lnTo>
                      <a:close/>
                    </a:path>
                  </a:pathLst>
                </a:custGeom>
                <a:solidFill>
                  <a:srgbClr val="00cc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07520" y="2900520"/>
                  <a:ext cx="798120" cy="194040"/>
                </a:xfrm>
                <a:custGeom>
                  <a:avLst/>
                  <a:gdLst/>
                  <a:ahLst/>
                  <a:rect l="l" t="t" r="r" b="b"/>
                  <a:pathLst>
                    <a:path w="630" h="483">
                      <a:moveTo>
                        <a:pt x="0" y="240"/>
                      </a:moveTo>
                      <a:lnTo>
                        <a:pt x="186" y="135"/>
                      </a:lnTo>
                      <a:lnTo>
                        <a:pt x="255" y="120"/>
                      </a:lnTo>
                      <a:lnTo>
                        <a:pt x="264" y="90"/>
                      </a:lnTo>
                      <a:lnTo>
                        <a:pt x="312" y="78"/>
                      </a:lnTo>
                      <a:lnTo>
                        <a:pt x="339" y="39"/>
                      </a:lnTo>
                      <a:lnTo>
                        <a:pt x="396" y="33"/>
                      </a:lnTo>
                      <a:lnTo>
                        <a:pt x="444" y="51"/>
                      </a:lnTo>
                      <a:lnTo>
                        <a:pt x="501" y="0"/>
                      </a:lnTo>
                      <a:lnTo>
                        <a:pt x="630" y="30"/>
                      </a:lnTo>
                      <a:lnTo>
                        <a:pt x="627" y="60"/>
                      </a:lnTo>
                      <a:lnTo>
                        <a:pt x="600" y="81"/>
                      </a:lnTo>
                      <a:lnTo>
                        <a:pt x="594" y="144"/>
                      </a:lnTo>
                      <a:lnTo>
                        <a:pt x="573" y="174"/>
                      </a:lnTo>
                      <a:lnTo>
                        <a:pt x="522" y="186"/>
                      </a:lnTo>
                      <a:lnTo>
                        <a:pt x="501" y="189"/>
                      </a:lnTo>
                      <a:lnTo>
                        <a:pt x="507" y="246"/>
                      </a:lnTo>
                      <a:lnTo>
                        <a:pt x="480" y="282"/>
                      </a:lnTo>
                      <a:lnTo>
                        <a:pt x="486" y="378"/>
                      </a:lnTo>
                      <a:lnTo>
                        <a:pt x="576" y="474"/>
                      </a:lnTo>
                      <a:lnTo>
                        <a:pt x="492" y="483"/>
                      </a:lnTo>
                      <a:lnTo>
                        <a:pt x="288" y="387"/>
                      </a:lnTo>
                      <a:lnTo>
                        <a:pt x="231" y="432"/>
                      </a:lnTo>
                      <a:lnTo>
                        <a:pt x="132" y="405"/>
                      </a:lnTo>
                      <a:lnTo>
                        <a:pt x="129" y="366"/>
                      </a:lnTo>
                      <a:lnTo>
                        <a:pt x="24" y="351"/>
                      </a:lnTo>
                      <a:lnTo>
                        <a:pt x="18" y="267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815920" y="2838960"/>
                  <a:ext cx="1437120" cy="360360"/>
                </a:xfrm>
                <a:custGeom>
                  <a:avLst/>
                  <a:gdLst/>
                  <a:ahLst/>
                  <a:rect l="l" t="t" r="r" b="b"/>
                  <a:pathLst>
                    <a:path w="1134" h="897">
                      <a:moveTo>
                        <a:pt x="315" y="0"/>
                      </a:moveTo>
                      <a:lnTo>
                        <a:pt x="345" y="45"/>
                      </a:lnTo>
                      <a:lnTo>
                        <a:pt x="336" y="150"/>
                      </a:lnTo>
                      <a:lnTo>
                        <a:pt x="321" y="240"/>
                      </a:lnTo>
                      <a:lnTo>
                        <a:pt x="354" y="270"/>
                      </a:lnTo>
                      <a:lnTo>
                        <a:pt x="342" y="348"/>
                      </a:lnTo>
                      <a:lnTo>
                        <a:pt x="348" y="393"/>
                      </a:lnTo>
                      <a:lnTo>
                        <a:pt x="390" y="411"/>
                      </a:lnTo>
                      <a:lnTo>
                        <a:pt x="537" y="432"/>
                      </a:lnTo>
                      <a:lnTo>
                        <a:pt x="570" y="420"/>
                      </a:lnTo>
                      <a:lnTo>
                        <a:pt x="597" y="354"/>
                      </a:lnTo>
                      <a:lnTo>
                        <a:pt x="651" y="312"/>
                      </a:lnTo>
                      <a:lnTo>
                        <a:pt x="681" y="312"/>
                      </a:lnTo>
                      <a:lnTo>
                        <a:pt x="708" y="288"/>
                      </a:lnTo>
                      <a:lnTo>
                        <a:pt x="777" y="273"/>
                      </a:lnTo>
                      <a:lnTo>
                        <a:pt x="819" y="315"/>
                      </a:lnTo>
                      <a:lnTo>
                        <a:pt x="861" y="312"/>
                      </a:lnTo>
                      <a:lnTo>
                        <a:pt x="978" y="357"/>
                      </a:lnTo>
                      <a:lnTo>
                        <a:pt x="1104" y="378"/>
                      </a:lnTo>
                      <a:lnTo>
                        <a:pt x="1134" y="420"/>
                      </a:lnTo>
                      <a:lnTo>
                        <a:pt x="1122" y="471"/>
                      </a:lnTo>
                      <a:lnTo>
                        <a:pt x="1065" y="462"/>
                      </a:lnTo>
                      <a:lnTo>
                        <a:pt x="1029" y="528"/>
                      </a:lnTo>
                      <a:lnTo>
                        <a:pt x="966" y="477"/>
                      </a:lnTo>
                      <a:lnTo>
                        <a:pt x="930" y="471"/>
                      </a:lnTo>
                      <a:lnTo>
                        <a:pt x="867" y="507"/>
                      </a:lnTo>
                      <a:lnTo>
                        <a:pt x="753" y="471"/>
                      </a:lnTo>
                      <a:lnTo>
                        <a:pt x="681" y="486"/>
                      </a:lnTo>
                      <a:lnTo>
                        <a:pt x="669" y="510"/>
                      </a:lnTo>
                      <a:lnTo>
                        <a:pt x="687" y="546"/>
                      </a:lnTo>
                      <a:lnTo>
                        <a:pt x="678" y="579"/>
                      </a:lnTo>
                      <a:lnTo>
                        <a:pt x="588" y="633"/>
                      </a:lnTo>
                      <a:lnTo>
                        <a:pt x="567" y="678"/>
                      </a:lnTo>
                      <a:lnTo>
                        <a:pt x="567" y="708"/>
                      </a:lnTo>
                      <a:lnTo>
                        <a:pt x="648" y="732"/>
                      </a:lnTo>
                      <a:lnTo>
                        <a:pt x="657" y="801"/>
                      </a:lnTo>
                      <a:lnTo>
                        <a:pt x="702" y="897"/>
                      </a:lnTo>
                      <a:lnTo>
                        <a:pt x="612" y="858"/>
                      </a:lnTo>
                      <a:lnTo>
                        <a:pt x="396" y="852"/>
                      </a:lnTo>
                      <a:lnTo>
                        <a:pt x="267" y="825"/>
                      </a:lnTo>
                      <a:lnTo>
                        <a:pt x="231" y="816"/>
                      </a:lnTo>
                      <a:lnTo>
                        <a:pt x="231" y="750"/>
                      </a:lnTo>
                      <a:lnTo>
                        <a:pt x="204" y="717"/>
                      </a:lnTo>
                      <a:lnTo>
                        <a:pt x="129" y="681"/>
                      </a:lnTo>
                      <a:lnTo>
                        <a:pt x="84" y="609"/>
                      </a:lnTo>
                      <a:lnTo>
                        <a:pt x="6" y="528"/>
                      </a:lnTo>
                      <a:lnTo>
                        <a:pt x="0" y="471"/>
                      </a:lnTo>
                      <a:lnTo>
                        <a:pt x="3" y="429"/>
                      </a:lnTo>
                      <a:lnTo>
                        <a:pt x="30" y="399"/>
                      </a:lnTo>
                      <a:lnTo>
                        <a:pt x="24" y="339"/>
                      </a:lnTo>
                      <a:lnTo>
                        <a:pt x="99" y="327"/>
                      </a:lnTo>
                      <a:lnTo>
                        <a:pt x="120" y="297"/>
                      </a:lnTo>
                      <a:lnTo>
                        <a:pt x="120" y="234"/>
                      </a:lnTo>
                      <a:lnTo>
                        <a:pt x="150" y="210"/>
                      </a:lnTo>
                      <a:lnTo>
                        <a:pt x="159" y="180"/>
                      </a:lnTo>
                      <a:lnTo>
                        <a:pt x="264" y="48"/>
                      </a:lnTo>
                      <a:lnTo>
                        <a:pt x="315" y="0"/>
                      </a:lnTo>
                      <a:close/>
                    </a:path>
                  </a:pathLst>
                </a:custGeom>
                <a:solidFill>
                  <a:srgbClr val="019470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222720" y="2731680"/>
                  <a:ext cx="642240" cy="279720"/>
                </a:xfrm>
                <a:custGeom>
                  <a:avLst/>
                  <a:gdLst/>
                  <a:ahLst/>
                  <a:rect l="l" t="t" r="r" b="b"/>
                  <a:pathLst>
                    <a:path w="507" h="696">
                      <a:moveTo>
                        <a:pt x="0" y="270"/>
                      </a:moveTo>
                      <a:lnTo>
                        <a:pt x="27" y="315"/>
                      </a:lnTo>
                      <a:lnTo>
                        <a:pt x="0" y="513"/>
                      </a:lnTo>
                      <a:lnTo>
                        <a:pt x="33" y="537"/>
                      </a:lnTo>
                      <a:lnTo>
                        <a:pt x="27" y="603"/>
                      </a:lnTo>
                      <a:lnTo>
                        <a:pt x="24" y="624"/>
                      </a:lnTo>
                      <a:lnTo>
                        <a:pt x="33" y="660"/>
                      </a:lnTo>
                      <a:lnTo>
                        <a:pt x="75" y="678"/>
                      </a:lnTo>
                      <a:lnTo>
                        <a:pt x="174" y="690"/>
                      </a:lnTo>
                      <a:lnTo>
                        <a:pt x="222" y="696"/>
                      </a:lnTo>
                      <a:lnTo>
                        <a:pt x="255" y="687"/>
                      </a:lnTo>
                      <a:lnTo>
                        <a:pt x="279" y="612"/>
                      </a:lnTo>
                      <a:lnTo>
                        <a:pt x="330" y="576"/>
                      </a:lnTo>
                      <a:lnTo>
                        <a:pt x="363" y="576"/>
                      </a:lnTo>
                      <a:lnTo>
                        <a:pt x="390" y="555"/>
                      </a:lnTo>
                      <a:lnTo>
                        <a:pt x="450" y="543"/>
                      </a:lnTo>
                      <a:lnTo>
                        <a:pt x="432" y="495"/>
                      </a:lnTo>
                      <a:lnTo>
                        <a:pt x="393" y="414"/>
                      </a:lnTo>
                      <a:lnTo>
                        <a:pt x="438" y="333"/>
                      </a:lnTo>
                      <a:lnTo>
                        <a:pt x="465" y="264"/>
                      </a:lnTo>
                      <a:lnTo>
                        <a:pt x="507" y="210"/>
                      </a:lnTo>
                      <a:lnTo>
                        <a:pt x="492" y="90"/>
                      </a:lnTo>
                      <a:lnTo>
                        <a:pt x="393" y="51"/>
                      </a:lnTo>
                      <a:lnTo>
                        <a:pt x="318" y="0"/>
                      </a:lnTo>
                      <a:lnTo>
                        <a:pt x="279" y="0"/>
                      </a:lnTo>
                      <a:lnTo>
                        <a:pt x="291" y="66"/>
                      </a:lnTo>
                      <a:lnTo>
                        <a:pt x="294" y="99"/>
                      </a:lnTo>
                      <a:lnTo>
                        <a:pt x="279" y="144"/>
                      </a:lnTo>
                      <a:lnTo>
                        <a:pt x="141" y="183"/>
                      </a:lnTo>
                      <a:lnTo>
                        <a:pt x="84" y="228"/>
                      </a:lnTo>
                      <a:lnTo>
                        <a:pt x="0" y="27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720960" y="2739960"/>
                  <a:ext cx="1053000" cy="279720"/>
                </a:xfrm>
                <a:custGeom>
                  <a:avLst/>
                  <a:gdLst/>
                  <a:ahLst/>
                  <a:rect l="l" t="t" r="r" b="b"/>
                  <a:pathLst>
                    <a:path w="831" h="696">
                      <a:moveTo>
                        <a:pt x="132" y="180"/>
                      </a:moveTo>
                      <a:lnTo>
                        <a:pt x="75" y="237"/>
                      </a:lnTo>
                      <a:lnTo>
                        <a:pt x="42" y="327"/>
                      </a:lnTo>
                      <a:lnTo>
                        <a:pt x="0" y="390"/>
                      </a:lnTo>
                      <a:lnTo>
                        <a:pt x="48" y="489"/>
                      </a:lnTo>
                      <a:lnTo>
                        <a:pt x="75" y="537"/>
                      </a:lnTo>
                      <a:lnTo>
                        <a:pt x="111" y="561"/>
                      </a:lnTo>
                      <a:lnTo>
                        <a:pt x="156" y="558"/>
                      </a:lnTo>
                      <a:lnTo>
                        <a:pt x="285" y="606"/>
                      </a:lnTo>
                      <a:lnTo>
                        <a:pt x="396" y="630"/>
                      </a:lnTo>
                      <a:lnTo>
                        <a:pt x="432" y="660"/>
                      </a:lnTo>
                      <a:lnTo>
                        <a:pt x="480" y="663"/>
                      </a:lnTo>
                      <a:lnTo>
                        <a:pt x="510" y="696"/>
                      </a:lnTo>
                      <a:lnTo>
                        <a:pt x="555" y="687"/>
                      </a:lnTo>
                      <a:lnTo>
                        <a:pt x="507" y="636"/>
                      </a:lnTo>
                      <a:lnTo>
                        <a:pt x="486" y="528"/>
                      </a:lnTo>
                      <a:lnTo>
                        <a:pt x="543" y="435"/>
                      </a:lnTo>
                      <a:lnTo>
                        <a:pt x="738" y="351"/>
                      </a:lnTo>
                      <a:lnTo>
                        <a:pt x="831" y="294"/>
                      </a:lnTo>
                      <a:lnTo>
                        <a:pt x="816" y="255"/>
                      </a:lnTo>
                      <a:lnTo>
                        <a:pt x="699" y="156"/>
                      </a:lnTo>
                      <a:lnTo>
                        <a:pt x="633" y="135"/>
                      </a:lnTo>
                      <a:lnTo>
                        <a:pt x="522" y="36"/>
                      </a:lnTo>
                      <a:lnTo>
                        <a:pt x="471" y="0"/>
                      </a:lnTo>
                      <a:lnTo>
                        <a:pt x="399" y="84"/>
                      </a:lnTo>
                      <a:lnTo>
                        <a:pt x="384" y="129"/>
                      </a:lnTo>
                      <a:lnTo>
                        <a:pt x="321" y="162"/>
                      </a:lnTo>
                      <a:lnTo>
                        <a:pt x="276" y="132"/>
                      </a:lnTo>
                      <a:lnTo>
                        <a:pt x="195" y="153"/>
                      </a:lnTo>
                      <a:lnTo>
                        <a:pt x="132" y="18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" name=""/>
                <p:cNvGrpSpPr/>
                <p:nvPr/>
              </p:nvGrpSpPr>
              <p:grpSpPr>
                <a:xfrm>
                  <a:off x="975600" y="2600280"/>
                  <a:ext cx="3790440" cy="857160"/>
                  <a:chOff x="975600" y="2600280"/>
                  <a:chExt cx="3790440" cy="8571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990720" y="2988360"/>
                    <a:ext cx="33840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002">
                        <a:moveTo>
                          <a:pt x="0" y="1002"/>
                        </a:moveTo>
                        <a:lnTo>
                          <a:pt x="39" y="966"/>
                        </a:lnTo>
                        <a:lnTo>
                          <a:pt x="54" y="921"/>
                        </a:lnTo>
                        <a:lnTo>
                          <a:pt x="111" y="876"/>
                        </a:lnTo>
                        <a:lnTo>
                          <a:pt x="126" y="807"/>
                        </a:lnTo>
                        <a:lnTo>
                          <a:pt x="105" y="756"/>
                        </a:lnTo>
                        <a:lnTo>
                          <a:pt x="135" y="699"/>
                        </a:lnTo>
                        <a:lnTo>
                          <a:pt x="144" y="645"/>
                        </a:lnTo>
                        <a:lnTo>
                          <a:pt x="174" y="606"/>
                        </a:lnTo>
                        <a:lnTo>
                          <a:pt x="216" y="510"/>
                        </a:lnTo>
                        <a:lnTo>
                          <a:pt x="252" y="423"/>
                        </a:lnTo>
                        <a:lnTo>
                          <a:pt x="267" y="381"/>
                        </a:lnTo>
                        <a:lnTo>
                          <a:pt x="255" y="339"/>
                        </a:lnTo>
                        <a:lnTo>
                          <a:pt x="216" y="303"/>
                        </a:lnTo>
                        <a:lnTo>
                          <a:pt x="180" y="276"/>
                        </a:lnTo>
                        <a:lnTo>
                          <a:pt x="159" y="231"/>
                        </a:lnTo>
                        <a:lnTo>
                          <a:pt x="138" y="189"/>
                        </a:lnTo>
                        <a:lnTo>
                          <a:pt x="120" y="156"/>
                        </a:lnTo>
                        <a:lnTo>
                          <a:pt x="123" y="129"/>
                        </a:lnTo>
                        <a:lnTo>
                          <a:pt x="141" y="120"/>
                        </a:lnTo>
                        <a:lnTo>
                          <a:pt x="165" y="120"/>
                        </a:lnTo>
                        <a:lnTo>
                          <a:pt x="183" y="105"/>
                        </a:lnTo>
                        <a:cubicBezTo>
                          <a:pt x="177" y="89"/>
                          <a:pt x="165" y="64"/>
                          <a:pt x="165" y="45"/>
                        </a:cubicBezTo>
                        <a:lnTo>
                          <a:pt x="198" y="0"/>
                        </a:lnTo>
                      </a:path>
                    </a:pathLst>
                  </a:custGeom>
                  <a:noFill/>
                  <a:ln w="57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237680" y="2790720"/>
                    <a:ext cx="30384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501">
                        <a:moveTo>
                          <a:pt x="0" y="501"/>
                        </a:moveTo>
                        <a:lnTo>
                          <a:pt x="21" y="468"/>
                        </a:lnTo>
                        <a:lnTo>
                          <a:pt x="78" y="453"/>
                        </a:lnTo>
                        <a:lnTo>
                          <a:pt x="96" y="423"/>
                        </a:lnTo>
                        <a:lnTo>
                          <a:pt x="150" y="435"/>
                        </a:lnTo>
                        <a:lnTo>
                          <a:pt x="165" y="411"/>
                        </a:lnTo>
                        <a:lnTo>
                          <a:pt x="153" y="390"/>
                        </a:lnTo>
                        <a:lnTo>
                          <a:pt x="150" y="372"/>
                        </a:lnTo>
                        <a:lnTo>
                          <a:pt x="183" y="354"/>
                        </a:lnTo>
                        <a:lnTo>
                          <a:pt x="189" y="330"/>
                        </a:lnTo>
                        <a:lnTo>
                          <a:pt x="216" y="318"/>
                        </a:lnTo>
                        <a:lnTo>
                          <a:pt x="240" y="237"/>
                        </a:lnTo>
                        <a:lnTo>
                          <a:pt x="231" y="204"/>
                        </a:lnTo>
                        <a:lnTo>
                          <a:pt x="213" y="156"/>
                        </a:lnTo>
                        <a:lnTo>
                          <a:pt x="204" y="135"/>
                        </a:lnTo>
                        <a:lnTo>
                          <a:pt x="192" y="114"/>
                        </a:lnTo>
                        <a:lnTo>
                          <a:pt x="195" y="96"/>
                        </a:lnTo>
                        <a:lnTo>
                          <a:pt x="213" y="72"/>
                        </a:lnTo>
                        <a:lnTo>
                          <a:pt x="228" y="60"/>
                        </a:lnTo>
                        <a:lnTo>
                          <a:pt x="210" y="30"/>
                        </a:lnTo>
                        <a:lnTo>
                          <a:pt x="198" y="0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1112400" y="3059640"/>
                    <a:ext cx="2630880" cy="39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76" h="978">
                        <a:moveTo>
                          <a:pt x="0" y="978"/>
                        </a:moveTo>
                        <a:lnTo>
                          <a:pt x="39" y="951"/>
                        </a:lnTo>
                        <a:lnTo>
                          <a:pt x="57" y="909"/>
                        </a:lnTo>
                        <a:lnTo>
                          <a:pt x="66" y="873"/>
                        </a:lnTo>
                        <a:lnTo>
                          <a:pt x="90" y="849"/>
                        </a:lnTo>
                        <a:lnTo>
                          <a:pt x="120" y="810"/>
                        </a:lnTo>
                        <a:lnTo>
                          <a:pt x="153" y="780"/>
                        </a:lnTo>
                        <a:lnTo>
                          <a:pt x="183" y="738"/>
                        </a:lnTo>
                        <a:lnTo>
                          <a:pt x="219" y="696"/>
                        </a:lnTo>
                        <a:lnTo>
                          <a:pt x="222" y="648"/>
                        </a:lnTo>
                        <a:lnTo>
                          <a:pt x="237" y="585"/>
                        </a:lnTo>
                        <a:lnTo>
                          <a:pt x="246" y="546"/>
                        </a:lnTo>
                        <a:lnTo>
                          <a:pt x="273" y="534"/>
                        </a:lnTo>
                        <a:lnTo>
                          <a:pt x="327" y="519"/>
                        </a:lnTo>
                        <a:lnTo>
                          <a:pt x="351" y="501"/>
                        </a:lnTo>
                        <a:lnTo>
                          <a:pt x="357" y="477"/>
                        </a:lnTo>
                        <a:lnTo>
                          <a:pt x="360" y="447"/>
                        </a:lnTo>
                        <a:lnTo>
                          <a:pt x="372" y="429"/>
                        </a:lnTo>
                        <a:lnTo>
                          <a:pt x="396" y="408"/>
                        </a:lnTo>
                        <a:lnTo>
                          <a:pt x="435" y="390"/>
                        </a:lnTo>
                        <a:lnTo>
                          <a:pt x="474" y="384"/>
                        </a:lnTo>
                        <a:lnTo>
                          <a:pt x="486" y="345"/>
                        </a:lnTo>
                        <a:lnTo>
                          <a:pt x="483" y="315"/>
                        </a:lnTo>
                        <a:lnTo>
                          <a:pt x="555" y="258"/>
                        </a:lnTo>
                        <a:lnTo>
                          <a:pt x="597" y="210"/>
                        </a:lnTo>
                        <a:lnTo>
                          <a:pt x="657" y="180"/>
                        </a:lnTo>
                        <a:lnTo>
                          <a:pt x="690" y="171"/>
                        </a:lnTo>
                        <a:lnTo>
                          <a:pt x="723" y="165"/>
                        </a:lnTo>
                        <a:lnTo>
                          <a:pt x="741" y="144"/>
                        </a:lnTo>
                        <a:lnTo>
                          <a:pt x="819" y="141"/>
                        </a:lnTo>
                        <a:lnTo>
                          <a:pt x="870" y="114"/>
                        </a:lnTo>
                        <a:lnTo>
                          <a:pt x="963" y="111"/>
                        </a:lnTo>
                        <a:lnTo>
                          <a:pt x="966" y="87"/>
                        </a:lnTo>
                        <a:lnTo>
                          <a:pt x="1005" y="51"/>
                        </a:lnTo>
                        <a:lnTo>
                          <a:pt x="1014" y="9"/>
                        </a:lnTo>
                        <a:lnTo>
                          <a:pt x="1074" y="27"/>
                        </a:lnTo>
                        <a:lnTo>
                          <a:pt x="1101" y="39"/>
                        </a:lnTo>
                        <a:lnTo>
                          <a:pt x="1143" y="0"/>
                        </a:lnTo>
                        <a:lnTo>
                          <a:pt x="1173" y="0"/>
                        </a:lnTo>
                        <a:lnTo>
                          <a:pt x="1239" y="42"/>
                        </a:lnTo>
                        <a:lnTo>
                          <a:pt x="1302" y="66"/>
                        </a:lnTo>
                        <a:lnTo>
                          <a:pt x="1359" y="87"/>
                        </a:lnTo>
                        <a:lnTo>
                          <a:pt x="1413" y="84"/>
                        </a:lnTo>
                        <a:lnTo>
                          <a:pt x="1428" y="72"/>
                        </a:lnTo>
                        <a:lnTo>
                          <a:pt x="1440" y="102"/>
                        </a:lnTo>
                        <a:lnTo>
                          <a:pt x="1500" y="156"/>
                        </a:lnTo>
                        <a:lnTo>
                          <a:pt x="1557" y="180"/>
                        </a:lnTo>
                        <a:lnTo>
                          <a:pt x="1566" y="210"/>
                        </a:lnTo>
                        <a:lnTo>
                          <a:pt x="1584" y="222"/>
                        </a:lnTo>
                        <a:lnTo>
                          <a:pt x="1584" y="264"/>
                        </a:lnTo>
                        <a:lnTo>
                          <a:pt x="1659" y="294"/>
                        </a:lnTo>
                        <a:lnTo>
                          <a:pt x="1749" y="306"/>
                        </a:lnTo>
                        <a:lnTo>
                          <a:pt x="1896" y="312"/>
                        </a:lnTo>
                        <a:lnTo>
                          <a:pt x="1965" y="312"/>
                        </a:lnTo>
                        <a:lnTo>
                          <a:pt x="2040" y="333"/>
                        </a:lnTo>
                        <a:lnTo>
                          <a:pt x="2076" y="357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743280" y="3107880"/>
                    <a:ext cx="8665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4" h="330">
                        <a:moveTo>
                          <a:pt x="0" y="234"/>
                        </a:moveTo>
                        <a:lnTo>
                          <a:pt x="69" y="282"/>
                        </a:lnTo>
                        <a:lnTo>
                          <a:pt x="138" y="309"/>
                        </a:lnTo>
                        <a:lnTo>
                          <a:pt x="186" y="330"/>
                        </a:lnTo>
                        <a:lnTo>
                          <a:pt x="201" y="312"/>
                        </a:lnTo>
                        <a:lnTo>
                          <a:pt x="213" y="273"/>
                        </a:lnTo>
                        <a:lnTo>
                          <a:pt x="225" y="240"/>
                        </a:lnTo>
                        <a:lnTo>
                          <a:pt x="255" y="204"/>
                        </a:lnTo>
                        <a:lnTo>
                          <a:pt x="306" y="171"/>
                        </a:lnTo>
                        <a:lnTo>
                          <a:pt x="363" y="162"/>
                        </a:lnTo>
                        <a:lnTo>
                          <a:pt x="408" y="162"/>
                        </a:lnTo>
                        <a:lnTo>
                          <a:pt x="423" y="138"/>
                        </a:lnTo>
                        <a:lnTo>
                          <a:pt x="471" y="126"/>
                        </a:lnTo>
                        <a:lnTo>
                          <a:pt x="522" y="102"/>
                        </a:lnTo>
                        <a:lnTo>
                          <a:pt x="564" y="66"/>
                        </a:lnTo>
                        <a:lnTo>
                          <a:pt x="594" y="39"/>
                        </a:lnTo>
                        <a:lnTo>
                          <a:pt x="648" y="15"/>
                        </a:lnTo>
                        <a:lnTo>
                          <a:pt x="684" y="0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1473480" y="2600280"/>
                    <a:ext cx="261576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4" h="534">
                        <a:moveTo>
                          <a:pt x="6" y="477"/>
                        </a:moveTo>
                        <a:lnTo>
                          <a:pt x="0" y="447"/>
                        </a:lnTo>
                        <a:lnTo>
                          <a:pt x="63" y="405"/>
                        </a:lnTo>
                        <a:lnTo>
                          <a:pt x="105" y="381"/>
                        </a:lnTo>
                        <a:lnTo>
                          <a:pt x="147" y="369"/>
                        </a:lnTo>
                        <a:lnTo>
                          <a:pt x="168" y="330"/>
                        </a:lnTo>
                        <a:lnTo>
                          <a:pt x="204" y="315"/>
                        </a:lnTo>
                        <a:lnTo>
                          <a:pt x="234" y="297"/>
                        </a:lnTo>
                        <a:lnTo>
                          <a:pt x="258" y="264"/>
                        </a:lnTo>
                        <a:lnTo>
                          <a:pt x="279" y="279"/>
                        </a:lnTo>
                        <a:lnTo>
                          <a:pt x="288" y="306"/>
                        </a:lnTo>
                        <a:lnTo>
                          <a:pt x="306" y="327"/>
                        </a:lnTo>
                        <a:lnTo>
                          <a:pt x="357" y="336"/>
                        </a:lnTo>
                        <a:lnTo>
                          <a:pt x="384" y="348"/>
                        </a:lnTo>
                        <a:lnTo>
                          <a:pt x="405" y="375"/>
                        </a:lnTo>
                        <a:lnTo>
                          <a:pt x="420" y="414"/>
                        </a:lnTo>
                        <a:lnTo>
                          <a:pt x="474" y="387"/>
                        </a:lnTo>
                        <a:lnTo>
                          <a:pt x="501" y="357"/>
                        </a:lnTo>
                        <a:lnTo>
                          <a:pt x="549" y="345"/>
                        </a:lnTo>
                        <a:lnTo>
                          <a:pt x="588" y="297"/>
                        </a:lnTo>
                        <a:lnTo>
                          <a:pt x="657" y="246"/>
                        </a:lnTo>
                        <a:lnTo>
                          <a:pt x="702" y="213"/>
                        </a:lnTo>
                        <a:lnTo>
                          <a:pt x="741" y="177"/>
                        </a:lnTo>
                        <a:lnTo>
                          <a:pt x="753" y="135"/>
                        </a:lnTo>
                        <a:lnTo>
                          <a:pt x="756" y="102"/>
                        </a:lnTo>
                        <a:lnTo>
                          <a:pt x="774" y="87"/>
                        </a:lnTo>
                        <a:lnTo>
                          <a:pt x="858" y="93"/>
                        </a:lnTo>
                        <a:lnTo>
                          <a:pt x="912" y="90"/>
                        </a:lnTo>
                        <a:lnTo>
                          <a:pt x="969" y="72"/>
                        </a:lnTo>
                        <a:lnTo>
                          <a:pt x="1029" y="27"/>
                        </a:lnTo>
                        <a:lnTo>
                          <a:pt x="1062" y="0"/>
                        </a:lnTo>
                        <a:lnTo>
                          <a:pt x="1098" y="12"/>
                        </a:lnTo>
                        <a:lnTo>
                          <a:pt x="1131" y="69"/>
                        </a:lnTo>
                        <a:lnTo>
                          <a:pt x="1167" y="117"/>
                        </a:lnTo>
                        <a:lnTo>
                          <a:pt x="1212" y="174"/>
                        </a:lnTo>
                        <a:lnTo>
                          <a:pt x="1260" y="246"/>
                        </a:lnTo>
                        <a:lnTo>
                          <a:pt x="1320" y="321"/>
                        </a:lnTo>
                        <a:lnTo>
                          <a:pt x="1314" y="366"/>
                        </a:lnTo>
                        <a:lnTo>
                          <a:pt x="1323" y="399"/>
                        </a:lnTo>
                        <a:lnTo>
                          <a:pt x="1347" y="414"/>
                        </a:lnTo>
                        <a:lnTo>
                          <a:pt x="1410" y="396"/>
                        </a:lnTo>
                        <a:lnTo>
                          <a:pt x="1449" y="381"/>
                        </a:lnTo>
                        <a:lnTo>
                          <a:pt x="1470" y="351"/>
                        </a:lnTo>
                        <a:lnTo>
                          <a:pt x="1485" y="318"/>
                        </a:lnTo>
                        <a:lnTo>
                          <a:pt x="1551" y="306"/>
                        </a:lnTo>
                        <a:lnTo>
                          <a:pt x="1581" y="297"/>
                        </a:lnTo>
                        <a:lnTo>
                          <a:pt x="1584" y="276"/>
                        </a:lnTo>
                        <a:lnTo>
                          <a:pt x="1644" y="285"/>
                        </a:lnTo>
                        <a:lnTo>
                          <a:pt x="1662" y="315"/>
                        </a:lnTo>
                        <a:lnTo>
                          <a:pt x="1695" y="318"/>
                        </a:lnTo>
                        <a:lnTo>
                          <a:pt x="1743" y="354"/>
                        </a:lnTo>
                        <a:lnTo>
                          <a:pt x="1812" y="408"/>
                        </a:lnTo>
                        <a:lnTo>
                          <a:pt x="1866" y="420"/>
                        </a:lnTo>
                        <a:lnTo>
                          <a:pt x="1881" y="441"/>
                        </a:lnTo>
                        <a:lnTo>
                          <a:pt x="1884" y="483"/>
                        </a:lnTo>
                        <a:lnTo>
                          <a:pt x="1875" y="516"/>
                        </a:lnTo>
                        <a:lnTo>
                          <a:pt x="1881" y="534"/>
                        </a:lnTo>
                        <a:lnTo>
                          <a:pt x="1923" y="525"/>
                        </a:lnTo>
                        <a:lnTo>
                          <a:pt x="1959" y="501"/>
                        </a:lnTo>
                        <a:lnTo>
                          <a:pt x="1998" y="495"/>
                        </a:lnTo>
                        <a:lnTo>
                          <a:pt x="2028" y="483"/>
                        </a:lnTo>
                        <a:lnTo>
                          <a:pt x="2064" y="489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4082040" y="2739960"/>
                    <a:ext cx="6840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40" h="921">
                        <a:moveTo>
                          <a:pt x="0" y="141"/>
                        </a:moveTo>
                        <a:cubicBezTo>
                          <a:pt x="24" y="156"/>
                          <a:pt x="36" y="177"/>
                          <a:pt x="57" y="156"/>
                        </a:cubicBezTo>
                        <a:lnTo>
                          <a:pt x="90" y="141"/>
                        </a:lnTo>
                        <a:lnTo>
                          <a:pt x="117" y="72"/>
                        </a:lnTo>
                        <a:lnTo>
                          <a:pt x="168" y="18"/>
                        </a:lnTo>
                        <a:lnTo>
                          <a:pt x="183" y="0"/>
                        </a:lnTo>
                        <a:lnTo>
                          <a:pt x="219" y="21"/>
                        </a:lnTo>
                        <a:lnTo>
                          <a:pt x="363" y="150"/>
                        </a:lnTo>
                        <a:lnTo>
                          <a:pt x="414" y="165"/>
                        </a:lnTo>
                        <a:lnTo>
                          <a:pt x="537" y="273"/>
                        </a:lnTo>
                        <a:lnTo>
                          <a:pt x="540" y="300"/>
                        </a:lnTo>
                        <a:lnTo>
                          <a:pt x="522" y="321"/>
                        </a:lnTo>
                        <a:lnTo>
                          <a:pt x="294" y="420"/>
                        </a:lnTo>
                        <a:lnTo>
                          <a:pt x="234" y="471"/>
                        </a:lnTo>
                        <a:lnTo>
                          <a:pt x="207" y="519"/>
                        </a:lnTo>
                        <a:lnTo>
                          <a:pt x="210" y="579"/>
                        </a:lnTo>
                        <a:lnTo>
                          <a:pt x="222" y="636"/>
                        </a:lnTo>
                        <a:lnTo>
                          <a:pt x="246" y="666"/>
                        </a:lnTo>
                        <a:lnTo>
                          <a:pt x="267" y="699"/>
                        </a:lnTo>
                        <a:lnTo>
                          <a:pt x="282" y="747"/>
                        </a:lnTo>
                        <a:lnTo>
                          <a:pt x="318" y="774"/>
                        </a:lnTo>
                        <a:lnTo>
                          <a:pt x="339" y="801"/>
                        </a:lnTo>
                        <a:lnTo>
                          <a:pt x="345" y="846"/>
                        </a:lnTo>
                        <a:lnTo>
                          <a:pt x="417" y="921"/>
                        </a:ln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975600" y="3387600"/>
                    <a:ext cx="155880" cy="6984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0" name=""/>
                <p:cNvSpPr/>
                <p:nvPr/>
              </p:nvSpPr>
              <p:spPr>
                <a:xfrm>
                  <a:off x="3534480" y="3005280"/>
                  <a:ext cx="1068120" cy="232560"/>
                </a:xfrm>
                <a:custGeom>
                  <a:avLst/>
                  <a:gdLst/>
                  <a:ahLst/>
                  <a:rect l="l" t="t" r="r" b="b"/>
                  <a:pathLst>
                    <a:path w="843" h="579">
                      <a:moveTo>
                        <a:pt x="138" y="483"/>
                      </a:moveTo>
                      <a:lnTo>
                        <a:pt x="87" y="381"/>
                      </a:lnTo>
                      <a:lnTo>
                        <a:pt x="84" y="318"/>
                      </a:lnTo>
                      <a:lnTo>
                        <a:pt x="3" y="294"/>
                      </a:lnTo>
                      <a:lnTo>
                        <a:pt x="0" y="255"/>
                      </a:lnTo>
                      <a:lnTo>
                        <a:pt x="33" y="210"/>
                      </a:lnTo>
                      <a:lnTo>
                        <a:pt x="111" y="171"/>
                      </a:lnTo>
                      <a:lnTo>
                        <a:pt x="123" y="132"/>
                      </a:lnTo>
                      <a:lnTo>
                        <a:pt x="102" y="99"/>
                      </a:lnTo>
                      <a:lnTo>
                        <a:pt x="117" y="72"/>
                      </a:lnTo>
                      <a:lnTo>
                        <a:pt x="186" y="54"/>
                      </a:lnTo>
                      <a:lnTo>
                        <a:pt x="300" y="93"/>
                      </a:lnTo>
                      <a:lnTo>
                        <a:pt x="354" y="63"/>
                      </a:lnTo>
                      <a:lnTo>
                        <a:pt x="393" y="57"/>
                      </a:lnTo>
                      <a:lnTo>
                        <a:pt x="456" y="111"/>
                      </a:lnTo>
                      <a:lnTo>
                        <a:pt x="474" y="111"/>
                      </a:lnTo>
                      <a:lnTo>
                        <a:pt x="501" y="48"/>
                      </a:lnTo>
                      <a:lnTo>
                        <a:pt x="561" y="54"/>
                      </a:lnTo>
                      <a:lnTo>
                        <a:pt x="570" y="0"/>
                      </a:lnTo>
                      <a:lnTo>
                        <a:pt x="630" y="3"/>
                      </a:lnTo>
                      <a:lnTo>
                        <a:pt x="657" y="39"/>
                      </a:lnTo>
                      <a:lnTo>
                        <a:pt x="705" y="33"/>
                      </a:lnTo>
                      <a:lnTo>
                        <a:pt x="717" y="99"/>
                      </a:lnTo>
                      <a:lnTo>
                        <a:pt x="768" y="135"/>
                      </a:lnTo>
                      <a:lnTo>
                        <a:pt x="783" y="198"/>
                      </a:lnTo>
                      <a:lnTo>
                        <a:pt x="843" y="261"/>
                      </a:lnTo>
                      <a:lnTo>
                        <a:pt x="768" y="282"/>
                      </a:lnTo>
                      <a:lnTo>
                        <a:pt x="669" y="369"/>
                      </a:lnTo>
                      <a:lnTo>
                        <a:pt x="588" y="393"/>
                      </a:lnTo>
                      <a:lnTo>
                        <a:pt x="573" y="417"/>
                      </a:lnTo>
                      <a:lnTo>
                        <a:pt x="489" y="420"/>
                      </a:lnTo>
                      <a:lnTo>
                        <a:pt x="417" y="456"/>
                      </a:lnTo>
                      <a:lnTo>
                        <a:pt x="384" y="519"/>
                      </a:lnTo>
                      <a:lnTo>
                        <a:pt x="369" y="561"/>
                      </a:lnTo>
                      <a:lnTo>
                        <a:pt x="348" y="579"/>
                      </a:lnTo>
                      <a:lnTo>
                        <a:pt x="276" y="555"/>
                      </a:lnTo>
                      <a:lnTo>
                        <a:pt x="183" y="507"/>
                      </a:lnTo>
                      <a:lnTo>
                        <a:pt x="138" y="483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Overlay Analysis of Data Used to Site Preliminary Sampling Locations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64120" y="1657080"/>
            <a:ext cx="406728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83760" indent="-38376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drologic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3760" indent="-38376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eam gage lo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3760" indent="-38376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int dischar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3760" indent="-38376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sampling lo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3760" indent="-38376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&amp; E species lo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3760" indent="-38376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3d l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383760">
              <a:lnSpc>
                <a:spcPts val="1998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dro 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383760">
              <a:lnSpc>
                <a:spcPts val="1998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lutant/Str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3760" indent="-38376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d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383760">
              <a:lnSpc>
                <a:spcPts val="1998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383760">
              <a:lnSpc>
                <a:spcPts val="1998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ions of chang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3760" indent="-38376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cy boundar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3760" indent="0">
              <a:lnSpc>
                <a:spcPts val="1998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ig11" descr=""/>
          <p:cNvPicPr/>
          <p:nvPr/>
        </p:nvPicPr>
        <p:blipFill>
          <a:blip r:embed="rId1"/>
          <a:stretch/>
        </p:blipFill>
        <p:spPr>
          <a:xfrm>
            <a:off x="979560" y="590400"/>
            <a:ext cx="8377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507960" y="0"/>
            <a:ext cx="9201240" cy="6878520"/>
            <a:chOff x="507960" y="0"/>
            <a:chExt cx="9201240" cy="6878520"/>
          </a:xfrm>
        </p:grpSpPr>
        <p:pic>
          <p:nvPicPr>
            <p:cNvPr id="224" name="fig34" descr=""/>
            <p:cNvPicPr/>
            <p:nvPr/>
          </p:nvPicPr>
          <p:blipFill>
            <a:blip r:embed="rId1"/>
            <a:stretch/>
          </p:blipFill>
          <p:spPr>
            <a:xfrm>
              <a:off x="507960" y="0"/>
              <a:ext cx="9201240" cy="687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 txBox="1"/>
            <p:nvPr/>
          </p:nvSpPr>
          <p:spPr>
            <a:xfrm>
              <a:off x="507960" y="0"/>
              <a:ext cx="9201240" cy="687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99960" indent="-399960">
                <a:lnSpc>
                  <a:spcPts val="2999"/>
                </a:lnSpc>
                <a:spcBef>
                  <a:spcPts val="700"/>
                </a:spcBef>
                <a:spcAft>
                  <a:spcPts val="1199"/>
                </a:spcAft>
                <a:buClr>
                  <a:srgbClr val="eccf1f"/>
                </a:buClr>
                <a:buSzPct val="90000"/>
                <a:buFont typeface="Monotype Sorts" charset="2"/>
                <a:buChar char=""/>
                <a:tabLst>
                  <a:tab algn="l" pos="9144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3880" y="0"/>
            <a:ext cx="8267760" cy="112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oposed Monitoring Locations</a:t>
            </a:r>
            <a:br>
              <a:rPr sz="3200"/>
            </a:b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ropwq1" descr=""/>
          <p:cNvPicPr/>
          <p:nvPr/>
        </p:nvPicPr>
        <p:blipFill>
          <a:blip r:embed="rId1"/>
          <a:stretch/>
        </p:blipFill>
        <p:spPr>
          <a:xfrm>
            <a:off x="600120" y="0"/>
            <a:ext cx="8829720" cy="685152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Monitoring Locations on Santa Margarita River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ropwq1" descr=""/>
          <p:cNvPicPr/>
          <p:nvPr/>
        </p:nvPicPr>
        <p:blipFill>
          <a:blip r:embed="rId1"/>
          <a:stretch/>
        </p:blipFill>
        <p:spPr>
          <a:xfrm>
            <a:off x="600120" y="0"/>
            <a:ext cx="8829720" cy="685152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Monitoring Locations on Santa Margarita River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89240" y="5118120"/>
            <a:ext cx="1231920" cy="609480"/>
          </a:xfrm>
          <a:prstGeom prst="borderCallout1">
            <a:avLst>
              <a:gd name="adj1" fmla="val 18750"/>
              <a:gd name="adj2" fmla="val -8333"/>
              <a:gd name="adj3" fmla="val 95833"/>
              <a:gd name="adj4" fmla="val -141236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DES &amp; TM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21240" y="4038480"/>
            <a:ext cx="1981080" cy="609840"/>
          </a:xfrm>
          <a:prstGeom prst="borderCallout1">
            <a:avLst>
              <a:gd name="adj1" fmla="val 18750"/>
              <a:gd name="adj2" fmla="val -8333"/>
              <a:gd name="adj3" fmla="val 58333"/>
              <a:gd name="adj4" fmla="val -72435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Program &amp; NP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04840" y="2565360"/>
            <a:ext cx="1231920" cy="393840"/>
          </a:xfrm>
          <a:prstGeom prst="borderCallout1">
            <a:avLst>
              <a:gd name="adj1" fmla="val 18750"/>
              <a:gd name="adj2" fmla="val -8333"/>
              <a:gd name="adj3" fmla="val 103226"/>
              <a:gd name="adj4" fmla="val 176287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31000" y="2044800"/>
            <a:ext cx="1904760" cy="368280"/>
          </a:xfrm>
          <a:prstGeom prst="borderCallout1">
            <a:avLst>
              <a:gd name="adj1" fmla="val 18750"/>
              <a:gd name="adj2" fmla="val -8333"/>
              <a:gd name="adj3" fmla="val 44828"/>
              <a:gd name="adj4" fmla="val -28000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itat Iss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666880"/>
            <a:ext cx="1765440" cy="76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25680" y="2692440"/>
            <a:ext cx="787320" cy="90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56280" y="3467160"/>
            <a:ext cx="1231920" cy="393480"/>
          </a:xfrm>
          <a:prstGeom prst="borderCallout1">
            <a:avLst>
              <a:gd name="adj1" fmla="val 18750"/>
              <a:gd name="adj2" fmla="val -8333"/>
              <a:gd name="adj3" fmla="val -103226"/>
              <a:gd name="adj4" fmla="val -18555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190760" y="2197080"/>
            <a:ext cx="1663560" cy="812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21040" y="1460520"/>
            <a:ext cx="1231920" cy="609480"/>
          </a:xfrm>
          <a:prstGeom prst="borderCallout1">
            <a:avLst>
              <a:gd name="adj1" fmla="val 18750"/>
              <a:gd name="adj2" fmla="val -8333"/>
              <a:gd name="adj3" fmla="val 85416"/>
              <a:gd name="adj4" fmla="val 214435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DES &amp; TM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ropwq2" descr=""/>
          <p:cNvPicPr/>
          <p:nvPr/>
        </p:nvPicPr>
        <p:blipFill>
          <a:blip r:embed="rId1"/>
          <a:stretch/>
        </p:blipFill>
        <p:spPr>
          <a:xfrm>
            <a:off x="749160" y="0"/>
            <a:ext cx="8832960" cy="6851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9320" y="0"/>
            <a:ext cx="8902800" cy="112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Monitoring Locations on Murrieta Creek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ropwq2" descr=""/>
          <p:cNvPicPr/>
          <p:nvPr/>
        </p:nvPicPr>
        <p:blipFill>
          <a:blip r:embed="rId1"/>
          <a:stretch/>
        </p:blipFill>
        <p:spPr>
          <a:xfrm>
            <a:off x="749160" y="0"/>
            <a:ext cx="8832960" cy="68515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9320" y="0"/>
            <a:ext cx="8902800" cy="112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Monitoring Locations on Murrieta Creek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75240" y="3035160"/>
            <a:ext cx="1231920" cy="393840"/>
          </a:xfrm>
          <a:prstGeom prst="borderCallout1">
            <a:avLst>
              <a:gd name="adj1" fmla="val 18750"/>
              <a:gd name="adj2" fmla="val -8333"/>
              <a:gd name="adj3" fmla="val 380643"/>
              <a:gd name="adj4" fmla="val -210310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632040" y="3162240"/>
            <a:ext cx="2641680" cy="1219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949560" y="3162240"/>
            <a:ext cx="2337120" cy="1650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15920" y="1701720"/>
            <a:ext cx="1575000" cy="889200"/>
          </a:xfrm>
          <a:prstGeom prst="borderCallout1">
            <a:avLst>
              <a:gd name="adj1" fmla="val 18750"/>
              <a:gd name="adj2" fmla="val -8333"/>
              <a:gd name="adj3" fmla="val 267143"/>
              <a:gd name="adj4" fmla="val 145162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DL &amp; Assimilative Capac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2793960"/>
            <a:ext cx="1231920" cy="609480"/>
          </a:xfrm>
          <a:prstGeom prst="borderCallout1">
            <a:avLst>
              <a:gd name="adj1" fmla="val 18750"/>
              <a:gd name="adj2" fmla="val -8333"/>
              <a:gd name="adj3" fmla="val 170833"/>
              <a:gd name="adj4" fmla="val 159791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DES &amp; TM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83360" y="5041800"/>
            <a:ext cx="2387520" cy="660600"/>
          </a:xfrm>
          <a:prstGeom prst="borderCallout1">
            <a:avLst>
              <a:gd name="adj1" fmla="val 18750"/>
              <a:gd name="adj2" fmla="val -8333"/>
              <a:gd name="adj3" fmla="val 38462"/>
              <a:gd name="adj4" fmla="val -46277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DES, TMDL, and Sedi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ropwq3" descr=""/>
          <p:cNvPicPr/>
          <p:nvPr/>
        </p:nvPicPr>
        <p:blipFill>
          <a:blip r:embed="rId1"/>
          <a:stretch/>
        </p:blipFill>
        <p:spPr>
          <a:xfrm>
            <a:off x="685800" y="0"/>
            <a:ext cx="8829720" cy="68500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4120" y="0"/>
            <a:ext cx="8267760" cy="112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nticipated Future Urban Land Uses Drive Monitoring Locations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ropwq4" descr=""/>
          <p:cNvPicPr/>
          <p:nvPr/>
        </p:nvPicPr>
        <p:blipFill>
          <a:blip r:embed="rId1"/>
          <a:stretch/>
        </p:blipFill>
        <p:spPr>
          <a:xfrm>
            <a:off x="749160" y="15840"/>
            <a:ext cx="8820360" cy="68421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Monitoring Locations on Temecula Creek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75240" y="3035160"/>
            <a:ext cx="1231920" cy="393840"/>
          </a:xfrm>
          <a:prstGeom prst="borderCallout1">
            <a:avLst>
              <a:gd name="adj1" fmla="val 18750"/>
              <a:gd name="adj2" fmla="val -8333"/>
              <a:gd name="adj3" fmla="val 222578"/>
              <a:gd name="adj4" fmla="val -172166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994040"/>
            <a:ext cx="1701720" cy="672840"/>
          </a:xfrm>
          <a:prstGeom prst="borderCallout1">
            <a:avLst>
              <a:gd name="adj1" fmla="val 18750"/>
              <a:gd name="adj2" fmla="val -8333"/>
              <a:gd name="adj3" fmla="val 150944"/>
              <a:gd name="adj4" fmla="val -102240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DL and Habit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ropwq5" descr=""/>
          <p:cNvPicPr/>
          <p:nvPr/>
        </p:nvPicPr>
        <p:blipFill>
          <a:blip r:embed="rId1"/>
          <a:stretch/>
        </p:blipFill>
        <p:spPr>
          <a:xfrm>
            <a:off x="628560" y="0"/>
            <a:ext cx="8915400" cy="69166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267760" cy="112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ojected Urban Growth by SANDAG Drives Monitoring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Future Needs in The Watershed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Future Activities to Address Challenges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82400" y="2247480"/>
            <a:ext cx="828684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95640" indent="-39564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 a Comprehensive Plan through partnership of USBR &amp; SMR Group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9564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Congressional fu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9564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 local con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ture tasks are neede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9564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e the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9564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stage for rationale TMDL pro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9564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k water quality to water supply and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The Challenges 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8240" y="336600"/>
            <a:ext cx="8267760" cy="112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 Comprehensive Monitoring Plan is the Next Step to Address the Challenges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82400" y="1695240"/>
            <a:ext cx="828684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95640" indent="-39564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of database design for all water quality sampling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pare a standard GIS format for the SMR Watershed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ze water quality data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a screening level model to identify key water quality area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a Stormwater BMP Pilot Program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pare standard Sampling and Analysis 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640" indent="-39564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ordinate with SDRWQCB for approv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640"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ilot Testing BMPs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1400" y="1701360"/>
            <a:ext cx="4392720" cy="4845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279f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ntify water quality benefits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ss technical feasibility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Costs,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 and maintenance requiremen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portunities and constraints relativ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ting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tru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934320" y="1066680"/>
            <a:ext cx="2584440" cy="1936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2475000" cy="18558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924680" y="3124080"/>
            <a:ext cx="2055960" cy="27403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257800" y="457200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4120" y="209520"/>
            <a:ext cx="8267760" cy="112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Other Tasks to Address Goals Using Monitoring Program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333080"/>
            <a:ext cx="95058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87720" indent="-38772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scientific development of TMDL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720" indent="-38772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imate assimilative capacity of the SMR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720" indent="-38772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relationship between habitat health &amp; water quality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720" indent="-38772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relationship between water supply rights &amp; water quality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720" indent="-38772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water recycling water quality issues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720" indent="-38772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beneficial use impairments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720" indent="-38772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regulatory compliance using integrated data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720" indent="-38772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implementing Phase II stormwater regul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720" indent="-38772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new data to existing sediment transport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1120" y="29952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There are water resources challenges to agencies &amp; individuals in the watershed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82400" y="1739880"/>
            <a:ext cx="8286840" cy="464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83760" indent="-38376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ed reaches do not meet water quality standards (CWA 303(d) List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760" indent="-38376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d Total Maximum Daily Load process will allocate loads or load reductions among sour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760" indent="-38376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milative capacity of the system is an issue to all dischar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760" indent="-38376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bitat health especially for listed spec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760" indent="-38376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er rights and water management have water quality link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760" indent="-383760">
              <a:lnSpc>
                <a:spcPts val="2500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going &amp; anticipated growth in the watershed has relationship to all the abo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ig21" descr=""/>
          <p:cNvPicPr/>
          <p:nvPr/>
        </p:nvPicPr>
        <p:blipFill>
          <a:blip r:embed="rId1"/>
          <a:stretch/>
        </p:blipFill>
        <p:spPr>
          <a:xfrm>
            <a:off x="927000" y="1066680"/>
            <a:ext cx="8190000" cy="579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582480" y="1065240"/>
          <a:ext cx="8931240" cy="1641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2480" y="1065240"/>
                    <a:ext cx="893124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593640" y="0"/>
            <a:ext cx="8267760" cy="112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1998 CA 303(d) Listed Sites in Santa Margarita Waters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6183360"/>
            <a:ext cx="681120" cy="377640"/>
          </a:xfrm>
          <a:prstGeom prst="leftArrow">
            <a:avLst>
              <a:gd name="adj1" fmla="val 42019"/>
              <a:gd name="adj2" fmla="val 4119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3344400">
            <a:off x="3735720" y="4723560"/>
            <a:ext cx="681120" cy="378000"/>
          </a:xfrm>
          <a:prstGeom prst="leftArrow">
            <a:avLst>
              <a:gd name="adj1" fmla="val 42019"/>
              <a:gd name="adj2" fmla="val 4116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Total Maximum Daily Load 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9000" y="2247480"/>
            <a:ext cx="864900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87720" indent="-38772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 of individual wasteload allocations for point  sources, load allocations for non-point sources, and natural background  pollutants, plus a margin of safe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720" indent="-38772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be expressed in terms of mass loads or other appropriate meas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720" indent="-38772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MDLs are usually based on readily available information and studi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720" indent="-38772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nta Margarita Lagoon TMDL has potential to impact all upstream point sources and non-point sourc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8267760" cy="11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Beneficial Uses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82400" y="1809360"/>
            <a:ext cx="828684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neficial use designations could significantly impact organizations in the watersh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9996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WR: Groundwater rechar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9996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-1: Contact water recre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9996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D: Cold freshwater habit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99960">
              <a:lnSpc>
                <a:spcPts val="2999"/>
              </a:lnSpc>
              <a:spcAft>
                <a:spcPts val="499"/>
              </a:spcAft>
              <a:buClr>
                <a:srgbClr val="eccf1f"/>
              </a:buClr>
              <a:buFont typeface="B Helvetica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RE: Rare, threatened or endangered spec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the beneficial use designations justified &amp; documented by monitorin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Clr>
                <a:srgbClr val="eccf1f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itoring required for an accurate design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ts val="2999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6720" y="247680"/>
            <a:ext cx="9042480" cy="112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Will a “Cold” designation ultimately require temperature control activities in the river?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1335240"/>
            <a:ext cx="831708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15T12:48:52Z</dcterms:created>
  <dc:creator>GRAPHICS</dc:creator>
  <dc:description/>
  <dc:language>en-US</dc:language>
  <cp:lastModifiedBy>Larry Carlson</cp:lastModifiedBy>
  <cp:lastPrinted>2000-10-31T19:28:16Z</cp:lastPrinted>
  <dcterms:modified xsi:type="dcterms:W3CDTF">2001-05-15T22:49:22Z</dcterms:modified>
  <cp:revision>92</cp:revision>
  <dc:subject/>
  <dc:title>SPIN TEMPLATE</dc:title>
</cp:coreProperties>
</file>